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F86-A51C-40A7-8FD2-83938FB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3D1-D666-44A1-8802-DF68C848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13A-8A3A-4BCA-A575-F549499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451-75BE-4212-8A55-502CEA73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11AD-7B02-4371-86B3-6566243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06359-BD09-48AD-9A87-B14C6FD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394E6-AD51-4DC5-92C2-B755975B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022C-AED8-430F-A282-892AA03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AF50-FD54-4C9F-BE85-54A08C64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BD6F-03DA-4E66-BF31-96C61C32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4318-BBF7-4932-B592-F329DAA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624-2781-466B-931D-2C9CD2DD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0CB8A-004A-422C-B671-999F3CA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2CAE3-F5B9-4D54-8CCB-D0754AC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C3668-05A5-4F89-92B3-A15D4AA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E3B60-5D58-4D1B-A15D-E48F5DF8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7B9C-3361-481D-84A7-5DDB396B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8E9-F968-4EF5-883A-97AB8240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EBA-4284-48CF-A5F7-E0F8F91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6D8-1634-4715-86CF-46BA35E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DDD-50F5-4235-89D3-AA4CEB0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2C5-BB2A-463C-8C05-B9C0A02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08C-EC46-40FD-BAC4-F02E05A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BCE-7F72-4445-82BA-7FAAAF7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C246-AE5E-4C34-876B-C2D73ACA0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FCD-3B53-4FC8-9072-B4AE43350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Read Alone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specially the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 believe what ever is in store for us will be for 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37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Your mission, if you accept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70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send this on in 3 hours after reading the letter to 10 other people besides me  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do this, you will receive unbelievably good luck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NOTE*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people that you send this t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tter luck you will have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MILE, even through your tears!!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 Poem is true, unfortunate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ake sure you read the Po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Case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11200" y="2133360"/>
            <a:ext cx="6400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elly Sedey had one wish,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 her boyfriend of three years,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vid Marsden, to propose to her.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n one day when she was 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lunch David proposed!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e accepted, but then had to leav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ecause she had a meeting in 20 min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he got to her office, ! 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noticed on her computer she had some e-mail'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checked it, the usual stuf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her friends, but then she saw o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she had never gotten befor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was this poem. She simply deleted 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out even reading all of it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G MISTAKE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 that evenin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received a phone call from the Poli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was about DAVID! He had been in an accid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n 18 wheeler. He didn't surviv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Case Tw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201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Katie Robinson She received this poe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being the believer that she wa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sent it to a few of her friends bu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dn't have enough e-mail addresses to send out the full 5 that you mus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days later, Katie went to a masquerade b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 that night when she left to get to her ca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was killed in that spot by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t-and-run drunk driv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Case Th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38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hard S. Willis sent this poem ou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in 45 minutes of reading i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even 4 hours later walking along the stre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his new job interview with a really big compan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he ran into Cynthia Bell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secret love for 5 years. Cynthia came up to hi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old him of her passionate crush on hi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she had had for 2 year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days later, he proposed to her and they got married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nthia and Richard are still marri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three children, happy as ev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This is the Po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76360" y="1988640"/>
            <a:ext cx="6400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nd the corner I have a frien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great city that has no en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t the days go by and weeks rush 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before I know it, a year is go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never see my old friends fac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life is a swift and terrible rac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ows I like him just as well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in the days when I rang his be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he rang mine but we were younger the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now we are busy, tired m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054080"/>
            <a:ext cx="1800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Tahoma"/>
              </a:rPr>
              <a:t>Continue…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705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red of playing a foolish gam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red of trying to make a na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Tomorrow' I say! 'I will call on Ji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 to show that I'm thinking of him.'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tomorrow comes and tomorrow go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distance between us grows and grow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nd the corner, yet miles awa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Here's a telegram sir,' 'Jim died today.'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hat's what we get and deserve in the en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nd the corner, a vanished frien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194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ffff"/>
                </a:solidFill>
                <a:latin typeface="Tahoma"/>
              </a:rPr>
              <a:t>Continue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727236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member to always say what you mea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love someone, tell the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't be afraid to express yoursel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ch out and tell someone what they mean to yo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when you decide that it is the right time it might be too la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ize the day. Never have regre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most importantly, stay close to your friend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family, for they have help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you the person that you are today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2:02:15Z</dcterms:created>
  <dc:creator>New Zealand Immigration Service</dc:creator>
  <dc:description/>
  <dc:language>en-US</dc:language>
  <cp:lastModifiedBy>New Zealand Immigration Service</cp:lastModifiedBy>
  <dcterms:modified xsi:type="dcterms:W3CDTF">2007-06-15T02:45:41Z</dcterms:modified>
  <cp:revision>4</cp:revision>
  <dc:subject/>
  <dc:title>Read Alone…..</dc:title>
</cp:coreProperties>
</file>