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3.jpeg" ContentType="image/jpeg"/>
  <Override PartName="/ppt/media/Ria1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B4A-1277-4227-B2B0-148797B6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E89-7E50-4054-BA21-1BE0A74A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E1C-84AD-4423-A174-63A3FEBF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EB8-AC84-42E1-914A-A843E957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46A-C98F-4233-86D6-EEDA6E2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885-7293-490A-A071-F1B3CBC1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658-5FAE-4D0E-A65B-1B2C8516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F49-D690-4464-A123-4F718842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7CC-067E-4731-93B6-7995A58B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D16-6D60-4EA3-9902-98D3DA3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0CC-81F8-4A28-98C5-EB1D5546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A28-60A8-44F8-9222-0BA93E2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56E2-63D8-4715-8282-C13420CD20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a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8764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4680" y="5251320"/>
            <a:ext cx="559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MI-A 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BĂTUT  LA UŞ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PRIMĂVARA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2"/>
    <p:sndAc>
      <p:stSnd>
        <p:snd r:embed="rId2" name="Ria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720" y="905400"/>
            <a:ext cx="573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"Pri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ra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ş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face propria declar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 de tar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de c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 g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inarul pare 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fie doar un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intre multele ei instru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nu compozitorul.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3497760"/>
            <a:ext cx="45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ne poate 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zist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timentului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bucuri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e fericire de care 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 anim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unci 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d participi la ren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ea naturii?"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73480" y="-144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efer 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am mai degrab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trandafiri pe ma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 diamante la g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.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9640" y="5803920"/>
            <a:ext cx="76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"Oric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 de b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 neputincio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 am f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totdeauna vom a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pta cu ne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dare prim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ra.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41360" y="257400"/>
            <a:ext cx="510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"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d timpul este preg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it pent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umite eveni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cestea apar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 diferite locu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ub forma violetelor care 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lumi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p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enirea pri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erii.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8760" y="3571920"/>
            <a:ext cx="35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Und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floresc flor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xist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spera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.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5732640"/>
            <a:ext cx="453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"Pri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ra nu ar fi pri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tecul p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elelor.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14560" y="1772280"/>
            <a:ext cx="639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Ă DORESC O PRIMĂVAR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ENINĂ ŞI PLINĂ DE BUCURII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2720" y="5515200"/>
            <a:ext cx="33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ncepţie şi reali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oina Ciob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9840" y="5857920"/>
            <a:ext cx="427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"Or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 de lung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este iar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i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ra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va urma sigur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5400" y="5668920"/>
            <a:ext cx="571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"Prim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vara este atunci c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im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 c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ai chef s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flui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hiar dac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ai un pantof plin de noroi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90200" y="-1800"/>
            <a:ext cx="51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"Iubesc pri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ra oriun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ar da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putea ale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pina-o mereu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 g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2120" y="1055520"/>
            <a:ext cx="3976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"Vara est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 capul me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ar eterna pri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 inima mea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27640" y="508248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"Prim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ste prima dat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cunoscut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lante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 apoi de oameni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06200" y="-2880"/>
            <a:ext cx="453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"Da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ar fi 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-mi t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es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o dat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vi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cepe pri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ra devr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 p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ziu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 toam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d frunzele cad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6960" y="4948200"/>
            <a:ext cx="48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"Florile sunt cel mai dulce luc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e care l-a creat Dumneze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ar a uitat 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le dea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 suflet.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2960" y="4291200"/>
            <a:ext cx="430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"Prim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ra este o reflex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 g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nii sufletului nostru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9:34:48Z</dcterms:created>
  <dc:creator>Doina Ciobanu</dc:creator>
  <dc:description/>
  <dc:language>en-US</dc:language>
  <cp:lastModifiedBy>Doina</cp:lastModifiedBy>
  <dcterms:modified xsi:type="dcterms:W3CDTF">2007-03-02T09:40:20Z</dcterms:modified>
  <cp:revision>76</cp:revision>
  <dc:subject/>
  <dc:title>Mi-a bătut la uşă primăvara...</dc:title>
</cp:coreProperties>
</file>