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Cort%C3%A1zar%20-%20Autumn%20rose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rt&#225;zar%20-%20Autumn%20ro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2652840"/>
            <a:ext cx="91440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003536"/>
                </a:solidFill>
                <a:latin typeface="Mistral"/>
              </a:rPr>
              <a:t>Jorge Luis Borges</a:t>
            </a:r>
            <a:endParaRPr b="0" lang="en-US" sz="125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307188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Book Antiqua"/>
              </a:rPr>
              <a:t>Poema a los Amigos</a:t>
            </a:r>
            <a:endParaRPr b="0" lang="en-US" sz="36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578628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Book Antiqua"/>
              </a:rPr>
              <a:t>Hacer click para avanzar</a:t>
            </a:r>
            <a:endParaRPr b="0" lang="en-US" sz="14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  <p:sndAc>
      <p:stSnd>
        <p:snd r:embed="rId1" name="Cort%C3%A1zar%20-%20Autumn%20r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jarosdos"/>
          <p:cNvPicPr/>
          <p:nvPr/>
        </p:nvPicPr>
        <p:blipFill>
          <a:blip r:embed="rId1"/>
          <a:srcRect l="0" t="0" r="806" b="0"/>
          <a:stretch/>
        </p:blipFill>
        <p:spPr>
          <a:xfrm>
            <a:off x="284040" y="785880"/>
            <a:ext cx="8572680" cy="532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000160" y="1173240"/>
            <a:ext cx="43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n estos días pensé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n mis amigos y amigas,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estabas arriba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    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i abajo ni en medi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6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407rupertbchele"/>
          <p:cNvPicPr/>
          <p:nvPr/>
        </p:nvPicPr>
        <p:blipFill>
          <a:blip r:embed="rId1"/>
          <a:stretch/>
        </p:blipFill>
        <p:spPr>
          <a:xfrm>
            <a:off x="28404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738360" y="3927600"/>
            <a:ext cx="261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encabezaba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i concluías la lista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eras el número un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i el número final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rcRect l="3283" t="2992" r="2968" b="2554"/>
          <a:stretch/>
        </p:blipFill>
        <p:spPr>
          <a:xfrm>
            <a:off x="428760" y="264960"/>
            <a:ext cx="4857480" cy="6289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5357880" y="1285920"/>
            <a:ext cx="3643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Dormir  feliz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manar vibraciones de amor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Saber que estamos aquí  de pas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Mejorar las relacion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6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golondrinas"/>
          <p:cNvPicPr/>
          <p:nvPr/>
        </p:nvPicPr>
        <p:blipFill>
          <a:blip r:embed="rId1"/>
          <a:stretch/>
        </p:blipFill>
        <p:spPr>
          <a:xfrm>
            <a:off x="357120" y="357120"/>
            <a:ext cx="5950080" cy="6120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6357960" y="265572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provechar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las oportunidad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scuchar al corazón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creditar la vida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6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0" descr="C:\Mis documentos\Mis imágenes\Picaflor.jpg"/>
          <p:cNvPicPr/>
          <p:nvPr/>
        </p:nvPicPr>
        <p:blipFill>
          <a:blip r:embed="rId1"/>
          <a:stretch/>
        </p:blipFill>
        <p:spPr>
          <a:xfrm>
            <a:off x="3357720" y="157320"/>
            <a:ext cx="5475240" cy="6486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1"/>
          <p:cNvSpPr/>
          <p:nvPr/>
        </p:nvSpPr>
        <p:spPr>
          <a:xfrm>
            <a:off x="743040" y="2928960"/>
            <a:ext cx="247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Y tampoco teng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la pretensión  de ser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l primer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l segund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o el tercer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de tu lista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309"/>
          <p:cNvPicPr/>
          <p:nvPr/>
        </p:nvPicPr>
        <p:blipFill>
          <a:blip r:embed="rId1"/>
          <a:srcRect l="0" t="0" r="539" b="5071"/>
          <a:stretch/>
        </p:blipFill>
        <p:spPr>
          <a:xfrm>
            <a:off x="284040" y="365040"/>
            <a:ext cx="8572680" cy="6135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5600" y="1144080"/>
            <a:ext cx="37573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Book Antiqua"/>
              </a:rPr>
              <a:t>Basta que me quieras como amigo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Book Antiqua"/>
              </a:rPr>
              <a:t>Gracias por se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386400" y="5430960"/>
            <a:ext cx="21146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Mistral"/>
              </a:rPr>
              <a:t>J. L. Borges</a:t>
            </a:r>
            <a:endParaRPr b="0" lang="en-US" sz="2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309"/>
          <p:cNvPicPr/>
          <p:nvPr/>
        </p:nvPicPr>
        <p:blipFill>
          <a:blip r:embed="rId1"/>
          <a:srcRect l="0" t="0" r="539" b="5071"/>
          <a:stretch/>
        </p:blipFill>
        <p:spPr>
          <a:xfrm>
            <a:off x="284040" y="365040"/>
            <a:ext cx="8572680" cy="6135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558180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400" spc="-1" strike="noStrike">
                <a:solidFill>
                  <a:srgbClr val="ffcccc"/>
                </a:solidFill>
                <a:latin typeface="Book Antiqua"/>
              </a:rPr>
              <a:t>Música: </a:t>
            </a:r>
            <a:r>
              <a:rPr b="0" i="1" lang="es-ES_tradnl" sz="1400" spc="-1" strike="noStrike">
                <a:solidFill>
                  <a:srgbClr val="ffcccc"/>
                </a:solidFill>
                <a:latin typeface="Book Antiqua"/>
              </a:rPr>
              <a:t>Autumn Rose</a:t>
            </a:r>
            <a:r>
              <a:rPr b="0" lang="es-ES_tradnl" sz="1400" spc="-1" strike="noStrike">
                <a:solidFill>
                  <a:srgbClr val="ffcccc"/>
                </a:solidFill>
                <a:latin typeface="Book Antiqua"/>
              </a:rPr>
              <a:t>, Ernesto Cortá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321480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600" spc="-1" strike="noStrike">
                <a:solidFill>
                  <a:srgbClr val="ffcccc"/>
                </a:solidFill>
                <a:latin typeface="Book Antiqua"/>
              </a:rPr>
              <a:t>F  I  N</a:t>
            </a:r>
            <a:endParaRPr b="0" lang="en-US" sz="36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5867280"/>
            <a:ext cx="9144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Concepto y creación original de autor anónimo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Reedición de formato cortesía de Carlos Rangel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Santiago de Querétaro, Mex. Abr.2008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 advTm="15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85840" y="468360"/>
            <a:ext cx="8572320" cy="6032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28760" y="571680"/>
            <a:ext cx="46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puedo darte solucion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ara todos los problemas de la vida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i tengo respuesta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ara tus dudas o temores,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ero puedo escucharte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y compartirlo contigo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ájaros_juntos"/>
          <p:cNvPicPr/>
          <p:nvPr/>
        </p:nvPicPr>
        <p:blipFill>
          <a:blip r:embed="rId1"/>
          <a:stretch/>
        </p:blipFill>
        <p:spPr>
          <a:xfrm>
            <a:off x="284040" y="878040"/>
            <a:ext cx="8572680" cy="5194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00040" y="1071720"/>
            <a:ext cx="2882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puedo cambiar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tu pasado ni tu futuro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ero cuando me necesit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staré junto a ti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84040" y="857160"/>
            <a:ext cx="8572680" cy="513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80920" y="985680"/>
            <a:ext cx="39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puedo evitar que tropiec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Solamente puedo ofrecerte mi man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ara que te sujetes y no caigas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404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500040" y="1357200"/>
            <a:ext cx="3252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Tus alegría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tus triunfos y tus éxito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son míos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ero disfruto sinceramente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cuando te veo feliz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404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286240" y="369720"/>
            <a:ext cx="3214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juzgo las decision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que tomes en la vida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me limito a apoyarte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 estimularte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y a ayudarte si me lo pid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284040" y="642960"/>
            <a:ext cx="8572680" cy="570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53040" y="1285920"/>
            <a:ext cx="327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No puedo trazarte límites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dentro de los cuales debes actuar,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Pero sí te ofrezco ese espacio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necesario para crecer.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84040" y="600120"/>
            <a:ext cx="8572680" cy="5710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00040" y="3500280"/>
            <a:ext cx="36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o puedo evitar tu sufrimient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cuando alguna pena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e parta el corazón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ro puedo llorar contig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y recoger los pedazo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ara armarlo de nuev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84040" y="476280"/>
            <a:ext cx="8572680" cy="5881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557280" y="500040"/>
            <a:ext cx="322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 puedo decirte quien er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i quien deberías ser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Solamente pued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marte como er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y ser tu amig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os Rangel</dc:creator>
  <dc:description/>
  <dc:language>en-US</dc:language>
  <cp:lastModifiedBy>Carlos Rangel</cp:lastModifiedBy>
  <dcterms:modified xsi:type="dcterms:W3CDTF">2008-05-02T20:53:45Z</dcterms:modified>
  <cp:revision>16</cp:revision>
  <dc:subject/>
  <dc:title>Presentación de PowerPoint</dc:title>
</cp:coreProperties>
</file>