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Black%20-%20Wonderful%20Life.wav" ContentType="audio/x-wav"/>
  <Override PartName="/ppt/media/image3.gif" ContentType="image/gi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263E4-85BA-49B0-83A1-682A95C0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71F1-88CA-44C8-98DE-3F1E5879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6EDF-3C0C-4F71-9F1A-D7F1C148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9D413-815D-4FB5-96B1-EC7B02F3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ADE1-A139-4FBF-A1E1-B9B095CA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68A1-58DD-4B0F-9DDD-CDD804D4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DC1F-9F2D-49C6-8784-8DC8BE02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ECD6-0869-4E60-94CB-3394B36F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84E6-9640-4B11-8DCD-A55CEE17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9EAC-6826-4E8C-BD14-298DBB3B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500C-32E4-4906-ADBE-39A72BAA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5819-7CBA-4261-B024-6A5DEA55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D726-3F15-4B95-AE6F-8263897B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670F-11C6-429B-B140-6CBE296A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BF52-E25B-4837-A572-795077FE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A63E-F8F8-4CEB-A779-291D2242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DE39-6558-4E80-904E-A37B92CD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D8F6-3A46-4E23-BA64-63A08099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24C16-CD22-4D94-BFD2-CFF9C8E7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A0F3-0840-482C-A1A3-44DAA289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2F0B-A341-4F52-A239-2453B7DC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FFCF8-7F24-4AE8-9A1A-390D99DA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50DF-A1BE-4E39-86CB-55279F9D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C9A6-E8DB-4AB2-9AE2-5715C7C5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CA30-4BC9-42E4-8234-4D3C6068C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98F4-129E-4A61-9F43-2F0911EE5B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audio" Target="../media/Black%20-%20Wonderful%20Lif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Imagen" descr="THE_DANCE_OF_LOVE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2 Rectángulo" descr=""/>
          <p:cNvPicPr/>
          <p:nvPr/>
        </p:nvPicPr>
        <p:blipFill>
          <a:blip r:embed="rId2"/>
          <a:stretch/>
        </p:blipFill>
        <p:spPr>
          <a:xfrm>
            <a:off x="2730600" y="3608280"/>
            <a:ext cx="6181560" cy="110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12682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8000"/>
                </a:solidFill>
                <a:latin typeface="Aardvark Cafe"/>
              </a:rPr>
              <a:t>Escucha esta bonita canción, mientras contemplas las pinturas y lees los mensajes</a:t>
            </a:r>
            <a:r>
              <a:rPr b="0" i="1" lang="es-ES" sz="4000" spc="-1" strike="noStrike">
                <a:solidFill>
                  <a:srgbClr val="0099cc"/>
                </a:solidFill>
                <a:latin typeface="Aardvark Cafe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427640" y="5877000"/>
            <a:ext cx="1150920" cy="7189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 thruBlk="true"/>
    <p:sndAc>
      <p:stSnd>
        <p:snd r:embed="rId4" name="Black%20-%20Wonderful%20Lif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2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 Imagen" descr="Afremov_MOON_LIGHT_Original_Ar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2 Rectángulo"/>
          <p:cNvSpPr/>
          <p:nvPr/>
        </p:nvSpPr>
        <p:spPr>
          <a:xfrm>
            <a:off x="3276720" y="5373720"/>
            <a:ext cx="49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transmitiré alivio, cuando vea dolor</a:t>
            </a:r>
            <a:r>
              <a:rPr b="1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1 Imagen" descr="Afremov_AMSTERDAM_FOG_Original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2 Rectángulo"/>
          <p:cNvSpPr/>
          <p:nvPr/>
        </p:nvSpPr>
        <p:spPr>
          <a:xfrm>
            <a:off x="2286000" y="4581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regalaré motivos de alegría donde solo haya tristeza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1 Imagen" descr="Afremov_FIRST_DATE_Original_Ar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2 Rectángulo"/>
          <p:cNvSpPr/>
          <p:nvPr/>
        </p:nvSpPr>
        <p:spPr>
          <a:xfrm>
            <a:off x="755640" y="493704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Invitaré a caminar al que decidió quedarse</a:t>
            </a:r>
            <a:r>
              <a:rPr b="1" i="1" lang="en-US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1 Imagen" descr="UNDER_THE_RAIN_OF_LOVE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2 Rectángulo"/>
          <p:cNvSpPr/>
          <p:nvPr/>
        </p:nvSpPr>
        <p:spPr>
          <a:xfrm>
            <a:off x="2286000" y="443700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levantaré los brazos, a los que se han rendido.</a:t>
            </a:r>
            <a:r>
              <a:rPr b="1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1 Imagen" descr="AUTUMN_PARK____Leonid_Afremov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2 Rectángulo"/>
          <p:cNvSpPr/>
          <p:nvPr/>
        </p:nvSpPr>
        <p:spPr>
          <a:xfrm>
            <a:off x="2286000" y="3141720"/>
            <a:ext cx="664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Porque en medio de la desolación, siempre habrá un niño que nos mirará, esperanzado, esperando algo de nosotros, y aún en medio de una tormenta, por algún lado saldrá el sol y en medio del desierto crecerá una plant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3000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1 Imagen" descr="TWO_SISTERS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3 Rectángulo"/>
          <p:cNvSpPr/>
          <p:nvPr/>
        </p:nvSpPr>
        <p:spPr>
          <a:xfrm>
            <a:off x="3500280" y="4076640"/>
            <a:ext cx="52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Siempre habrá un pájaro que nos cante, un niño que nos sonría y una mariposa que nos brinde su bellez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 Imagen" descr="TOGETHER_IN_THE_STORM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2 Rectángulo"/>
          <p:cNvSpPr/>
          <p:nvPr/>
        </p:nvSpPr>
        <p:spPr>
          <a:xfrm>
            <a:off x="0" y="0"/>
            <a:ext cx="37083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Pero...si algún día ves que ya no sigo, no sonrío o callo, solo acércate y dame un beso, un abrazo o regálame una sonrisa, con eso será suficiente, seguramente me habrá pasado que la vida me abofeteó y me sorprendió por un segund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5000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2 Imagen" descr="TEMPTER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3 Rectángulo"/>
          <p:cNvSpPr/>
          <p:nvPr/>
        </p:nvSpPr>
        <p:spPr>
          <a:xfrm>
            <a:off x="214200" y="3429000"/>
            <a:ext cx="5214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Solo un gesto tuyo hará que vuelva a mi camino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Nunca lo olvides.......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26920" y="630864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ff00"/>
                </a:solidFill>
                <a:latin typeface="Aardvark Cafe"/>
              </a:rPr>
              <a:t>EL BESO MAS DIFICIL NO ES EL PRIMERO, SINO EL ULTIMO.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4360" y="623736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ff00"/>
                </a:solidFill>
                <a:latin typeface="Aardvark Cafe"/>
              </a:rPr>
              <a:t>DISFRUTA HOY, ES MAS TARDE DE LO QUE CREES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 Imagen" descr="Afremov_AFTER_WORK_Original_Ar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2 Rectángulo"/>
          <p:cNvSpPr/>
          <p:nvPr/>
        </p:nvSpPr>
        <p:spPr>
          <a:xfrm>
            <a:off x="1835280" y="4724280"/>
            <a:ext cx="5786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creyendo ,aún cuando la gente pierda la esperanz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616572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ff00"/>
                </a:solidFill>
                <a:latin typeface="Aardvark Cafe"/>
              </a:rPr>
              <a:t>LOS IMPOSIBLES DE HOY, SERAN POSIBLES MAÑANA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558972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cc00"/>
                </a:solidFill>
                <a:latin typeface="Aardvark Cafe"/>
              </a:rPr>
              <a:t>LA SONRISA ES EL IDIOMA UNIVERSAL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cc00"/>
                </a:solidFill>
                <a:latin typeface="Aardvark Cafe"/>
              </a:rPr>
              <a:t>DE LA GENTE INTELIGENTE</a:t>
            </a:r>
            <a:r>
              <a:rPr b="0" i="1" lang="es-ES_tradnl" sz="1800" spc="-1" strike="noStrike">
                <a:solidFill>
                  <a:srgbClr val="ffcc00"/>
                </a:solidFill>
                <a:latin typeface="Aardvark Caf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603576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ardvark Cafe"/>
              </a:rPr>
              <a:t>SIGUE, SIGUE...YA LLEGARAS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ardvark Cafe"/>
              </a:rPr>
              <a:t>NO DUDES...LO LOGRARAS...</a:t>
            </a:r>
            <a:r>
              <a:rPr b="0" lang="es-ES_tradnl" sz="2400" spc="-1" strike="noStrike">
                <a:solidFill>
                  <a:srgbClr val="ffcc00"/>
                </a:solidFill>
                <a:latin typeface="Aardvark Caf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22688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87280" y="623736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ff00"/>
                </a:solidFill>
                <a:latin typeface="Aardvark Cafe"/>
              </a:rPr>
              <a:t>UNO ES LO QUE ES POR LA SUMA DE LO QUE HA VIVIDO</a:t>
            </a:r>
            <a:r>
              <a:rPr b="0" i="1" lang="es-ES_tradnl" sz="1800" spc="-1" strike="noStrike">
                <a:solidFill>
                  <a:srgbClr val="ffffff"/>
                </a:solidFill>
                <a:latin typeface="Aardvark Caf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2036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58920" y="6237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ff00"/>
                </a:solidFill>
                <a:latin typeface="Aardvark Cafe"/>
              </a:rPr>
              <a:t>LOS IMPOSIBLES DE HOY, SERAN POSIBLES MAÑANA</a:t>
            </a:r>
            <a:r>
              <a:rPr b="0" i="1" lang="es-ES_tradnl" sz="1800" spc="-1" strike="noStrike">
                <a:solidFill>
                  <a:srgbClr val="00ff00"/>
                </a:solidFill>
                <a:latin typeface="Aardvark Caf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92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42920" y="6237360"/>
            <a:ext cx="79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ff00"/>
                </a:solidFill>
                <a:latin typeface="Aardvark Cafe"/>
              </a:rPr>
              <a:t>LA SONRISA ES LA FORMA MAS SENCILLA DE GRATITUD.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3 Marcador de contenido" descr="SONGS_OF_LOVE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4 Rectángulo"/>
          <p:cNvSpPr/>
          <p:nvPr/>
        </p:nvSpPr>
        <p:spPr>
          <a:xfrm>
            <a:off x="1835280" y="3108240"/>
            <a:ext cx="5867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8000"/>
                </a:solidFill>
                <a:latin typeface="Aardvark Cafe"/>
              </a:rPr>
              <a:t>Este archivo era mío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8000"/>
                </a:solidFill>
                <a:latin typeface="Aardvark Cafe"/>
              </a:rPr>
              <a:t>Si lo tienes ahora tú, es porque pensé que debías tenerlo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6 CuadroTexto"/>
          <p:cNvSpPr/>
          <p:nvPr/>
        </p:nvSpPr>
        <p:spPr>
          <a:xfrm>
            <a:off x="1820160" y="333360"/>
            <a:ext cx="55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ardvark Cafe"/>
              </a:rPr>
              <a:t>Pinturas de: </a:t>
            </a:r>
            <a:r>
              <a:rPr b="1" lang="en-US" sz="2800" spc="-1" strike="noStrike">
                <a:solidFill>
                  <a:srgbClr val="00ff00"/>
                </a:solidFill>
                <a:latin typeface="Aardvark Cafe"/>
              </a:rPr>
              <a:t>LEONID AFREMO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4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Imagen" descr="Afremov_WALK_HOME_Original_Art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3 Rectángulo"/>
          <p:cNvSpPr/>
          <p:nvPr/>
        </p:nvSpPr>
        <p:spPr>
          <a:xfrm>
            <a:off x="1619280" y="432756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dando amor, aunque otros siembren odio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 Imagen" descr="Afremov_DOWNTOWN_Original_Art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2 Rectángulo"/>
          <p:cNvSpPr/>
          <p:nvPr/>
        </p:nvSpPr>
        <p:spPr>
          <a:xfrm>
            <a:off x="0" y="4327560"/>
            <a:ext cx="500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construyendo, aún cuando otros destruyan.</a:t>
            </a:r>
            <a:r>
              <a:rPr b="1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 Imagen" descr="TODAY___Leonid_Afremov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2 Rectángulo"/>
          <p:cNvSpPr/>
          <p:nvPr/>
        </p:nvSpPr>
        <p:spPr>
          <a:xfrm>
            <a:off x="2268360" y="432756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hablando de Paz, aún en medio de una guerra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1 Imagen" descr="30_____Afremov_STREET_OF_HOPE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2 Rectángulo"/>
          <p:cNvSpPr/>
          <p:nvPr/>
        </p:nvSpPr>
        <p:spPr>
          <a:xfrm>
            <a:off x="2286000" y="4149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Voy a seguir iluminando, aún en medio de la oscuridad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 Imagen" descr="Afremov_FALL_DREAM_Original_Ar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3 Rectángulo"/>
          <p:cNvSpPr/>
          <p:nvPr/>
        </p:nvSpPr>
        <p:spPr>
          <a:xfrm>
            <a:off x="2286000" y="429264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seguiré sembrando, aunque otros pisen la cosecha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1 Imagen" descr="f82d00a88bfa632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2 Rectángulo"/>
          <p:cNvSpPr/>
          <p:nvPr/>
        </p:nvSpPr>
        <p:spPr>
          <a:xfrm>
            <a:off x="4500720" y="4724280"/>
            <a:ext cx="464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seguiré gritando, aún cuando otros callen.</a:t>
            </a:r>
            <a:r>
              <a:rPr b="1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 Imagen" descr="Afremov_EVENING_STROLL_Origina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2 Rectángulo"/>
          <p:cNvSpPr/>
          <p:nvPr/>
        </p:nvSpPr>
        <p:spPr>
          <a:xfrm>
            <a:off x="1785960" y="4653000"/>
            <a:ext cx="464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dibujaré sonrisas, en rostros con lágrimas</a:t>
            </a:r>
            <a:r>
              <a:rPr b="1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5:15:27Z</dcterms:created>
  <dc:creator>Cervera</dc:creator>
  <dc:description/>
  <dc:language>en-US</dc:language>
  <cp:lastModifiedBy>Cervera</cp:lastModifiedBy>
  <dcterms:modified xsi:type="dcterms:W3CDTF">2009-04-07T18:43:54Z</dcterms:modified>
  <cp:revision>2</cp:revision>
  <dc:subject/>
  <dc:title>Diapositiva 1</dc:title>
</cp:coreProperties>
</file>