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Ernesto%20Cortazar%20Eternity.wav" ContentType="audio/x-wav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F08-1D9E-43B1-8F77-8A2E78D5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A58-F4C4-4C24-9940-FD32E9D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C39-D2A7-43BD-8DC7-4A6BD6CF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AC2-8AAD-4275-997F-4AE58738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174-7B0B-4F0E-B836-C304FE0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9F8-5CCC-4AC5-8C7F-B4F9895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D32-9B84-4860-8130-F8E533C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FAB-DD61-4D3D-9F0F-D66BAAC3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EBD-C693-44DD-B162-35796EC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1F9-D616-42C6-9322-D1D58A1C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45D-225B-4BE2-B562-053EEE9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026-6691-4C1F-B063-F716826A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0D7-1A1F-47A2-904B-4C846B49D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Ernesto%20Cortazar%20Eternity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quot;Zeitarbeit&quot; de Walter Niegoth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19640" y="4221000"/>
            <a:ext cx="2187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 te rindas...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5013360"/>
            <a:ext cx="19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rio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nedetti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Calle Los Suspiros de Luiz Cavalcante"/>
          <p:cNvPicPr/>
          <p:nvPr/>
        </p:nvPicPr>
        <p:blipFill>
          <a:blip r:embed="rId1"/>
          <a:stretch/>
        </p:blipFill>
        <p:spPr>
          <a:xfrm>
            <a:off x="0" y="0"/>
            <a:ext cx="9252000" cy="694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00" y="551664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yo te quiero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120" y="4941720"/>
            <a:ext cx="32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estás sola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Empedrado de malandraca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9960" y="1555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Imágenes de fon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Colonia, 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4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Presenta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J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00" y="304560"/>
            <a:ext cx="281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Autor: Mario Benedett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ensayista, poeta y escritor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(Uruguay, 1920-2009)</a:t>
            </a:r>
            <a:r>
              <a:rPr b="1" i="1" lang="en-U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ome sweet home de Luiz Cavalcante"/>
          <p:cNvPicPr/>
          <p:nvPr/>
        </p:nvPicPr>
        <p:blipFill>
          <a:blip r:embed="rId1"/>
          <a:stretch/>
        </p:blipFill>
        <p:spPr>
          <a:xfrm>
            <a:off x="-252360" y="-171360"/>
            <a:ext cx="9575640" cy="714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1040" y="148428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ceptar tus sombr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terrar tus mied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liberar el lastr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el v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aún estás a tiempo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 alcanzar y comenzar de nuev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0000" y="1268280"/>
            <a:ext cx="41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 que la vida es e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Windows 2000 de Rolf Gerber"/>
          <p:cNvPicPr/>
          <p:nvPr/>
        </p:nvPicPr>
        <p:blipFill>
          <a:blip r:embed="rId1"/>
          <a:stretch/>
        </p:blipFill>
        <p:spPr>
          <a:xfrm>
            <a:off x="-612720" y="-243000"/>
            <a:ext cx="11306160" cy="724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36200" y="3141720"/>
            <a:ext cx="335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que la vida es e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continuar el viaje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perseguir tus sueños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destrabar el tiempo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correr los escombro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y destapar el cie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Colonia... de Jürgen Atmanspacher"/>
          <p:cNvPicPr/>
          <p:nvPr/>
        </p:nvPicPr>
        <p:blipFill>
          <a:blip r:embed="rId1"/>
          <a:stretch/>
        </p:blipFill>
        <p:spPr>
          <a:xfrm>
            <a:off x="-181080" y="0"/>
            <a:ext cx="9609120" cy="7097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411280" y="422100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escon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se calle el vie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Colonia in silence de Maripa Silv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41960" y="549360"/>
            <a:ext cx="3002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Porque la vida es tu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y tuyo también el dese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porque lo has 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y porque te qu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existe el v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el amor, es ciert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hay heridas que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ure el tiemp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Colonia del Sacramento de Cecilie Schlueb 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86360" y="4107600"/>
            <a:ext cx="433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rir las puert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itar los cerroj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andonar las mura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e te protegieron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vivir la vida y aceptar el ret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Colonia 2 de Walter Niegoth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81680" y="5013360"/>
            <a:ext cx="31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splegar las ala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 intentar de nuev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elebrar la vid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los ci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8680" y="3357720"/>
            <a:ext cx="316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cuperar la ris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sayar el ca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bajar la guardi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xtender las manos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olônia del Sacramento de Otaz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25760" y="4757040"/>
            <a:ext cx="631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ponga y se calle el vient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Gasse in Colonia (Uruguay) de Nicole Poltsch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75480" y="486576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cada día es un comienzo nuevo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ésta es la hora y el mejor momento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3:01:03Z</dcterms:created>
  <dc:creator>.Alicia Castellote</dc:creator>
  <dc:description/>
  <dc:language>en-US</dc:language>
  <cp:lastModifiedBy>Grupo Televisa</cp:lastModifiedBy>
  <dcterms:modified xsi:type="dcterms:W3CDTF">2009-05-21T23:41:52Z</dcterms:modified>
  <cp:revision>14</cp:revision>
  <dc:subject/>
  <dc:title>Diapositiva 1</dc:title>
</cp:coreProperties>
</file>