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FDF-81C9-48F2-A3DD-784CD9FC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1BC-9084-4BDE-800E-0399E811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392-4852-4981-B48C-18A74E5C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286-3240-432E-8D23-557E1504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331-4944-4993-9FB9-08538B80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8C4-E8B0-4BF5-ADA0-5468C708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33F-81AF-437C-AEEA-D06C7149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77A-393A-4D10-B986-361F7CB6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66C-A054-4B17-84D1-56BA270D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48A-D308-4A83-ABAC-EC59B2EF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80E-4159-4F87-B023-424439A2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018-C4F8-4809-97FC-A88683E3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20EB-62EA-47D5-B390-166AD91116B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40200" y="21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64000" y="6453360"/>
            <a:ext cx="71640" cy="7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356000" y="3933720"/>
            <a:ext cx="478800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empus Sans ITC"/>
              </a:rPr>
              <a:t>Quizás su vestimenta decía lo que su alma quería reflej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83080" y="174600"/>
            <a:ext cx="4660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me quitas el éxito, déjame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zas para aprender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fracaso.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yo ofendiera a la gente,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e valor para disculparme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i la gente me ofende,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e valor para perd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38160" y="620640"/>
            <a:ext cx="640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Señor...si yo me olvido de tí,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nca te olvides de mí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53006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empus Sans ITC"/>
              </a:rPr>
              <a:t>Mahatma Gandh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No importa que ideología o posición política ten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...todos coincidimos en al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2781360"/>
            <a:ext cx="41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Queremos Paz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4341600" cy="547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759120" y="27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799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836640"/>
            <a:ext cx="8137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00c90"/>
                </a:solidFill>
                <a:latin typeface="Lucida Handwriting"/>
              </a:rPr>
              <a:t>Lo que se siembra se recoge, lo que enviamos... reg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900c90"/>
                </a:solidFill>
                <a:latin typeface="Lucida Handwriting"/>
              </a:rPr>
              <a:t>Manda esta presentación a todos aquellos que consideres tus amigos. Envíala y </a:t>
            </a:r>
            <a:r>
              <a:rPr b="0" lang="es-ES_tradnl" sz="3200" spc="-1" strike="noStrike">
                <a:solidFill>
                  <a:srgbClr val="900c90"/>
                </a:solidFill>
                <a:latin typeface="Lucida Handwriting"/>
              </a:rPr>
              <a:t>haz reflexionar</a:t>
            </a:r>
            <a:r>
              <a:rPr b="0" lang="es-ES" sz="3200" spc="-1" strike="noStrike">
                <a:solidFill>
                  <a:srgbClr val="900c90"/>
                </a:solidFill>
                <a:latin typeface="Lucida Handwriting"/>
              </a:rPr>
              <a:t> a alguien a quien apre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900c90"/>
                </a:solidFill>
                <a:latin typeface="Lucida Handwriting"/>
              </a:rPr>
              <a:t>Lo que puede ocurrir, si decides enviarl</a:t>
            </a:r>
            <a:r>
              <a:rPr b="0" lang="es-ES_tradnl" sz="3200" spc="-1" strike="noStrike">
                <a:solidFill>
                  <a:srgbClr val="900c90"/>
                </a:solidFill>
                <a:latin typeface="Lucida Handwriting"/>
              </a:rPr>
              <a:t>a</a:t>
            </a:r>
            <a:r>
              <a:rPr b="0" lang="es-ES" sz="3200" spc="-1" strike="noStrike">
                <a:solidFill>
                  <a:srgbClr val="900c90"/>
                </a:solidFill>
                <a:latin typeface="Lucida Handwriting"/>
              </a:rPr>
              <a:t>, es que una persona se sienta “tocad</a:t>
            </a:r>
            <a:r>
              <a:rPr b="0" lang="es-ES_tradnl" sz="3200" spc="-1" strike="noStrike">
                <a:solidFill>
                  <a:srgbClr val="900c90"/>
                </a:solidFill>
                <a:latin typeface="Lucida Handwriting"/>
              </a:rPr>
              <a:t>a</a:t>
            </a:r>
            <a:r>
              <a:rPr b="0" lang="es-ES" sz="3200" spc="-1" strike="noStrike">
                <a:solidFill>
                  <a:srgbClr val="900c90"/>
                </a:solidFill>
                <a:latin typeface="Lucida Handwriting"/>
              </a:rPr>
              <a:t>” gracias a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34920" y="620280"/>
            <a:ext cx="507708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ffffff"/>
                </a:solidFill>
                <a:latin typeface="Bradley Hand ITC"/>
              </a:rPr>
              <a:t>FELIZ VIDA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50920" y="4508640"/>
            <a:ext cx="514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la gran riqueza de los pobr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64000" y="549360"/>
            <a:ext cx="3446640" cy="467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u esfuerzo fue apoyado por muc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43657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Al punto de lograr un triunfo por la vía de la pa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hatma Gandhi…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…aprendamos a orar como él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2120" y="4019400"/>
            <a:ext cx="816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..Ayúdame a decir la verdad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lante de los fuertes y a no decir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ntiras para ganarme el aplau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los débi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360" y="685800"/>
            <a:ext cx="282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Señor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280" y="365040"/>
            <a:ext cx="813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me das fortuna, no me quites la razón.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me das éxito, no me quites la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ilda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7560" y="4365720"/>
            <a:ext cx="744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me das humildad, no me quites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gnida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02760" y="785880"/>
            <a:ext cx="643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údame siempre a ver la otra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 de la medalla,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e dejes inculpar de traición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demás por no pensar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ual que y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1916280"/>
            <a:ext cx="5616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éñame a querer a la gente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a mí mismo.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e dejes caer en el orgullo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triunfo, ni en la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speración si fracas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4120" y="631512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838080"/>
            <a:ext cx="842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ás bien recuérdame que el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caso es la experiencia que precede al triunfo.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éñame que perdonar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signo de grande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la venganza es una señal de bajeza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9:55:40Z</dcterms:created>
  <dc:creator>Familia Urbina</dc:creator>
  <dc:description/>
  <dc:language>en-US</dc:language>
  <cp:lastModifiedBy>Lilia Flores</cp:lastModifiedBy>
  <dcterms:modified xsi:type="dcterms:W3CDTF">2007-03-29T04:21:51Z</dcterms:modified>
  <cp:revision>17</cp:revision>
  <dc:subject/>
  <dc:title>Quizás su vestimenta decía lo que su alma quería reflejar</dc:title>
</cp:coreProperties>
</file>