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23.jpeg" ContentType="image/jpeg"/>
  <Override PartName="/ppt/media/image71.jpeg" ContentType="image/jpeg"/>
  <Override PartName="/ppt/media/image44.jpeg" ContentType="image/jpeg"/>
  <Override PartName="/ppt/media/image33.jpeg" ContentType="image/jpeg"/>
  <Override PartName="/ppt/media/image27.png" ContentType="image/png"/>
  <Override PartName="/ppt/media/image32.jpeg" ContentType="image/jpeg"/>
  <Override PartName="/ppt/media/image70.jpeg" ContentType="image/jpeg"/>
  <Override PartName="/ppt/media/image43.jpeg" ContentType="image/jpeg"/>
  <Override PartName="/ppt/media/image69.jpeg" ContentType="image/jpeg"/>
  <Override PartName="/ppt/media/image24.png" ContentType="image/png"/>
  <Override PartName="/ppt/media/image68.jpeg" ContentType="image/jpe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3.png" ContentType="image/png"/>
  <Override PartName="/ppt/media/image63.png" ContentType="image/png"/>
  <Override PartName="/ppt/media/image61.jpeg" ContentType="image/jpeg"/>
  <Override PartName="/ppt/media/image4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72.jpeg" ContentType="image/jpeg"/>
  <Override PartName="/ppt/media/image2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6.jpeg" ContentType="image/jpeg"/>
  <Override PartName="/ppt/media/image57.png" ContentType="image/png"/>
  <Override PartName="/ppt/media/image3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927-FE17-4879-B5BF-F6B07D6D2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4A0-F4F4-4935-BC80-00C4BE5EE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4A9-10FD-45E6-8C0E-EA4EF9B52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6E3-D3C2-497B-8BE1-2BA061C4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46F-39F5-4226-B780-57D64CD2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071-7839-4CAB-B324-6A43860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14C-DB7C-4BCB-9719-14B32D3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AEE-623A-4704-AA14-E9EF2B90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B0D0-A95C-40A1-81B0-96CF261C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27D-02DE-4048-BA50-45C0C93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D82A-6A89-4B7B-A51A-C87460B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7DC-FCC0-4229-8E3C-9AB5040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F19-5BB5-43BC-B105-60CB60F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D6A-7F24-403E-890A-0570CFB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BA34-243F-467A-B684-E2E5901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213-EB05-4BBF-9A63-060C688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F61B-DCE8-4265-996D-CC21F88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CA2-6864-4C79-9E4E-2E702F9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017-8C31-4155-B1A3-4A2D6B7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CEAD-5B52-4692-AEAB-EB47575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27D7-51A4-4C39-8181-D445FA46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C7169-1D4A-4944-81E6-62FA13D0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504BB-AD4D-4C70-8291-F3093B2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801C6-8BE6-45C5-A216-E92B97DC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D916C-9976-4314-A856-E31B9F4F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4E0C6-E859-4F93-960B-475A5E1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75A-75C6-4C2B-90F0-16A596F6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73AB0-7DF3-4EDB-A831-CFE8361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1C07E-E9EE-41A5-9CB0-0BEB7F2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583F9-9200-4543-BDF0-FBC447E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05F34-63E7-4D63-A84B-924B1F3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C6827-0A4F-4BB7-A65A-316BCA7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B8833-A11C-44FE-8890-F0422CB8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48F06-8160-49DB-8F46-159A3B71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3E775-0BAB-4EE5-9555-801E71A6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AEEF6-27B1-401F-BD3E-99F39214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1498A-E453-4468-94F4-58B442C3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A09-D171-4F15-941E-71B03CCE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C10C0-48DD-4DA4-93DF-ACF1FF52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F99B1-14D1-4459-863A-479D4C7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A7393-7688-4928-926D-F0D65B5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3F529-1D59-4DC7-A8A6-5C1C45D9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9E080-0A11-4A4D-A402-2054F0D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6040E-7B4C-4794-A2D9-DB296C5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D17AB-DC26-422E-906E-7B69E07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5C605-5488-43B6-B380-1327574E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F4C53-9E1A-4A5F-95A5-16C5DA9E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EEF9F-4A76-406B-A19F-290B7AC8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45D-3C2C-4F6B-A551-3DDAE80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FD741-B231-47EE-9E5E-C2465F4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DDC92-C261-474C-A3CA-D7CF69A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6B64C-B64D-4274-91B9-6F27EC0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CCE0A-F00C-428C-93F2-F95ECBB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FA55B-C687-417A-9308-93E4944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CD713-62B6-4C8A-87D6-8B91448D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4EE85-C3A8-43E5-ADAE-D24F6F5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72658-58DD-4BCE-88E2-A966E65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47177-39DE-42B7-BD1B-009948E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FC9D1-3F13-4321-A739-8F9E191D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2B6-B82C-4973-9C83-88F0EEDC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DBAE3-5DDB-4DD7-A23D-AF7BBD8C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D519-E3AA-4EDD-B69A-AA5C5C37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FD3E2-6DEC-437C-BE0F-C9E12D60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97609-8F04-4A3B-8A24-A6DBCA7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880E-BAD6-4639-B9E3-49749CD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B2DB8-11E7-4A48-9F90-4919C87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3E31-0A6D-4B2C-8AAD-DD9C2CF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069E-FCC7-400E-857C-83A81D1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5F76-6AE1-44E0-802E-DEE0632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AAB3-B747-4504-AAB6-DBD6051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B0E-C6D1-42C2-8662-AD1C91A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A7C4-D158-4989-AAF1-E0ABD54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8C8C1-0603-40ED-B58E-BC8B07F5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70F5-6593-4669-B7FD-23FC8FB4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479E3-103A-4CE7-8529-79D26649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966D2-25CA-4E0C-B639-A63979F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3B5AA-9112-4C41-AB2E-5E497F2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F757F-9ED2-46C8-9713-5AF5DC29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7D74F-3F2C-4819-AD92-B5825871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70100-C1B5-405D-91C2-0E95BB3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48856-FA35-43F7-BC9F-B15BAF5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9B1-FF66-419A-ACC4-A291E2B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8E186-10C7-48F7-9CE5-497F55D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E806A-34D4-4DDD-8B0C-27369B0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D673A-5C24-4937-88B0-FF0464A9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BE81D-7730-4B99-877C-9EB2CC15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C2F6B-9638-48D1-8256-07AFA9F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F937-B8B4-4874-B835-EA78E82D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37F3-FB6A-4111-968E-51F60CDD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01AB2-9DAB-4F48-B227-38C0EB1C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DA03A-AE96-4DB3-9EB6-55A3364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E1F40-FF1D-42D5-BEE9-9DFA4A3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7DA-975F-4134-BC5D-EB7DFFF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C342-8802-45EF-9F45-9A6EE5E4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9FEA-5E7B-4C9A-82E6-B29D17A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79EB-4DE2-4D33-B874-89BB1A49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2F2A-9C5A-4FDA-974E-E0D790E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5DFB-9A98-4013-B975-00845DAA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11353-89EA-4F6C-963F-0EC5FF3D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F8BE-8082-433C-9B6C-C5C8CD9B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D7E7-94E1-4972-8EF2-759668D7926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0F4D-9454-4AFB-8CF4-D311CF1C3CB5}" type="slidenum">
              <a:rPr b="1" lang="en-US" sz="1400" spc="-1" strike="noStrike">
                <a:solidFill>
                  <a:srgbClr val="04617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A6D-DAC1-4E3E-AC8E-EF938822393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E5F-ABED-4F33-9AB1-6E3C1092C35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5B0-6750-4553-B2BF-DCB58ACBF99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D8C-633A-498C-9289-E512E7454A8D}" type="slidenum">
              <a:rPr b="1" lang="en-US" sz="1400" spc="-1" strike="noStrike">
                <a:solidFill>
                  <a:srgbClr val="04617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D1E-9DB1-4728-A894-E6ABE0BBDC1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809B-6B98-492B-A124-4B5737A2946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Bethoven - Sonata Claro de Luna.mp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Title 6" descr=""/>
          <p:cNvPicPr/>
          <p:nvPr/>
        </p:nvPicPr>
        <p:blipFill>
          <a:blip r:embed="rId2"/>
          <a:stretch/>
        </p:blipFill>
        <p:spPr>
          <a:xfrm>
            <a:off x="-6480" y="-311040"/>
            <a:ext cx="9193320" cy="2755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onf1.jpg"/>
          <p:cNvPicPr/>
          <p:nvPr/>
        </p:nvPicPr>
        <p:blipFill>
          <a:blip r:embed="rId3"/>
          <a:stretch/>
        </p:blipFill>
        <p:spPr>
          <a:xfrm>
            <a:off x="2286000" y="23623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4" descr="mistlabel.jpg"/>
          <p:cNvPicPr/>
          <p:nvPr/>
        </p:nvPicPr>
        <p:blipFill>
          <a:blip r:embed="rId1"/>
          <a:stretch/>
        </p:blipFill>
        <p:spPr>
          <a:xfrm>
            <a:off x="228600" y="228600"/>
            <a:ext cx="5703840" cy="5638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5"/>
          <p:cNvSpPr/>
          <p:nvPr/>
        </p:nvSpPr>
        <p:spPr>
          <a:xfrm>
            <a:off x="6248520" y="0"/>
            <a:ext cx="26668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70c0"/>
                </a:solidFill>
                <a:latin typeface="Arial Narrow"/>
              </a:rPr>
              <a:t>Este otro ambientador, indica que:</a:t>
            </a:r>
            <a:r>
              <a:rPr b="1" lang="es-EC" sz="2400" spc="-1" strike="noStrike">
                <a:solidFill>
                  <a:srgbClr val="0070c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s-EC" sz="2400" spc="-1" strike="noStrike">
                <a:solidFill>
                  <a:srgbClr val="ff0000"/>
                </a:solidFill>
                <a:latin typeface="Arial"/>
                <a:ea typeface="Arial"/>
              </a:rPr>
              <a:t>Si lo inhala, salga al aire fresco. Use ventilación adecuada cuando utilice este product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11"/>
          <p:cNvCxnSpPr/>
          <p:nvPr/>
        </p:nvCxnSpPr>
        <p:spPr>
          <a:xfrm flipH="1">
            <a:off x="5333400" y="2895480"/>
            <a:ext cx="1448280" cy="915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08" name="Picture 6" descr="headache_full.jpg"/>
          <p:cNvPicPr/>
          <p:nvPr/>
        </p:nvPicPr>
        <p:blipFill>
          <a:blip r:embed="rId2"/>
          <a:stretch/>
        </p:blipFill>
        <p:spPr>
          <a:xfrm>
            <a:off x="6172200" y="4038480"/>
            <a:ext cx="2743200" cy="182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10" descr="img2FebrezeComp2.jpg"/>
          <p:cNvPicPr/>
          <p:nvPr/>
        </p:nvPicPr>
        <p:blipFill>
          <a:blip r:embed="rId1"/>
          <a:stretch/>
        </p:blipFill>
        <p:spPr>
          <a:xfrm>
            <a:off x="0" y="228600"/>
            <a:ext cx="3124080" cy="3809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readthelabel.jpg"/>
          <p:cNvPicPr/>
          <p:nvPr/>
        </p:nvPicPr>
        <p:blipFill>
          <a:blip r:embed="rId2"/>
          <a:stretch/>
        </p:blipFill>
        <p:spPr>
          <a:xfrm>
            <a:off x="6553080" y="228600"/>
            <a:ext cx="2590920" cy="3809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health_aerosol.jpg"/>
          <p:cNvPicPr/>
          <p:nvPr/>
        </p:nvPicPr>
        <p:blipFill>
          <a:blip r:embed="rId3"/>
          <a:stretch/>
        </p:blipFill>
        <p:spPr>
          <a:xfrm>
            <a:off x="3124080" y="22860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0" y="41986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Adem</a:t>
            </a:r>
            <a:r>
              <a:rPr b="0" lang="es-EC" sz="2800" spc="-1" strike="noStrike">
                <a:solidFill>
                  <a:srgbClr val="0070c0"/>
                </a:solidFill>
                <a:latin typeface="Calibri"/>
                <a:ea typeface="Calibri"/>
              </a:rPr>
              <a:t>á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s, si la gran mayor</a:t>
            </a:r>
            <a:r>
              <a:rPr b="0" lang="es-EC" sz="2800" spc="-1" strike="noStrike">
                <a:solidFill>
                  <a:srgbClr val="0070c0"/>
                </a:solidFill>
                <a:latin typeface="Calibri"/>
                <a:ea typeface="Calibri"/>
              </a:rPr>
              <a:t>í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a de estos aerosoles han </a:t>
            </a:r>
            <a:r>
              <a:rPr b="1" lang="es-EC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PERFORADO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 la </a:t>
            </a:r>
            <a:r>
              <a:rPr b="1" lang="es-EC" sz="2800" spc="-1" strike="noStrike">
                <a:solidFill>
                  <a:srgbClr val="92d050"/>
                </a:solidFill>
                <a:latin typeface="Arial Narrow"/>
                <a:ea typeface="Calibri"/>
              </a:rPr>
              <a:t>Capa de Ozono 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por varios a</a:t>
            </a:r>
            <a:r>
              <a:rPr b="0" lang="es-EC" sz="2800" spc="-1" strike="noStrike">
                <a:solidFill>
                  <a:srgbClr val="0070c0"/>
                </a:solidFill>
                <a:latin typeface="Calibri"/>
                <a:ea typeface="Calibri"/>
              </a:rPr>
              <a:t>ñ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os, que piensa usted que </a:t>
            </a:r>
            <a:r>
              <a:rPr b="0" lang="es-EC" sz="2800" spc="-1" strike="noStrike">
                <a:solidFill>
                  <a:srgbClr val="0070c0"/>
                </a:solidFill>
                <a:latin typeface="Calibri"/>
                <a:ea typeface="Calibri"/>
              </a:rPr>
              <a:t>é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stos son capaces de hacer con </a:t>
            </a:r>
            <a:r>
              <a:rPr b="1" lang="es-EC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SUS</a:t>
            </a:r>
            <a:r>
              <a:rPr b="0" lang="es-EC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s-EC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PULMONES</a:t>
            </a:r>
            <a:r>
              <a:rPr b="0" lang="es-EC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0" lang="es-EC" sz="2800" spc="-1" strike="noStrike">
                <a:solidFill>
                  <a:srgbClr val="0070c0"/>
                </a:solidFill>
                <a:latin typeface="Arial Narrow"/>
                <a:ea typeface="Calibri"/>
              </a:rPr>
              <a:t>cuando respira ese conteni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4" descr="dangerous-home-products-11.jpg"/>
          <p:cNvPicPr/>
          <p:nvPr/>
        </p:nvPicPr>
        <p:blipFill>
          <a:blip r:embed="rId1"/>
          <a:stretch/>
        </p:blipFill>
        <p:spPr>
          <a:xfrm>
            <a:off x="7010280" y="3657600"/>
            <a:ext cx="2133720" cy="2247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10" descr="Hand_Cream.jpg"/>
          <p:cNvPicPr/>
          <p:nvPr/>
        </p:nvPicPr>
        <p:blipFill>
          <a:blip r:embed="rId2"/>
          <a:stretch/>
        </p:blipFill>
        <p:spPr>
          <a:xfrm>
            <a:off x="7010280" y="13716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cosmetics.jpg"/>
          <p:cNvPicPr/>
          <p:nvPr/>
        </p:nvPicPr>
        <p:blipFill>
          <a:blip r:embed="rId3"/>
          <a:stretch/>
        </p:blipFill>
        <p:spPr>
          <a:xfrm>
            <a:off x="0" y="13716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5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Y las cremas del cuidado de la piel y </a:t>
            </a:r>
            <a:r>
              <a:rPr b="1" lang="es-EC" sz="3600" spc="-1" strike="noStrike">
                <a:solidFill>
                  <a:srgbClr val="0070c0"/>
                </a:solidFill>
                <a:latin typeface="Arial Black"/>
              </a:rPr>
              <a:t>Cosméticos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3657600" y="1219320"/>
            <a:ext cx="3276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70c0"/>
                </a:solidFill>
                <a:latin typeface="Arial Narrow"/>
              </a:rPr>
              <a:t>La gran </a:t>
            </a:r>
            <a:r>
              <a:rPr b="1" lang="es-EC" sz="3200" spc="-1" strike="noStrike">
                <a:solidFill>
                  <a:srgbClr val="ff0000"/>
                </a:solidFill>
                <a:latin typeface="Arial Narrow"/>
              </a:rPr>
              <a:t>mayoría</a:t>
            </a:r>
            <a:r>
              <a:rPr b="1" lang="es-EC" sz="3200" spc="-1" strike="noStrike">
                <a:solidFill>
                  <a:srgbClr val="0070c0"/>
                </a:solidFill>
                <a:latin typeface="Arial Narrow"/>
              </a:rPr>
              <a:t> contiene ingredientes como </a:t>
            </a:r>
            <a:r>
              <a:rPr b="0" lang="es-EC" sz="2800" spc="-1" strike="noStrike">
                <a:solidFill>
                  <a:srgbClr val="ff0000"/>
                </a:solidFill>
                <a:latin typeface="Arial Black"/>
              </a:rPr>
              <a:t>PETROLE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ff0000"/>
                </a:solidFill>
                <a:latin typeface="Arial Black"/>
              </a:rPr>
              <a:t>GRASAS de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spugbrap_8525_v3_737-800.jpg"/>
          <p:cNvPicPr/>
          <p:nvPr/>
        </p:nvPicPr>
        <p:blipFill>
          <a:blip r:embed="rId1"/>
          <a:srcRect l="0" t="34888" r="5425" b="0"/>
          <a:stretch/>
        </p:blipFill>
        <p:spPr>
          <a:xfrm>
            <a:off x="2362320" y="2514600"/>
            <a:ext cx="3984480" cy="3352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0" y="228600"/>
            <a:ext cx="6553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ESTO LE PASA A LAS PERSONAS POR…. NO LEER LAS ETIQUET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CONSUMEN SOLAMENTE POR EL COMERCIAL…O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“MARKET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MUCHOS DICEN QUE LOS COMPRAN PORQUE SON PRODUCTOS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“CONOCIDOS”, “HUELEN BIEN”, POR COSTUMBRE  </a:t>
            </a: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O PORQUE NO CONOCEN D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TRAS ALTERNATIVAS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6"/>
          <p:cNvCxnSpPr/>
          <p:nvPr/>
        </p:nvCxnSpPr>
        <p:spPr>
          <a:xfrm flipV="1">
            <a:off x="1828440" y="3962160"/>
            <a:ext cx="1677240" cy="381600"/>
          </a:xfrm>
          <a:prstGeom prst="straightConnector1">
            <a:avLst/>
          </a:prstGeom>
          <a:ln cap="sq" w="28440">
            <a:solidFill>
              <a:srgbClr val="ff0000"/>
            </a:solidFill>
            <a:bevel/>
            <a:tailEnd len="med" type="triangle" w="med"/>
          </a:ln>
        </p:spPr>
      </p:cxnSp>
      <p:sp>
        <p:nvSpPr>
          <p:cNvPr id="424" name="TextBox 11"/>
          <p:cNvSpPr/>
          <p:nvPr/>
        </p:nvSpPr>
        <p:spPr>
          <a:xfrm>
            <a:off x="152280" y="2743200"/>
            <a:ext cx="2133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C" sz="3200" spc="-1" strike="noStrike">
                <a:solidFill>
                  <a:srgbClr val="ff0000"/>
                </a:solidFill>
                <a:latin typeface="Arial Narrow"/>
              </a:rPr>
              <a:t>Clorox 2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Arial Narrow"/>
              </a:rPr>
              <a:t>no esta registrado con la Agencia de Protección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Arial Narrow"/>
              </a:rPr>
              <a:t>Medio Amb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Arial Narrow"/>
              </a:rPr>
              <a:t>(EPA) de los EE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" descr="babybrand2.jpg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6553080" y="336420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70c0"/>
                </a:solidFill>
                <a:latin typeface="Arial Black"/>
                <a:ea typeface="Calibri"/>
              </a:rPr>
              <a:t>COMPRAN POR </a:t>
            </a:r>
            <a:r>
              <a:rPr b="1" lang="es-EC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“LA CELEBRIDAD” </a:t>
            </a:r>
            <a:r>
              <a:rPr b="1" lang="es-EC" sz="1800" spc="-1" strike="noStrike">
                <a:solidFill>
                  <a:srgbClr val="0070c0"/>
                </a:solidFill>
                <a:latin typeface="Arial Black"/>
                <a:ea typeface="Calibri"/>
              </a:rPr>
              <a:t>QUE ANUNCIA EL PRODUCTO SIN </a:t>
            </a:r>
            <a:r>
              <a:rPr b="1" lang="es-EC" sz="1800" spc="-1" strike="noStrike" u="sng">
                <a:solidFill>
                  <a:srgbClr val="ff0000"/>
                </a:solidFill>
                <a:uFillTx/>
                <a:latin typeface="Arial Black"/>
                <a:ea typeface="Calibri"/>
              </a:rPr>
              <a:t>REVI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70c0"/>
                </a:solidFill>
                <a:latin typeface="Arial Black"/>
                <a:ea typeface="Calibri"/>
              </a:rPr>
              <a:t>LAS ETIQUETAS Y LOS RIESGOS QUE LE CAUSAN A SU FAM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photogallery_ways_to_protect_children_from_poisoning_04_full.jpg"/>
          <p:cNvPicPr/>
          <p:nvPr/>
        </p:nvPicPr>
        <p:blipFill>
          <a:blip r:embed="rId1"/>
          <a:stretch/>
        </p:blipFill>
        <p:spPr>
          <a:xfrm>
            <a:off x="152280" y="0"/>
            <a:ext cx="2667240" cy="2895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5" descr="Washing_Machine147-DFs.jpg"/>
          <p:cNvPicPr/>
          <p:nvPr/>
        </p:nvPicPr>
        <p:blipFill>
          <a:blip r:embed="rId2"/>
          <a:stretch/>
        </p:blipFill>
        <p:spPr>
          <a:xfrm>
            <a:off x="152280" y="2971800"/>
            <a:ext cx="2667240" cy="2971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2895480" y="-6516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En un d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í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a de limpieza </a:t>
            </a:r>
            <a:r>
              <a:rPr b="1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NORMAL</a:t>
            </a:r>
            <a:r>
              <a:rPr b="1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”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, 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usted limpia la tina del ba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ñ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o con </a:t>
            </a:r>
            <a:r>
              <a:rPr b="0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CLOROX</a:t>
            </a:r>
            <a:r>
              <a:rPr b="0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” 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, y tambi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é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n pasa un trapo con </a:t>
            </a:r>
            <a:r>
              <a:rPr b="0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WINDEX</a:t>
            </a:r>
            <a:r>
              <a:rPr b="0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”</a:t>
            </a:r>
            <a:r>
              <a:rPr b="0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en los espejos. Cuando usted junta los gases del Cloro y Amoniaco en su  hogar, Usted est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á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 formando el 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GAS MOSTAZA</a:t>
            </a:r>
            <a:r>
              <a:rPr b="0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…</a:t>
            </a:r>
            <a:r>
              <a:rPr b="0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70c0"/>
                </a:solidFill>
                <a:latin typeface="Arial Narrow"/>
                <a:ea typeface="Calibri"/>
              </a:rPr>
              <a:t>(El mismo que usaba Saddam Hussein para matar a su gente)</a:t>
            </a:r>
            <a:r>
              <a:rPr b="0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2895480" y="1933560"/>
            <a:ext cx="6248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70c0"/>
                </a:solidFill>
                <a:latin typeface="Arial Narrow"/>
                <a:ea typeface="Calibri"/>
              </a:rPr>
              <a:t>Y Luego se Pregunta:</a:t>
            </a:r>
            <a:r>
              <a:rPr b="0" lang="es-EC" sz="3200" spc="-1" strike="noStrike">
                <a:solidFill>
                  <a:srgbClr val="0070c0"/>
                </a:solidFill>
                <a:latin typeface="Arial Narrow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Por qué hoy en día hay tantos casos de 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Cáncer, Asma, Alergias, enfermedades de déficit de atención</a:t>
            </a:r>
            <a:r>
              <a:rPr b="1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 y dem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En los tiempos de sus antepasados, no existían todos estos 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QUIMICOS</a:t>
            </a:r>
            <a:r>
              <a:rPr b="1" lang="es-EC" sz="2400" spc="-1" strike="noStrike">
                <a:solidFill>
                  <a:srgbClr val="0070c0"/>
                </a:solidFill>
                <a:latin typeface="Arial Narrow"/>
                <a:ea typeface="Calibri"/>
              </a:rPr>
              <a:t>, por eso no eran tan frecuentes estas enferme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11" descr="household2_86165635_std.jpg"/>
          <p:cNvPicPr/>
          <p:nvPr/>
        </p:nvPicPr>
        <p:blipFill>
          <a:blip r:embed="rId1"/>
          <a:stretch/>
        </p:blipFill>
        <p:spPr>
          <a:xfrm>
            <a:off x="0" y="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4724280" y="27000"/>
            <a:ext cx="44197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“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Los productos químicos tóxicos ligados a los problemas de salud serios han sido conectados al mercado de los </a:t>
            </a:r>
            <a:r>
              <a:rPr b="1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PRODUCTOS DE CONSUMO DIARIO 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por m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TRES DECADAS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Centenares de productos químicos industriales han </a:t>
            </a:r>
            <a:r>
              <a:rPr b="1" lang="es-EC" sz="2400" spc="-1" strike="noStrike">
                <a:solidFill>
                  <a:srgbClr val="ff0000"/>
                </a:solidFill>
                <a:latin typeface="Calibri"/>
                <a:ea typeface="Calibri"/>
              </a:rPr>
              <a:t>CONTAMINADO</a:t>
            </a:r>
            <a:r>
              <a:rPr b="0" lang="es-EC" sz="2400" spc="-1" strike="noStrike">
                <a:solidFill>
                  <a:srgbClr val="0070c0"/>
                </a:solidFill>
                <a:latin typeface="Calibri"/>
                <a:ea typeface="Calibri"/>
              </a:rPr>
              <a:t> nuestros cuerpos, incluso los cuerpos de nuestros niños, causando daños a largo plazo cuando la salud humana está comenzando recién a ser entendida.” </a:t>
            </a:r>
            <a:r>
              <a:rPr b="0" lang="es-EC" sz="2000" spc="-1" strike="noStrike">
                <a:solidFill>
                  <a:srgbClr val="0070c0"/>
                </a:solidFill>
                <a:latin typeface="Calibri"/>
                <a:ea typeface="Calibri"/>
              </a:rPr>
              <a:t>Director Ejecutivo Richard Wiles, del Enviromental Working Group (E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22320"/>
            <a:ext cx="5334120" cy="60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“</a:t>
            </a:r>
            <a:r>
              <a:rPr b="0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Nuestra sociedad está en un punto de quiebre,” </a:t>
            </a:r>
            <a:r>
              <a:rPr b="1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Wiles</a:t>
            </a:r>
            <a:r>
              <a:rPr b="0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 agregó. “A Diario, descubrimos conexiones entre los </a:t>
            </a:r>
            <a:r>
              <a:rPr b="1" lang="es-EC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productos químicos </a:t>
            </a:r>
            <a:r>
              <a:rPr b="0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y las enfermedades y las condiciones serias, incluyendo</a:t>
            </a:r>
            <a:r>
              <a:rPr b="0" lang="es-EC" sz="23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lang="es-EC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Cáncer del Cerebro Infantil, Autismo, Déficit de Atención, Infertilidad, Desórdenes Reproductivos y Defectos de Nacimi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0070c0"/>
                </a:solidFill>
                <a:latin typeface="Arial Narrow"/>
                <a:ea typeface="Calibri"/>
              </a:rPr>
              <a:t>Pero nuestro gobierno no tiene casi ninguna autoridad para proteger a la gente contra los productos químicos más peligrosos en el mercado. El GAO (General Accountability Office) ha dado un mensaje fuerte, que esto tiene que cambiar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household.jpg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2895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photogallery_ways_to_protect_children_from_poisoning_02_full.jpg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0" name="Rectangle 3" descr=""/>
          <p:cNvPicPr/>
          <p:nvPr/>
        </p:nvPicPr>
        <p:blipFill>
          <a:blip r:embed="rId1"/>
          <a:stretch/>
        </p:blipFill>
        <p:spPr>
          <a:xfrm>
            <a:off x="-60480" y="-109440"/>
            <a:ext cx="6613560" cy="4395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photo_aerosol_tilt.jpg"/>
          <p:cNvPicPr/>
          <p:nvPr/>
        </p:nvPicPr>
        <p:blipFill>
          <a:blip r:embed="rId2"/>
          <a:stretch/>
        </p:blipFill>
        <p:spPr>
          <a:xfrm>
            <a:off x="152280" y="41911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helation-On-Autistic-Children.jpg"/>
          <p:cNvPicPr/>
          <p:nvPr/>
        </p:nvPicPr>
        <p:blipFill>
          <a:blip r:embed="rId3"/>
          <a:stretch/>
        </p:blipFill>
        <p:spPr>
          <a:xfrm>
            <a:off x="5181480" y="41911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photogallery_ways_to_protect_children_from_poisoning_09_full.jpg"/>
          <p:cNvPicPr/>
          <p:nvPr/>
        </p:nvPicPr>
        <p:blipFill>
          <a:blip r:embed="rId4"/>
          <a:stretch/>
        </p:blipFill>
        <p:spPr>
          <a:xfrm>
            <a:off x="6477120" y="152280"/>
            <a:ext cx="2514600" cy="3886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1865944.jpg"/>
          <p:cNvPicPr/>
          <p:nvPr/>
        </p:nvPicPr>
        <p:blipFill>
          <a:blip r:embed="rId5"/>
          <a:stretch/>
        </p:blipFill>
        <p:spPr>
          <a:xfrm>
            <a:off x="2819520" y="4191120"/>
            <a:ext cx="2286000" cy="1771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ECA_033.jpg"/>
          <p:cNvPicPr/>
          <p:nvPr/>
        </p:nvPicPr>
        <p:blipFill>
          <a:blip r:embed="rId6"/>
          <a:stretch/>
        </p:blipFill>
        <p:spPr>
          <a:xfrm>
            <a:off x="7162920" y="41911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Rectangle 6" descr=""/>
          <p:cNvPicPr/>
          <p:nvPr/>
        </p:nvPicPr>
        <p:blipFill>
          <a:blip r:embed="rId1"/>
          <a:stretch/>
        </p:blipFill>
        <p:spPr>
          <a:xfrm>
            <a:off x="-298440" y="42840"/>
            <a:ext cx="9899640" cy="558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9" name="Rectangle 6" descr=""/>
          <p:cNvPicPr/>
          <p:nvPr/>
        </p:nvPicPr>
        <p:blipFill>
          <a:blip r:embed="rId1"/>
          <a:stretch/>
        </p:blipFill>
        <p:spPr>
          <a:xfrm>
            <a:off x="-390600" y="-219240"/>
            <a:ext cx="10137960" cy="2846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hild-inhaler-lg.jpg"/>
          <p:cNvPicPr/>
          <p:nvPr/>
        </p:nvPicPr>
        <p:blipFill>
          <a:blip r:embed="rId2"/>
          <a:stretch/>
        </p:blipFill>
        <p:spPr>
          <a:xfrm>
            <a:off x="2286000" y="41148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hildren%202.jpg"/>
          <p:cNvPicPr/>
          <p:nvPr/>
        </p:nvPicPr>
        <p:blipFill>
          <a:blip r:embed="rId3"/>
          <a:stretch/>
        </p:blipFill>
        <p:spPr>
          <a:xfrm>
            <a:off x="152280" y="2666880"/>
            <a:ext cx="2057400" cy="3276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formaldehyde-indoor-air-pollution-sneezing-large-photo.jpg"/>
          <p:cNvPicPr/>
          <p:nvPr/>
        </p:nvPicPr>
        <p:blipFill>
          <a:blip r:embed="rId4"/>
          <a:stretch/>
        </p:blipFill>
        <p:spPr>
          <a:xfrm>
            <a:off x="2286000" y="26668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1165907.jpg"/>
          <p:cNvPicPr/>
          <p:nvPr/>
        </p:nvPicPr>
        <p:blipFill>
          <a:blip r:embed="rId5">
            <a:lum contrast="-2000"/>
          </a:blip>
          <a:stretch/>
        </p:blipFill>
        <p:spPr>
          <a:xfrm>
            <a:off x="4419720" y="2666880"/>
            <a:ext cx="2286000" cy="327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0"/>
              </a:srgbClr>
            </a:outerShdw>
          </a:effectLst>
        </p:spPr>
      </p:pic>
      <p:pic>
        <p:nvPicPr>
          <p:cNvPr id="454" name="Picture 8" descr="old person.jpg"/>
          <p:cNvPicPr/>
          <p:nvPr/>
        </p:nvPicPr>
        <p:blipFill>
          <a:blip r:embed="rId6"/>
          <a:stretch/>
        </p:blipFill>
        <p:spPr>
          <a:xfrm>
            <a:off x="6781680" y="2666880"/>
            <a:ext cx="236232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w Cen MT"/>
              </a:rPr>
              <a:t>ALGO ALARMANTE ESTA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w Cen MT"/>
              </a:rPr>
              <a:t>PASANDO ACTUALMENTE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w Cen MT"/>
              </a:rPr>
              <a:t>EN LA MAYORIA DE LOS HOGARES …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6" descr="Dead_Baby.jpg"/>
          <p:cNvPicPr/>
          <p:nvPr/>
        </p:nvPicPr>
        <p:blipFill>
          <a:blip r:embed="rId1"/>
          <a:stretch/>
        </p:blipFill>
        <p:spPr>
          <a:xfrm>
            <a:off x="0" y="152280"/>
            <a:ext cx="2666880" cy="5791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Image3.jpg"/>
          <p:cNvPicPr/>
          <p:nvPr/>
        </p:nvPicPr>
        <p:blipFill>
          <a:blip r:embed="rId2"/>
          <a:stretch/>
        </p:blipFill>
        <p:spPr>
          <a:xfrm>
            <a:off x="5388120" y="3505320"/>
            <a:ext cx="3755880" cy="2438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nino.bmp"/>
          <p:cNvPicPr/>
          <p:nvPr/>
        </p:nvPicPr>
        <p:blipFill>
          <a:blip r:embed="rId3"/>
          <a:stretch/>
        </p:blipFill>
        <p:spPr>
          <a:xfrm>
            <a:off x="2743200" y="3505320"/>
            <a:ext cx="2590920" cy="244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6" name="Rectangle 6" descr=""/>
          <p:cNvPicPr/>
          <p:nvPr/>
        </p:nvPicPr>
        <p:blipFill>
          <a:blip r:embed="rId1"/>
          <a:stretch/>
        </p:blipFill>
        <p:spPr>
          <a:xfrm>
            <a:off x="-324000" y="-201600"/>
            <a:ext cx="9779040" cy="21463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80880" y="-990720"/>
            <a:ext cx="8458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6553080" y="-12193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7" descr=""/>
          <p:cNvPicPr/>
          <p:nvPr/>
        </p:nvPicPr>
        <p:blipFill>
          <a:blip r:embed="rId2"/>
          <a:stretch/>
        </p:blipFill>
        <p:spPr>
          <a:xfrm>
            <a:off x="-85680" y="1785960"/>
            <a:ext cx="9236160" cy="6297480"/>
          </a:xfrm>
          <a:prstGeom prst="rect">
            <a:avLst/>
          </a:prstGeom>
          <a:ln w="0">
            <a:noFill/>
          </a:ln>
        </p:spPr>
      </p:pic>
      <p:pic>
        <p:nvPicPr>
          <p:cNvPr id="460" name="Rectangle 8" descr=""/>
          <p:cNvPicPr/>
          <p:nvPr/>
        </p:nvPicPr>
        <p:blipFill>
          <a:blip r:embed="rId3"/>
          <a:stretch/>
        </p:blipFill>
        <p:spPr>
          <a:xfrm>
            <a:off x="-6480" y="2120760"/>
            <a:ext cx="9156960" cy="321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2" name="Rectangle 6" descr=""/>
          <p:cNvPicPr/>
          <p:nvPr/>
        </p:nvPicPr>
        <p:blipFill>
          <a:blip r:embed="rId1"/>
          <a:stretch/>
        </p:blipFill>
        <p:spPr>
          <a:xfrm>
            <a:off x="-85680" y="-182520"/>
            <a:ext cx="9388440" cy="25290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380880" y="-990720"/>
            <a:ext cx="8458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6553080" y="-12193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Rectangle 7" descr=""/>
          <p:cNvPicPr/>
          <p:nvPr/>
        </p:nvPicPr>
        <p:blipFill>
          <a:blip r:embed="rId2"/>
          <a:stretch/>
        </p:blipFill>
        <p:spPr>
          <a:xfrm>
            <a:off x="1060560" y="1749600"/>
            <a:ext cx="7327800" cy="2193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Kid_Safe.jpg"/>
          <p:cNvPicPr/>
          <p:nvPr/>
        </p:nvPicPr>
        <p:blipFill>
          <a:blip r:embed="rId3"/>
          <a:stretch/>
        </p:blipFill>
        <p:spPr>
          <a:xfrm>
            <a:off x="7543800" y="24382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hild_Lead.jpg"/>
          <p:cNvPicPr/>
          <p:nvPr/>
        </p:nvPicPr>
        <p:blipFill>
          <a:blip r:embed="rId4"/>
          <a:stretch/>
        </p:blipFill>
        <p:spPr>
          <a:xfrm>
            <a:off x="5562720" y="2438280"/>
            <a:ext cx="1976400" cy="1447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sleepingbaby.jpg"/>
          <p:cNvPicPr/>
          <p:nvPr/>
        </p:nvPicPr>
        <p:blipFill>
          <a:blip r:embed="rId5"/>
          <a:stretch/>
        </p:blipFill>
        <p:spPr>
          <a:xfrm>
            <a:off x="1600200" y="2438280"/>
            <a:ext cx="2286000" cy="1447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2"/>
          <p:cNvSpPr/>
          <p:nvPr/>
        </p:nvSpPr>
        <p:spPr>
          <a:xfrm>
            <a:off x="0" y="3962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hora que YA sabes, si no tomas acción; en tus manos está la v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 tus seres quer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3" descr="12_06_08_small.jpg"/>
          <p:cNvPicPr/>
          <p:nvPr/>
        </p:nvPicPr>
        <p:blipFill>
          <a:blip r:embed="rId6"/>
          <a:stretch/>
        </p:blipFill>
        <p:spPr>
          <a:xfrm>
            <a:off x="0" y="24382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4" descr="grandpaHappy.jpg"/>
          <p:cNvPicPr/>
          <p:nvPr/>
        </p:nvPicPr>
        <p:blipFill>
          <a:blip r:embed="rId7"/>
          <a:stretch/>
        </p:blipFill>
        <p:spPr>
          <a:xfrm>
            <a:off x="3809880" y="2438280"/>
            <a:ext cx="175284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ALTERNATIVA DIFERENTE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-152280"/>
            <a:ext cx="914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-990720"/>
            <a:ext cx="8458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6553080" y="-12193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Rectangle 7" descr=""/>
          <p:cNvPicPr/>
          <p:nvPr/>
        </p:nvPicPr>
        <p:blipFill>
          <a:blip r:embed="rId1"/>
          <a:stretch/>
        </p:blipFill>
        <p:spPr>
          <a:xfrm>
            <a:off x="1060560" y="1749600"/>
            <a:ext cx="7327800" cy="21938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2"/>
          <p:cNvSpPr/>
          <p:nvPr/>
        </p:nvSpPr>
        <p:spPr>
          <a:xfrm>
            <a:off x="0" y="3962520"/>
            <a:ext cx="914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4"/>
          <p:cNvSpPr/>
          <p:nvPr/>
        </p:nvSpPr>
        <p:spPr>
          <a:xfrm>
            <a:off x="0" y="0"/>
            <a:ext cx="9144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70c0"/>
                </a:solidFill>
                <a:latin typeface="Arial"/>
              </a:rPr>
              <a:t>Pida </a:t>
            </a:r>
            <a:r>
              <a:rPr b="1" lang="es-EC" sz="2800" spc="-1" strike="noStrike">
                <a:solidFill>
                  <a:srgbClr val="ff6600"/>
                </a:solidFill>
                <a:latin typeface="Arial"/>
              </a:rPr>
              <a:t>GRATIS</a:t>
            </a:r>
            <a:r>
              <a:rPr b="1" lang="es-EC" sz="2800" spc="-1" strike="noStrike">
                <a:solidFill>
                  <a:srgbClr val="0070c0"/>
                </a:solidFill>
                <a:latin typeface="Arial"/>
              </a:rPr>
              <a:t> una lista de productos tóxicos cancerígenos que se encuentran en el mercado a: </a:t>
            </a:r>
            <a:r>
              <a:rPr b="1" lang="es-EC" sz="4800" spc="-1" strike="noStrike">
                <a:solidFill>
                  <a:srgbClr val="55a839"/>
                </a:solidFill>
                <a:latin typeface="Arial"/>
              </a:rPr>
              <a:t>maldonadogame@gmail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 u="sng">
                <a:solidFill>
                  <a:srgbClr val="0070c0"/>
                </a:solidFill>
                <a:uFillTx/>
                <a:latin typeface="Arial"/>
              </a:rPr>
              <a:t>Haga una diferencia en su vida y en la vida de much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70c0"/>
                </a:solidFill>
                <a:latin typeface="Arial"/>
              </a:rPr>
              <a:t>Tenemos más información </a:t>
            </a:r>
            <a:r>
              <a:rPr b="1" lang="es-EC" sz="2800" spc="-1" strike="noStrike">
                <a:solidFill>
                  <a:srgbClr val="ff6600"/>
                </a:solidFill>
                <a:latin typeface="Arial"/>
              </a:rPr>
              <a:t>GRATUITA</a:t>
            </a:r>
            <a:r>
              <a:rPr b="1" lang="es-EC" sz="2800" spc="-1" strike="noStrike">
                <a:solidFill>
                  <a:srgbClr val="0070c0"/>
                </a:solidFill>
                <a:latin typeface="Arial"/>
              </a:rPr>
              <a:t>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 u="sng">
                <a:solidFill>
                  <a:srgbClr val="00b050"/>
                </a:solidFill>
                <a:uFillTx/>
                <a:latin typeface="Arial"/>
              </a:rPr>
              <a:t>SU SALUD y BIENESTAR</a:t>
            </a:r>
            <a:r>
              <a:rPr b="1" lang="es-EC" sz="4000" spc="-1" strike="noStrike" u="sng">
                <a:solidFill>
                  <a:srgbClr val="0070c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0070c0"/>
                </a:solidFill>
                <a:latin typeface="Arial"/>
              </a:rPr>
              <a:t>Llámenos</a:t>
            </a:r>
            <a:r>
              <a:rPr b="1" lang="es-EC" sz="4000" spc="-1" strike="noStrike">
                <a:solidFill>
                  <a:srgbClr val="0070c0"/>
                </a:solidFill>
                <a:latin typeface="Arial"/>
              </a:rPr>
              <a:t>: </a:t>
            </a:r>
            <a:r>
              <a:rPr b="1" lang="es-EC" sz="3600" spc="-1" strike="noStrike">
                <a:solidFill>
                  <a:srgbClr val="00b050"/>
                </a:solidFill>
                <a:latin typeface="Arial"/>
              </a:rPr>
              <a:t>305-965-6889 – 305-965-68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b050"/>
                </a:solidFill>
                <a:latin typeface="Arial"/>
              </a:rPr>
              <a:t>                             </a:t>
            </a:r>
            <a:r>
              <a:rPr b="1" lang="es-EC" sz="2000" spc="-1" strike="noStrike">
                <a:solidFill>
                  <a:srgbClr val="00b050"/>
                </a:solidFill>
                <a:latin typeface="Arial"/>
              </a:rPr>
              <a:t>Sergio Maldonado      –        Vanessa G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6"/>
          <p:cNvSpPr/>
          <p:nvPr/>
        </p:nvSpPr>
        <p:spPr>
          <a:xfrm>
            <a:off x="228600" y="5029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70c0"/>
                </a:solidFill>
                <a:latin typeface="Arial"/>
                <a:ea typeface="Arial"/>
              </a:rPr>
              <a:t>Envía esta información a todos tus contactos… </a:t>
            </a:r>
            <a:r>
              <a:rPr b="1" lang="es-EC" sz="3200" spc="-1" strike="noStrike">
                <a:solidFill>
                  <a:srgbClr val="0070c0"/>
                </a:solidFill>
                <a:latin typeface="Arial"/>
                <a:ea typeface="Arial"/>
              </a:rPr>
              <a:t>ELLOS TE LO AGRADEC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304920" y="0"/>
            <a:ext cx="4724280" cy="53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 Narrow"/>
              </a:rPr>
              <a:t>Sabia usted que el </a:t>
            </a:r>
            <a:r>
              <a:rPr b="1" lang="en-US" sz="2400" spc="-1" strike="noStrike">
                <a:solidFill>
                  <a:srgbClr val="0070c0"/>
                </a:solidFill>
                <a:latin typeface="Arial Black"/>
              </a:rPr>
              <a:t>“Oust” </a:t>
            </a:r>
            <a:r>
              <a:rPr b="0" lang="en-US" sz="2400" spc="-1" strike="noStrike">
                <a:solidFill>
                  <a:srgbClr val="0070c0"/>
                </a:solidFill>
                <a:latin typeface="Arial Narrow"/>
              </a:rPr>
              <a:t>que está supuesto a dejar un aroma fresco en el aire de su hogar, en la misma etiqueta dice 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Quite a los animales del cuarto cuando vaya a rociar el spray ambientador, y que espere algunas horas antes de entrar al cuart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 Narrow"/>
              </a:rPr>
              <a:t>Cuantas veces a usted le ha caido ese spray en su piel, y hasta se ha quedado 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OLIENDO</a:t>
            </a:r>
            <a:r>
              <a:rPr b="0" lang="en-US" sz="2400" spc="-1" strike="noStrike">
                <a:solidFill>
                  <a:srgbClr val="0070c0"/>
                </a:solidFill>
                <a:latin typeface="Arial Narrow"/>
              </a:rPr>
              <a:t> ese “</a:t>
            </a: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FINO AROMA</a:t>
            </a:r>
            <a:r>
              <a:rPr b="0" lang="en-US" sz="2400" spc="-1" strike="noStrike">
                <a:solidFill>
                  <a:srgbClr val="0070c0"/>
                </a:solidFill>
                <a:latin typeface="Arial Narrow"/>
              </a:rPr>
              <a:t>”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lady-smelling.jp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air_san_all.jpg"/>
          <p:cNvPicPr/>
          <p:nvPr/>
        </p:nvPicPr>
        <p:blipFill>
          <a:blip r:embed="rId2"/>
          <a:stretch/>
        </p:blipFill>
        <p:spPr>
          <a:xfrm>
            <a:off x="5562720" y="3048120"/>
            <a:ext cx="358128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Arial Narrow"/>
              </a:rPr>
              <a:t>Y EL 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CLORO</a:t>
            </a:r>
            <a:r>
              <a:rPr b="1" lang="en-US" sz="1800" spc="-1" strike="noStrike">
                <a:solidFill>
                  <a:srgbClr val="04617b"/>
                </a:solidFill>
                <a:latin typeface="Arial Narrow"/>
              </a:rPr>
              <a:t> ??? CUANTAS FATALIDADES HAN OCURRIDO EN EL MUNDO POR INFANTES QU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4617b"/>
                </a:solidFill>
                <a:latin typeface="Arial Narrow"/>
              </a:rPr>
              <a:t>HAN BEBIDO CLORO ???  O CUANTOS CASOS DE PERSONAS QUE HAN PERDIDO LA VISION O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4617b"/>
                </a:solidFill>
                <a:latin typeface="Arial Narrow"/>
              </a:rPr>
              <a:t>HAN TENIDO HERIDAS PERMANENTES DEBIDO AL CLORO ???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3" descr="1010016468.jpg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327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lorox-bleach.gif"/>
          <p:cNvPicPr/>
          <p:nvPr/>
        </p:nvPicPr>
        <p:blipFill>
          <a:blip r:embed="rId2"/>
          <a:stretch/>
        </p:blipFill>
        <p:spPr>
          <a:xfrm>
            <a:off x="2971800" y="228600"/>
            <a:ext cx="3595680" cy="329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nino cloro.jpg"/>
          <p:cNvPicPr/>
          <p:nvPr/>
        </p:nvPicPr>
        <p:blipFill>
          <a:blip r:embed="rId3"/>
          <a:stretch/>
        </p:blipFill>
        <p:spPr>
          <a:xfrm>
            <a:off x="0" y="228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SABÍA QUE LA MAYORÍA DE  LIMPIADORES DE VIDRIOS CONTIENEN </a:t>
            </a:r>
            <a:r>
              <a:rPr b="1" lang="es-EC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LICOL</a:t>
            </a:r>
            <a:r>
              <a:rPr b="1" lang="es-EC" sz="1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(SUSTANCIA ANEXADA A LA INFERTILIDAD) ADEMÁS HAY MUCHOS ACONDICIONADORES DE PELO QUE AL IGUAL QUE EL “WINDEX” CONTIENEN </a:t>
            </a:r>
            <a:r>
              <a:rPr b="1" lang="es-EC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MONIACO</a:t>
            </a:r>
            <a:r>
              <a:rPr b="1" lang="es-EC" sz="1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(SUSTANCIA EL CUAL HA CAUSADO MILES DE MUERTES Y LESIONES GRAVES EN INFANTES, NIÑOS Y ADULTOS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10" descr="51xCp77ihFL._SL500_AA280_.jpg"/>
          <p:cNvPicPr/>
          <p:nvPr/>
        </p:nvPicPr>
        <p:blipFill>
          <a:blip r:embed="rId1"/>
          <a:stretch/>
        </p:blipFill>
        <p:spPr>
          <a:xfrm>
            <a:off x="0" y="37339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windex_span.jpg"/>
          <p:cNvPicPr/>
          <p:nvPr/>
        </p:nvPicPr>
        <p:blipFill>
          <a:blip r:embed="rId2"/>
          <a:stretch/>
        </p:blipFill>
        <p:spPr>
          <a:xfrm>
            <a:off x="4572000" y="3733920"/>
            <a:ext cx="4572000" cy="2209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022008_pantene_a.jpg"/>
          <p:cNvPicPr/>
          <p:nvPr/>
        </p:nvPicPr>
        <p:blipFill>
          <a:blip r:embed="rId3"/>
          <a:stretch/>
        </p:blipFill>
        <p:spPr>
          <a:xfrm>
            <a:off x="1981080" y="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6a00e551a5d9228834011168d98b49970c-800wi.jpg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johnson.gif"/>
          <p:cNvPicPr/>
          <p:nvPr/>
        </p:nvPicPr>
        <p:blipFill>
          <a:blip r:embed="rId5"/>
          <a:stretch/>
        </p:blipFill>
        <p:spPr>
          <a:xfrm>
            <a:off x="4724280" y="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photogallery_easy_ways_to_green_your_home_10_full.jpg"/>
          <p:cNvPicPr/>
          <p:nvPr/>
        </p:nvPicPr>
        <p:blipFill>
          <a:blip r:embed="rId6"/>
          <a:stretch/>
        </p:blipFill>
        <p:spPr>
          <a:xfrm>
            <a:off x="0" y="0"/>
            <a:ext cx="2247840" cy="2514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pregnant_storylead_narrowweb__300x375,0.jpg"/>
          <p:cNvPicPr/>
          <p:nvPr/>
        </p:nvPicPr>
        <p:blipFill>
          <a:blip r:embed="rId7"/>
          <a:stretch/>
        </p:blipFill>
        <p:spPr>
          <a:xfrm>
            <a:off x="2438280" y="37339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Poison%20(little%20girl).jpg"/>
          <p:cNvPicPr/>
          <p:nvPr/>
        </p:nvPicPr>
        <p:blipFill>
          <a:blip r:embed="rId1"/>
          <a:stretch/>
        </p:blipFill>
        <p:spPr>
          <a:xfrm>
            <a:off x="2133720" y="4114800"/>
            <a:ext cx="2133360" cy="1827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kids in the cubboard.jpg"/>
          <p:cNvPicPr/>
          <p:nvPr/>
        </p:nvPicPr>
        <p:blipFill>
          <a:blip r:embed="rId2"/>
          <a:stretch/>
        </p:blipFill>
        <p:spPr>
          <a:xfrm>
            <a:off x="0" y="3429000"/>
            <a:ext cx="2362320" cy="1838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untitled2.bmp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miscelanea01.jpg"/>
          <p:cNvPicPr/>
          <p:nvPr/>
        </p:nvPicPr>
        <p:blipFill>
          <a:blip r:embed="rId4"/>
          <a:stretch/>
        </p:blipFill>
        <p:spPr>
          <a:xfrm>
            <a:off x="7086600" y="34290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poison_center_web-150x140.gif"/>
          <p:cNvPicPr/>
          <p:nvPr/>
        </p:nvPicPr>
        <p:blipFill>
          <a:blip r:embed="rId5"/>
          <a:stretch/>
        </p:blipFill>
        <p:spPr>
          <a:xfrm>
            <a:off x="0" y="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Rectangle 7" descr=""/>
          <p:cNvPicPr/>
          <p:nvPr/>
        </p:nvPicPr>
        <p:blipFill>
          <a:blip r:embed="rId6"/>
          <a:stretch/>
        </p:blipFill>
        <p:spPr>
          <a:xfrm>
            <a:off x="1463760" y="-122400"/>
            <a:ext cx="6484680" cy="4286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poison1.jpg"/>
          <p:cNvPicPr/>
          <p:nvPr/>
        </p:nvPicPr>
        <p:blipFill>
          <a:blip r:embed="rId7"/>
          <a:stretch/>
        </p:blipFill>
        <p:spPr>
          <a:xfrm>
            <a:off x="4876920" y="4114800"/>
            <a:ext cx="236196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Rectangle 7" descr=""/>
          <p:cNvPicPr/>
          <p:nvPr/>
        </p:nvPicPr>
        <p:blipFill>
          <a:blip r:embed="rId1"/>
          <a:stretch/>
        </p:blipFill>
        <p:spPr>
          <a:xfrm>
            <a:off x="-262080" y="96840"/>
            <a:ext cx="9668160" cy="52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14600" y="36576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w Cen MT"/>
              </a:rPr>
              <a:t>USTED DEJARIA </a:t>
            </a:r>
            <a:r>
              <a:rPr b="1" lang="en-US" sz="4000" spc="-1" strike="noStrike">
                <a:solidFill>
                  <a:srgbClr val="ff0000"/>
                </a:solidFill>
                <a:latin typeface="Tw Cen MT"/>
              </a:rPr>
              <a:t>UNA PISTOLA CARGADA </a:t>
            </a:r>
            <a:r>
              <a:rPr b="1" lang="en-US" sz="4000" spc="-1" strike="noStrike">
                <a:solidFill>
                  <a:srgbClr val="0070c0"/>
                </a:solidFill>
                <a:latin typeface="Tw Cen MT"/>
              </a:rPr>
              <a:t>AL ALCANCE DE UN NIÑO???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3" descr="Baby Gun 2.jpg"/>
          <p:cNvPicPr/>
          <p:nvPr/>
        </p:nvPicPr>
        <p:blipFill>
          <a:blip r:embed="rId1"/>
          <a:stretch/>
        </p:blipFill>
        <p:spPr>
          <a:xfrm>
            <a:off x="304920" y="380880"/>
            <a:ext cx="3525840" cy="4800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20070929-baby gun.jpg"/>
          <p:cNvPicPr/>
          <p:nvPr/>
        </p:nvPicPr>
        <p:blipFill>
          <a:blip r:embed="rId2"/>
          <a:stretch/>
        </p:blipFill>
        <p:spPr>
          <a:xfrm>
            <a:off x="4572000" y="380880"/>
            <a:ext cx="432756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UNA MUY TRISTE REALIDAD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9" name="Rectangle 7" descr=""/>
          <p:cNvPicPr/>
          <p:nvPr/>
        </p:nvPicPr>
        <p:blipFill>
          <a:blip r:embed="rId1"/>
          <a:stretch/>
        </p:blipFill>
        <p:spPr>
          <a:xfrm>
            <a:off x="-115920" y="3535200"/>
            <a:ext cx="9545760" cy="2438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Lejias.JPG"/>
          <p:cNvPicPr/>
          <p:nvPr/>
        </p:nvPicPr>
        <p:blipFill>
          <a:blip r:embed="rId2"/>
          <a:stretch/>
        </p:blipFill>
        <p:spPr>
          <a:xfrm>
            <a:off x="152280" y="1522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dangerous_chemicals.jpg"/>
          <p:cNvPicPr/>
          <p:nvPr/>
        </p:nvPicPr>
        <p:blipFill>
          <a:blip r:embed="rId3"/>
          <a:stretch/>
        </p:blipFill>
        <p:spPr>
          <a:xfrm>
            <a:off x="4038480" y="2209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photogallery_ways_to_protect_children_from_poisoning_01_full.jpg"/>
          <p:cNvPicPr/>
          <p:nvPr/>
        </p:nvPicPr>
        <p:blipFill>
          <a:blip r:embed="rId4"/>
          <a:stretch/>
        </p:blipFill>
        <p:spPr>
          <a:xfrm>
            <a:off x="6324480" y="152280"/>
            <a:ext cx="2629080" cy="3581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ninos3.jpg"/>
          <p:cNvPicPr/>
          <p:nvPr/>
        </p:nvPicPr>
        <p:blipFill>
          <a:blip r:embed="rId5"/>
          <a:stretch/>
        </p:blipFill>
        <p:spPr>
          <a:xfrm>
            <a:off x="4038480" y="152280"/>
            <a:ext cx="1981440" cy="189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20:08:16Z</dcterms:created>
  <dc:creator> </dc:creator>
  <dc:description/>
  <dc:language>en-US</dc:language>
  <cp:lastModifiedBy> </cp:lastModifiedBy>
  <dcterms:modified xsi:type="dcterms:W3CDTF">2009-06-02T20:40:58Z</dcterms:modified>
  <cp:revision>21</cp:revision>
  <dc:subject/>
  <dc:title>Usted dejaria una pistola cargada al alcance de sus niÑos ???</dc:title>
</cp:coreProperties>
</file>