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1E7-9C18-4CB0-B84D-3EEA1AF1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D94-5843-4FD1-9F74-24733AE6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CA5-0599-4EF5-A1A5-537B9924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E35-EDED-4221-9302-5175B268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DCD-6318-4DA7-8227-5C164185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0B7-30FA-4DCC-B912-0E5ECE26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5D2-4D64-4C75-B0F7-CFE5FA9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3A1-5E38-4166-BADE-03DBB0B4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94F-2C9A-47AE-B97E-85B7FE8D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B60-CBCF-4B29-98CB-25CE692F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A7A-1227-4AD7-946A-BF514F5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A4F-F604-4DC2-B4A8-BD95C03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7437-E32B-4510-BF78-6190C273EB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eroporto33"/>
          <p:cNvPicPr/>
          <p:nvPr/>
        </p:nvPicPr>
        <p:blipFill>
          <a:blip r:embed="rId1"/>
          <a:stretch/>
        </p:blipFill>
        <p:spPr>
          <a:xfrm>
            <a:off x="0" y="2638440"/>
            <a:ext cx="9144000" cy="4219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582480"/>
            <a:ext cx="915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São Luís está crescendo, com a chegada de grandes investimentos em minérios, especialmente o ferro e o alumínio e outros que estão sendo program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Então Roseana e José Sarney resolveram construir um novo Aeroporto Internacional já em and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aeroporto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835200" y="533520"/>
            <a:ext cx="71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São 16 tonalidades de vermelho no teto monumental,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garantem uma leve divisão entre as zonas do aeropo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aeroporto27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aeroporto08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280520" y="380880"/>
            <a:ext cx="651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As curvas do teto causam um efeito de mov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de um peixe (peixes-pedra de São José de Ribama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e as clarabóias remetem à textura das suas esca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eroporto10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eroporto11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3600" y="380880"/>
            <a:ext cx="905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São 190 lojas, bares, restaurantes e sal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massagem, casas de câmbio, lojas para venda de camarão seco, farinha d’água e sorvete de coco, tudo para o conforto dos passageiros</a:t>
            </a:r>
            <a:r>
              <a:rPr b="0" lang="pt-BR" sz="2000" spc="-1" strike="noStrike">
                <a:solidFill>
                  <a:srgbClr val="ffff66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aeroporto1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eroport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85800" y="514368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Apesar da grandiosidade, este aeroporto foi planej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para ser fácil locomover-se por ele. Ninguém se per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  <a:ea typeface="Arial Unicode MS"/>
              </a:rPr>
              <a:t>Pode perder-se na cidade, que é imensa e enorme, mas no aeroporto n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aeroporto16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14240" y="5286240"/>
            <a:ext cx="757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Hora do desembarque e da retirada das  ma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Na expectativa de conhecer as maravilhas de São Luís, especialmente o viaduto Alcione Nazaré, a Maternidade Marly Sarney e outras grandes obras públicas.</a:t>
            </a:r>
            <a:r>
              <a:rPr b="0" lang="pt-BR" sz="2000" spc="-1" strike="noStrike">
                <a:solidFill>
                  <a:srgbClr val="ccff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eroporto17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aeroporto19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eroporto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214280" y="64296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33"/>
                </a:solidFill>
                <a:latin typeface="Arial Black"/>
              </a:rPr>
              <a:t>Aeroporto Internacional de São Lu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eroporto2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523880" y="6172200"/>
            <a:ext cx="55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Esteiras rolantes para os usuário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eroporto21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285520" y="594360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Hora do check-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eroporto24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864040" y="581184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Sala de e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eroporto23"/>
          <p:cNvPicPr/>
          <p:nvPr/>
        </p:nvPicPr>
        <p:blipFill>
          <a:blip r:embed="rId1"/>
          <a:stretch/>
        </p:blipFill>
        <p:spPr>
          <a:xfrm>
            <a:off x="23623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aeroporto00"/>
          <p:cNvPicPr/>
          <p:nvPr/>
        </p:nvPicPr>
        <p:blipFill>
          <a:blip r:embed="rId1"/>
          <a:stretch/>
        </p:blipFill>
        <p:spPr>
          <a:xfrm>
            <a:off x="-228600" y="231840"/>
            <a:ext cx="9601200" cy="6394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142920" y="380880"/>
            <a:ext cx="62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Arquitetura inspirada em um peixe-pe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de São José de Ribamar, típico d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ludovicen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377120" y="6060960"/>
            <a:ext cx="1857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aeroporto34"/>
          <p:cNvPicPr/>
          <p:nvPr/>
        </p:nvPicPr>
        <p:blipFill>
          <a:blip r:embed="rId1"/>
          <a:stretch/>
        </p:blipFill>
        <p:spPr>
          <a:xfrm>
            <a:off x="609480" y="-54000"/>
            <a:ext cx="8001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eroporto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aeroporto3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5956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6786720" y="5000760"/>
            <a:ext cx="45720" cy="46080"/>
          </a:xfrm>
          <a:prstGeom prst="rect">
            <a:avLst/>
          </a:prstGeom>
        </p:spPr>
        <p:txBody>
          <a:bodyPr wrap="none" lIns="90000" rIns="90000" tIns="-360" bIns="-36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aeroporto25"/>
          <p:cNvPicPr/>
          <p:nvPr/>
        </p:nvPicPr>
        <p:blipFill>
          <a:blip r:embed="rId1"/>
          <a:stretch/>
        </p:blipFill>
        <p:spPr>
          <a:xfrm>
            <a:off x="250920" y="260280"/>
            <a:ext cx="3919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211640" y="260280"/>
            <a:ext cx="4657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E assim Roseana está fazendo em  seu Governo uma obra faraônica como nunca dantes ninguém viu na história do Estado do Maranhão, o estado com a população mais miserável  do Brasil, sem acesso à escolas e muito menos à saude. Este é o país dos Renans, dos Sarneys, dos Genoinos, dirceus, Collors, Lullas e 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Uma obra, como se vê pelo “movimento”, não se justifica, pois as rotas, mesmo as internacionais não têm escala prevista  em São Lui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Que merda, he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eroporto09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28600" y="4572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33"/>
                </a:solidFill>
                <a:latin typeface="Arial Black"/>
                <a:ea typeface="Times New Roman"/>
              </a:rPr>
              <a:t>O novo aeroporto de São Luís, projetado por arquitetos dinamarqueses, está impressionando a todos. Ele tem mais de 1 milhão de m2, e o custo total do projeto foi de mais de 3 bilhões de dólares. O resultado de todo este investimento é um aeroporto gigantesco, ultra-moderno, eficiente, confortável e com acesso à luz natural, uma importante economia para uma construção faraônica como esta.</a:t>
            </a:r>
            <a:r>
              <a:rPr b="0" lang="pt-BR" sz="1800" spc="-1" strike="noStrike">
                <a:solidFill>
                  <a:srgbClr val="ccff33"/>
                </a:solidFill>
                <a:latin typeface="Arial Black"/>
              </a:rPr>
              <a:t>  Os recursos serão do Governo do Maranhão (21%), Senado Federal (17%), Vale (11%), Alcoa-Billington (9%), Lunus (12%), Consórcio Pericumã-Curupu (6%), Fundação José Sarney (17%) e EBX (Eike Batista) (7%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eroporto31a"/>
          <p:cNvPicPr/>
          <p:nvPr/>
        </p:nvPicPr>
        <p:blipFill>
          <a:blip r:embed="rId1"/>
          <a:stretch/>
        </p:blipFill>
        <p:spPr>
          <a:xfrm>
            <a:off x="0" y="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890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44956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Será o maior e mais avançado aeroporto do mundo – não apenas em tecnologia – em eficiência, em sustentabilidad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cuidado com os passageiros. O novo aeroporto de São Lu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é uma obra prima, um símbolo. Seu teto aerodinâmico e o formato de peixe celebram a emoção de voar e evocam as tradições da Ilha, com os peixes-pedra de São José de Ribamar, suas cores e símbo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aeroporto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42960" y="571680"/>
            <a:ext cx="787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Tão gigante que mal dá para se ver ao longe a cidade, e as mansões de José Sarney e Roseana Sarney, além das de Fernando Sarney e também de Zequinha Sarney.</a:t>
            </a: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eroporto30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14400" y="60948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O novo aeroporto de São Luís receberá mais de 500 mil vôos por ano, principalmente dos jatos particulares dos grandes banqueiros internacionais da Suíça, New York, Miami, Sintra (Portugal) e Ilhas Caymã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aixaDeTexto 3"/>
          <p:cNvSpPr/>
          <p:nvPr/>
        </p:nvSpPr>
        <p:spPr>
          <a:xfrm>
            <a:off x="900000" y="4179960"/>
            <a:ext cx="741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Pergunta que não quer calar:</a:t>
            </a:r>
            <a:r>
              <a:rPr b="0" lang="pt-BR" sz="2800" spc="-1" strike="noStrike">
                <a:solidFill>
                  <a:srgbClr val="009973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009973"/>
                </a:solidFill>
                <a:latin typeface="Arial Black"/>
              </a:rPr>
              <a:t>r</a:t>
            </a:r>
            <a:r>
              <a:rPr b="0" lang="pt-BR" sz="2400" spc="-1" strike="noStrike">
                <a:solidFill>
                  <a:srgbClr val="ffc000"/>
                </a:solidFill>
                <a:latin typeface="Arial Black"/>
              </a:rPr>
              <a:t>jatos particulares transportam tantos passageiros assim que justifiquem as dimensões desse aeropor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eroporto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-49320" y="5715000"/>
            <a:ext cx="91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Teto em aço, produzido pela Vale, com aberturas que garan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pt-BR" sz="2000" spc="-1" strike="noStrike">
                <a:solidFill>
                  <a:srgbClr val="0066ff"/>
                </a:solidFill>
                <a:latin typeface="Arial Black"/>
              </a:rPr>
              <a:t>uma iluminação interna natu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aeroporto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060640" y="5867280"/>
            <a:ext cx="47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São 3 quilômetros e meio de ext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 </a:t>
            </a: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de norte a sul do aeropo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aeroporto05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445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-442800" y="5643720"/>
            <a:ext cx="100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As colunas vermelhas são para dar alegria e amor (a Ilh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33"/>
                </a:solidFill>
                <a:latin typeface="Arial Black"/>
              </a:rPr>
              <a:t>São Luís é cognominada “Ilha do Amor”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5:59:53Z</dcterms:created>
  <dc:creator>Reginaldo Vieira Matos</dc:creator>
  <dc:description/>
  <dc:language>en-US</dc:language>
  <cp:lastModifiedBy>Lu Figueiral</cp:lastModifiedBy>
  <dcterms:modified xsi:type="dcterms:W3CDTF">2013-02-13T13:14:12Z</dcterms:modified>
  <cp:revision>36</cp:revision>
  <dc:subject/>
  <dc:title>Apresentação do PowerPoint</dc:title>
</cp:coreProperties>
</file>