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393-2348-4B89-B6F5-5C031E62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B8E-9DA2-436B-983E-C9FC2B1F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1C5-A9EC-4379-B84E-32A41611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A37-F965-4765-90D6-1FFF46DC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D6F-32EB-43AC-ADAE-D61471F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12C-4953-4AAF-878F-E09A09C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7E2-9E5F-46DE-9F94-26B352E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122-58FF-4F30-B128-9CB0A5D1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0A3-EB59-47FA-A657-57056EB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F39-6A3B-4EC7-9165-DE3EE31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F4D-2D0E-477D-83CD-3A5A38D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1AE-E9FD-4576-A414-EF5147C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317-8802-4CA9-8E72-3C0C5874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24720" cy="466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5661000"/>
            <a:ext cx="5905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ÉDIO PARA QUEIM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Em um curso de candidatos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Em um curso de primeiros socorros, os Bombeiros ensinaram o </a:t>
            </a: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seguint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Quando acontecerem queimaduras, grandes ou pequenas, o primeiro de tudo é: colocar a parte afetada embaixo da torneira com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água corrente fria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té diminuir o calor e o ardor d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passe por cima, em toda a extensão da ferida, uma capa de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CLARA DE OVO.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Certo di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o esquentar água,                                         uma pessoa esbarrou na panela e parte da água fervendo queimou uma grande parte da mão dela.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278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Colocou, então, a mão queimada embaixo da torneira de água fri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ara aliviar o ardor da queimadura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ff9900"/>
                </a:solidFill>
                <a:latin typeface="Arial"/>
              </a:rPr>
              <a:t>A dor era insuportável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quebrou dois o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Separou as CLARAS e foi colocando por cima da ferida. A mão estava tão queimada, que enquanto ela colocava clara por cima da pele, esta secava formando uma pel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81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Ela soube que aquilo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ra COLÁGENO NATU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 continuou colocando na mão, capas e mais capas de CLARAS durante uma h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uco mais tarde ela já não sentia mais dor. No dia seguinte, apenas havia uma pequena marca avermelhada onde antes estava 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Depois de 10 dias não havia mais marca </a:t>
            </a:r>
            <a:r>
              <a:rPr b="1" lang="es-MX" sz="3600" spc="-1" strike="noStrike" u="sng">
                <a:solidFill>
                  <a:srgbClr val="ff9900"/>
                </a:solidFill>
                <a:uFillTx/>
                <a:latin typeface="Arial"/>
              </a:rPr>
              <a:t>algum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 daquela queimadura horrí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A parte queimada se recuperou por causa da CLARA de ovo que contém a substância chamada COLÁGENO que, na realidade, é uma placenta cheia de vitaminas regenerado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r favor, envie este E. mail, pois alguém poderá preci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1440" cy="364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836880"/>
            <a:ext cx="6985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9900"/>
                </a:solidFill>
                <a:uFillTx/>
                <a:latin typeface="Arial"/>
              </a:rPr>
              <a:t>Não seja egoísta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* COMPARTILHE ISTO</a:t>
            </a:r>
            <a:r>
              <a:rPr b="1" lang="es-MX" sz="4800" spc="-1" strike="noStrike" u="sng">
                <a:solidFill>
                  <a:srgbClr val="ff9900"/>
                </a:solidFill>
                <a:uFillTx/>
                <a:latin typeface="Arial"/>
              </a:rPr>
              <a:t>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9900"/>
                </a:solidFill>
                <a:uFillTx/>
                <a:latin typeface="Arial"/>
              </a:rPr>
              <a:t>Obrigado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37:21Z</dcterms:created>
  <dc:creator>KADAJ</dc:creator>
  <dc:description/>
  <dc:language>en-US</dc:language>
  <cp:lastModifiedBy>heliodoro</cp:lastModifiedBy>
  <dcterms:modified xsi:type="dcterms:W3CDTF">2009-03-26T19:15:26Z</dcterms:modified>
  <cp:revision>13</cp:revision>
  <dc:subject/>
  <dc:title>Diapositiva 1</dc:title>
</cp:coreProperties>
</file>