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jpeg" ContentType="image/jpeg"/>
  <Override PartName="/ppt/media/Nectar%20da%20Libertad%20-%20reduzida%C2%B4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32D-2F5C-4CC8-802E-5ADC7EFF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B1F-B978-4EEA-94F6-48AF5DF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70C-6B7F-42B4-9302-901C275C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F08-2820-4AAA-8B1C-3A0AFE3B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7DE-D439-49A7-9FE9-31893E04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675-007F-4EEE-B7C5-C7115194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1A7-CF3F-41F6-9FFB-C147B07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C22-78EF-46CC-8168-460CEDA6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173-6E48-40B0-8E2C-C6E4A948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F6B-7508-46A2-9366-67ECAEB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985-D0DA-456A-9A28-8AF23A1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D15-51F5-4A69-ABB6-3E91CE7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4DED-D283-4E16-AC80-3AEEEE8696F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ctar%20da%20Libertad%20-%20reduzida&#180;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09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620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2133720"/>
            <a:ext cx="59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comic"/>
              </a:rPr>
              <a:t>DEUS É CULPADO?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773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...Então, foi dito que deveríamos dar aos nossos filhos tantas camisinhas quantas eles quisessem, para que eles pudessem se divertir à vontade. E nós dissemos: "Está bem!"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260676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- ...Então, alguém sugeriu que imprimíssemos revistas com fotografias de mulheres nuas, e disséssemos que isto é uma coisa sadia e uma apreciação natural do corpo feminino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98100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- ...Depois, uma outra pessoa levou isso um passo mais adiante e publicou fotos de crianças nuas e foi mais além ainda, colocando-as à disposição da Internet.  E nós dissemos: "Está bem, isto é democracia, e eles têm o direito de ter liberdade de se expressar e fazer isso"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333360"/>
            <a:ext cx="87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- ...Agora, nós estamos nos perguntando por que nossos filhos não têm consciência e por que não sabem distinguir entre o bem e o mal, entre o certo e o errado, por que não lhes incomoda matar pessoas estranhas ou seus próprios colegas de classe ou a si próprios... Provavelmente, se nós analisarmos seriamente, iremos facilmente compreender: nós colhemos aquilo que semeamos!!!..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164120"/>
            <a:ext cx="7991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21654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654e"/>
                </a:solidFill>
                <a:latin typeface="Arial"/>
              </a:rPr>
              <a:t>...Uma menina escreveu um bilhetinho para Deu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654e"/>
                </a:solidFill>
                <a:latin typeface="Arial"/>
              </a:rPr>
              <a:t>"Senhor, por que não salvaste aquela criança na escola?“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58920" y="2205000"/>
            <a:ext cx="6842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- ...A resposta de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"Querida, não me deixam entrar nas escolas!"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916280"/>
            <a:ext cx="79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- ...É triste como as pessoas simplesmente culpam a Deus e não entendem porque o mundo está indo a passos largos para o inferno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1341360"/>
            <a:ext cx="77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...É triste como cremos em tudo que os Jornais e a TV dizem, mas duvidamos do que a Bíblia, ou do que a sua religião, que você diz que segue, ensin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981000"/>
            <a:ext cx="7848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- ...É triste como todo mundo quer ir para o céu, desde que não precise crer, nem pensar ou dizer qualquer coisa que a Bíblia ensina. É triste como alguém diz: "Eu creio em Deus", mas ainda assim segue a satanás, que por sinal, também "crê" em Deus..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19280" y="213372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engraçado como somos rápidos para julgar, mas não queremos ser julgados!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107316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844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1700280"/>
            <a:ext cx="777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Finalmente, a verdade é dita na TV American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1692"/>
                </a:solidFill>
                <a:latin typeface="Arial"/>
              </a:rPr>
              <a:t>A filha de Billy Graham estava sendo entrevistada no Early Show e Jane Clayson perguntou a el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216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0000" y="155736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..Como podemos enviar centenas de piadas por e-mail, e elas se espalham como fogo, mas quando tentamos enviar algum e-mail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 falando de Deus as pessoas têm medo de compartilhar e reenviá-los a outro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836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É triste ver como o material imoral, obsceno e vulgar corre livremente na Internet, mas uma discussão pública a respeito de Deus é suprimida rapidamente na escola e no trabalho. É triste ver como as pessoas fic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lamadas de Cristo no domingo, mas depois se transformam em cristãos invisíveis pelo resto da seman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12682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ê está achando engraçado? Você mesmo pode não querer reenviar esta mensagem a muitos de sua lista de endereços, porque você não tem certeza a respeito de como a receberão, ou do que pensarão a seu respeito, por lhes ter enviado. Não é verdad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2d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620640"/>
            <a:ext cx="741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c0000"/>
                </a:solidFill>
                <a:latin typeface="Arial"/>
              </a:rPr>
              <a:t>Gozado que nós nos preocupamos mais com o que as outras pessoas pensam a nosso respeito do que com o que Deus pensa... "Garanto que Ele, que enxerga tudo em nosso coração, está torcendo pa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que você, no seu livre arbítrio, envie estas palavras a outras pessoas"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2997360"/>
            <a:ext cx="763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e esta mensagem adiante, se acha que ela tem algum méri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não, ignore-a... E delete-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raç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1413000"/>
            <a:ext cx="770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- Como é que Deus teria permitido algo horroroso assim acontecer, no dia 11 de setembro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Anne Graham deu uma resposta profunda e sábia: </a:t>
            </a:r>
            <a:br>
              <a:rPr sz="36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174600"/>
            <a:ext cx="882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99ff"/>
                </a:solidFill>
                <a:latin typeface="Arial"/>
              </a:rPr>
              <a:t>- ” Eu creio que Deus ficou profundamente triste com o que aconteceu, tanto quanto nós. Por muitos anos temos dito para Deus não interferir em nossas escolhas, sair do nosso governo e sair de nossas vidas. Sendo um cavalheiro como Deus é, eu creio que Ele calmamente nos deixou. Como poderemos esperar que Deus nos dê a sua bênção e a sua proteção se nós exigimos que Ele não se envolva mais conosco?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782640"/>
            <a:ext cx="86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99"/>
                </a:solidFill>
                <a:latin typeface="Arial"/>
              </a:rPr>
              <a:t>- À vista de tantos acontecimentos recentes - ataque dos terroristas, tiroteio nas escolas, etc... - eu creio que tudo começou desde que Madeline Murray O'hare (que foi assassinada), se queixou de que era impróprio se fazer oração nas escolas Americanas, como se fazia tradicionalmente, e nós concordamos com a sua opinião..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48428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- ...Depois disso, alguém disse que seria melhor também não ler mais a Bíblia nas escolas... A Bíblia que nos ensina que não devemos matar, roubar e devemos amar o nosso próximo como a nós mesmos. E nós concordamos com esse alguém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476280"/>
            <a:ext cx="8209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-...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Logo depois, o Dr. Benjamin Spock disse que não deveríamos bater em nossos filhos quando eles se comportassem mal, porque suas personalidades em formação ficariam distorcidas e poderíamos prejudicar sua auto estima, (o filho dele se suicidou) e nós dissemos: "Um perito nesse assunto deve saber o que está falando". E então concordamos com ele...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8496360" cy="652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256536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1692"/>
                </a:solidFill>
                <a:latin typeface="Arial"/>
              </a:rPr>
              <a:t>- ...Depois alguém disse que os professores e diretores das escolas não deveriam disciplinar nossos filhos quando se comportassem mal. Então foi decidido que nenhum professor poderia tocar nos alunos... (há diferença entre disciplinar e tocar)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2920" y="28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- ...Aí, alguém sugeriu que deveríamos deixar que nossas filhas fizessem aborto, se elas assim o quisessem. E nós aceitamos, sem ao menos questionar....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23:19:55Z</dcterms:created>
  <dc:creator>Silvana Capelari</dc:creator>
  <dc:description/>
  <dc:language>en-US</dc:language>
  <cp:lastModifiedBy>Nilza</cp:lastModifiedBy>
  <dcterms:modified xsi:type="dcterms:W3CDTF">2008-09-28T21:28:31Z</dcterms:modified>
  <cp:revision>4</cp:revision>
  <dc:subject/>
  <dc:title>Slide 1</dc:title>
</cp:coreProperties>
</file>