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08%20deus%20do%20imposs%C3%ADvel.wav" ContentType="audio/x-wav"/>
  <Override PartName="/ppt/media/image17.jpeg" ContentType="image/jpeg"/>
  <Override PartName="/ppt/media/image2.jpeg" ContentType="image/jpeg"/>
  <Override PartName="/ppt/media/image32.wmf" ContentType="image/x-wmf"/>
  <Override PartName="/ppt/media/image33.jpeg" ContentType="image/jpeg"/>
  <Override PartName="/ppt/media/image43.wmf" ContentType="image/x-wmf"/>
  <Override PartName="/ppt/media/image11.jpeg" ContentType="image/jpeg"/>
  <Override PartName="/ppt/media/image9.jpeg" ContentType="image/jpeg"/>
  <Override PartName="/ppt/media/image44.jpeg" ContentType="image/jpeg"/>
  <Override PartName="/ppt/media/image45.jpeg" ContentType="image/jpeg"/>
  <Override PartName="/ppt/media/image46.png" ContentType="image/png"/>
  <Override PartName="/ppt/media/image29.wmf" ContentType="image/x-wmf"/>
  <Override PartName="/ppt/media/image31.png" ContentType="image/png"/>
  <Override PartName="/ppt/media/image37.wmf" ContentType="image/x-wmf"/>
  <Override PartName="/ppt/media/image30.jpeg" ContentType="image/jpeg"/>
  <Override PartName="/ppt/media/image47.jpeg" ContentType="image/jpeg"/>
  <Override PartName="/ppt/media/image48.jpeg" ContentType="image/jpeg"/>
  <Override PartName="/ppt/media/image34.png" ContentType="image/png"/>
  <Override PartName="/ppt/media/image12.jpeg" ContentType="image/jpeg"/>
  <Override PartName="/ppt/media/image6.png" ContentType="image/png"/>
  <Override PartName="/ppt/media/image36.png" ContentType="image/png"/>
  <Override PartName="/ppt/media/image10.jpeg" ContentType="image/jpeg"/>
  <Override PartName="/ppt/media/image8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25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5EFF-A1D9-49E8-A593-36EED61C9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46ED-6E15-4B48-95A2-F6235F90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5B51-B468-495D-AD29-6B43A5FAB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AC1F-9598-4B99-BFF7-1358E9125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E1C7-7A4C-4050-8967-9AB03D0D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E0D2-BBA9-4D07-A58A-5CBFE890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1B01-6C9B-4D81-A983-C556E5D1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E3B5-9D5B-4C34-8FE4-92CEE6BF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A585-5A26-4B6F-BA24-EC966BBF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8792-14D4-43A3-BE46-578F109F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F8B7-48D5-4E0F-A5AB-AE642A7F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97CF-7934-4B7F-BA9D-3834317B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7B70-4A60-4025-B465-AF4C22F65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08%20deus%20do%20imposs&#237;vel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wmf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ol%2026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14400" y="3276720"/>
            <a:ext cx="7772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M HOMEM INSUPERÁVEL!!! </a:t>
            </a:r>
            <a:endParaRPr b="0" i="1" lang="en-US" sz="2400" spc="1" strike="noStrike">
              <a:ln w="1908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spd="slow">
    <p:random/>
    <p:sndAc>
      <p:stSnd>
        <p:snd r:embed="rId2" name="08%20deus%20do%20imposs%C3%ADve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inza%2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image008118" descr=""/>
          <p:cNvPicPr/>
          <p:nvPr/>
        </p:nvPicPr>
        <p:blipFill>
          <a:blip r:embed="rId2"/>
          <a:stretch/>
        </p:blipFill>
        <p:spPr>
          <a:xfrm>
            <a:off x="1371600" y="3352680"/>
            <a:ext cx="4762440" cy="3181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572000" y="6324480"/>
            <a:ext cx="15238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2209680"/>
            <a:ext cx="60962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 vice-presidente do Hospital China Research Center em Beijing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nde este chinês de 39 anos tem sido tratado dis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cinza%2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90" name="2" descr=""/>
          <p:cNvPicPr/>
          <p:nvPr/>
        </p:nvPicPr>
        <p:blipFill>
          <a:blip r:embed="rId2"/>
          <a:stretch/>
        </p:blipFill>
        <p:spPr>
          <a:xfrm>
            <a:off x="2209680" y="1905120"/>
            <a:ext cx="3810240" cy="3106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57200" y="609480"/>
            <a:ext cx="7467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Ele é incrível é a única pessoa no mund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a sobreviver com tanto corpo amputado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inza%202%20vv" descr="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cinza%201%20a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098ouqs1y1ohjx5rkqg" descr=""/>
          <p:cNvPicPr/>
          <p:nvPr/>
        </p:nvPicPr>
        <p:blipFill>
          <a:blip r:embed="rId3"/>
          <a:stretch/>
        </p:blipFill>
        <p:spPr>
          <a:xfrm>
            <a:off x="1752480" y="1371600"/>
            <a:ext cx="5238720" cy="4181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358280" y="609480"/>
            <a:ext cx="654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e teve um enxerto de pele do seu rosto para o seu tron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image00797" descr=""/>
          <p:cNvPicPr/>
          <p:nvPr/>
        </p:nvPicPr>
        <p:blipFill>
          <a:blip r:embed="rId2"/>
          <a:stretch/>
        </p:blipFill>
        <p:spPr>
          <a:xfrm>
            <a:off x="1676520" y="2057400"/>
            <a:ext cx="5790960" cy="386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749880" y="762120"/>
            <a:ext cx="743328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Os Médicos de Reabilitação do China Research Center em Pequ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começaram então a pensar na possibilidade de fazê-lo andar nov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5715000"/>
            <a:ext cx="17528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-152280"/>
            <a:ext cx="9144000" cy="685800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image00636" descr=""/>
          <p:cNvPicPr/>
          <p:nvPr/>
        </p:nvPicPr>
        <p:blipFill>
          <a:blip r:embed="rId2"/>
          <a:stretch/>
        </p:blipFill>
        <p:spPr>
          <a:xfrm>
            <a:off x="1676520" y="1803240"/>
            <a:ext cx="5943600" cy="3970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638680" y="5562720"/>
            <a:ext cx="190512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304920"/>
            <a:ext cx="8229600" cy="825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s criaram um invólucro como se fosso um o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apoiar o seu corpo com 2 pernas biônicas para ajudá-l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00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3351240"/>
            <a:ext cx="9144000" cy="3500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676520" y="990720"/>
            <a:ext cx="5867280" cy="480060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2052740091_small_1" descr=""/>
          <p:cNvPicPr/>
          <p:nvPr/>
        </p:nvPicPr>
        <p:blipFill>
          <a:blip r:embed="rId3"/>
          <a:stretch/>
        </p:blipFill>
        <p:spPr>
          <a:xfrm>
            <a:off x="1676520" y="1371600"/>
            <a:ext cx="5867280" cy="4419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982520" y="914400"/>
            <a:ext cx="54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99"/>
                </a:solidFill>
                <a:latin typeface="Times New Roman"/>
              </a:rPr>
              <a:t>O aparelho é semelhante a um co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9360"/>
            <a:ext cx="9140760" cy="684216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18960" y="281160"/>
            <a:ext cx="8506080" cy="6295680"/>
          </a:xfrm>
          <a:prstGeom prst="rect">
            <a:avLst/>
          </a:prstGeom>
          <a:ln w="0">
            <a:noFill/>
          </a:ln>
        </p:spPr>
      </p:pic>
      <p:pic>
        <p:nvPicPr>
          <p:cNvPr id="116" name="340x" descr=""/>
          <p:cNvPicPr/>
          <p:nvPr/>
        </p:nvPicPr>
        <p:blipFill>
          <a:blip r:embed="rId3"/>
          <a:stretch/>
        </p:blipFill>
        <p:spPr>
          <a:xfrm>
            <a:off x="914400" y="609480"/>
            <a:ext cx="3886200" cy="5429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953960" y="1523880"/>
            <a:ext cx="3115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nca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stiu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9360"/>
            <a:ext cx="9140760" cy="684216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18960" y="281160"/>
            <a:ext cx="8506080" cy="6295680"/>
          </a:xfrm>
          <a:prstGeom prst="rect">
            <a:avLst/>
          </a:prstGeom>
          <a:ln w="0">
            <a:noFill/>
          </a:ln>
        </p:spPr>
      </p:pic>
      <p:pic>
        <p:nvPicPr>
          <p:cNvPr id="121" name="half_man_10" descr=""/>
          <p:cNvPicPr/>
          <p:nvPr/>
        </p:nvPicPr>
        <p:blipFill>
          <a:blip r:embed="rId3"/>
          <a:stretch/>
        </p:blipFill>
        <p:spPr>
          <a:xfrm>
            <a:off x="457200" y="609480"/>
            <a:ext cx="8128080" cy="5423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891d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2891d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halfman2_450x400" descr=""/>
          <p:cNvPicPr/>
          <p:nvPr/>
        </p:nvPicPr>
        <p:blipFill>
          <a:blip r:embed="rId2"/>
          <a:stretch/>
        </p:blipFill>
        <p:spPr>
          <a:xfrm>
            <a:off x="1828800" y="1447920"/>
            <a:ext cx="5143680" cy="4572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828800" y="1447920"/>
            <a:ext cx="5181480" cy="4572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2891d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4572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Agora, este lutador está em pé novament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9360"/>
            <a:ext cx="9140760" cy="684216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505720" cy="6296040"/>
          </a:xfrm>
          <a:prstGeom prst="rect">
            <a:avLst/>
          </a:prstGeom>
          <a:ln w="0">
            <a:noFill/>
          </a:ln>
        </p:spPr>
      </p:pic>
      <p:pic>
        <p:nvPicPr>
          <p:cNvPr id="131" name="miracleman01" descr=""/>
          <p:cNvPicPr/>
          <p:nvPr/>
        </p:nvPicPr>
        <p:blipFill>
          <a:blip r:embed="rId3"/>
          <a:stretch/>
        </p:blipFill>
        <p:spPr>
          <a:xfrm>
            <a:off x="1905120" y="1600200"/>
            <a:ext cx="5143320" cy="4572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33520" y="6094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egoe UI"/>
              </a:rPr>
              <a:t>Com a ajuda dos médicos,Peng está reaprendendo a and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1320" y="1600200"/>
            <a:ext cx="6383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e você tem a mania de reclamar de tud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eclamar da vid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o seu cabelo que esta crespo demais,ou liso demai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a sua relação amorosa que não esta dando cert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ue tem preguiça de caminhar até o mercado ou ponto de ônibu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tc,etc,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abia que VOCÊ É FELIZ, mas não sabe dar val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s coisas que Deus lhe deu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ois bem,veja que diante deste fato que vou contar ago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UM EXEMPLO DE SUPER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 como os seus problemas ficam são pequenininh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as pena que no dia a dia você se esqueça disso 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em que sempre ser lemb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ce que nada pode levá-lo para baixo.</a:t>
            </a:r>
            <a:r>
              <a:rPr b="0" lang="pt-BR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-152280"/>
            <a:ext cx="9144000" cy="685800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15228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f1fc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image010710" descr=""/>
          <p:cNvPicPr/>
          <p:nvPr/>
        </p:nvPicPr>
        <p:blipFill>
          <a:blip r:embed="rId2"/>
          <a:stretch/>
        </p:blipFill>
        <p:spPr>
          <a:xfrm>
            <a:off x="1600200" y="1447920"/>
            <a:ext cx="5981760" cy="4267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715000" y="5486400"/>
            <a:ext cx="17524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22520" y="83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62600" y="609480"/>
            <a:ext cx="624312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arece que nada deixa-o para baix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9360"/>
            <a:ext cx="9140760" cy="684216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18960" y="281160"/>
            <a:ext cx="8506080" cy="6295680"/>
          </a:xfrm>
          <a:prstGeom prst="rect">
            <a:avLst/>
          </a:prstGeom>
          <a:ln w="0">
            <a:noFill/>
          </a:ln>
        </p:spPr>
      </p:pic>
      <p:pic>
        <p:nvPicPr>
          <p:cNvPr id="143" name="573520" descr=""/>
          <p:cNvPicPr/>
          <p:nvPr/>
        </p:nvPicPr>
        <p:blipFill>
          <a:blip r:embed="rId3"/>
          <a:stretch/>
        </p:blipFill>
        <p:spPr>
          <a:xfrm>
            <a:off x="1447920" y="1523880"/>
            <a:ext cx="6400800" cy="4572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752480" y="457200"/>
            <a:ext cx="53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O sorriso diz tudo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9360"/>
            <a:ext cx="9140760" cy="684216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18960" y="281160"/>
            <a:ext cx="8506080" cy="6295680"/>
          </a:xfrm>
          <a:prstGeom prst="rect">
            <a:avLst/>
          </a:prstGeom>
          <a:ln w="0">
            <a:noFill/>
          </a:ln>
        </p:spPr>
      </p:pic>
      <p:pic>
        <p:nvPicPr>
          <p:cNvPr id="148" name="1" descr=""/>
          <p:cNvPicPr/>
          <p:nvPr/>
        </p:nvPicPr>
        <p:blipFill>
          <a:blip r:embed="rId3"/>
          <a:stretch/>
        </p:blipFill>
        <p:spPr>
          <a:xfrm>
            <a:off x="2362320" y="838080"/>
            <a:ext cx="4178160" cy="5558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1677600" y="228600"/>
            <a:ext cx="564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Ele agora esta muito be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2280" y="152280"/>
            <a:ext cx="740124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E abriu seu próprio negócio 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Supermarket Half Man Half-Store Pric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-22860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caeef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0000" descr=""/>
          <p:cNvPicPr/>
          <p:nvPr/>
        </p:nvPicPr>
        <p:blipFill>
          <a:blip r:embed="rId2"/>
          <a:stretch/>
        </p:blipFill>
        <p:spPr>
          <a:xfrm>
            <a:off x="2286000" y="990720"/>
            <a:ext cx="3809880" cy="556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615240" y="304920"/>
            <a:ext cx="76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 ai!!!! Do que você vai reclamar agor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52280" y="152280"/>
            <a:ext cx="670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 Narrow"/>
              </a:rPr>
              <a:t>Porque para mim tenho por certo que as aflições des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 Narrow"/>
              </a:rPr>
              <a:t>tempo presente não são para compar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 Narrow"/>
              </a:rPr>
              <a:t>com a glória que em nós há de ser revel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 Narrow"/>
              </a:rPr>
              <a:t>Romanos 8:18</a:t>
            </a:r>
            <a:r>
              <a:rPr b="0" lang="en-US" sz="2400" spc="-1" strike="noStrike">
                <a:solidFill>
                  <a:srgbClr val="ff3399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cinza%2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295280" y="2362320"/>
            <a:ext cx="426744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maze"/>
              </a:rPr>
              <a:t>Crédi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Formatação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maze"/>
              </a:rPr>
              <a:t>Cidinha  Gandolp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magen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tiradas de vários sites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úsic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us do Impossível_Toque no alt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exto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ww.myinterestingfiles.co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maze"/>
              </a:rPr>
              <a:t>cidynha_jesusteama@hotmai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maze"/>
              </a:rPr>
              <a:t>By Cidyn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o Claro/S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Monotype Corsiva"/>
              </a:rPr>
              <a:t>01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304920"/>
            <a:ext cx="56386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oje é </a:t>
            </a:r>
            <a:fld id="{E82C8FE1-5ABE-4E71-B00C-70DDB7C5E8B8}" type="datetime"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Agora mesmo são </a:t>
            </a:r>
            <a:fld id="{E064773E-F163-4751-BB15-2537FF0EBC3E}" type="datetime"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7/30/26</a:t>
            </a:fld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8960" y="2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8960" y="2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8960" y="2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891d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a25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0aalonelylonely" descr=""/>
          <p:cNvPicPr/>
          <p:nvPr/>
        </p:nvPicPr>
        <p:blipFill>
          <a:blip r:embed="rId2"/>
          <a:stretch/>
        </p:blipFill>
        <p:spPr>
          <a:xfrm>
            <a:off x="838080" y="838080"/>
            <a:ext cx="3353040" cy="5181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343400" y="129528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cc"/>
                </a:solidFill>
                <a:latin typeface="Palatino Linotype"/>
                <a:ea typeface="Times New Roman"/>
              </a:rPr>
              <a:t>Você conhe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cc"/>
                </a:solidFill>
                <a:latin typeface="Palatino Linotype"/>
                <a:ea typeface="Times New Roman"/>
              </a:rPr>
              <a:t>Peng Shuili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056200" y="3124080"/>
            <a:ext cx="223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cc"/>
                </a:solidFill>
                <a:latin typeface="Palatino Linotype"/>
              </a:rPr>
              <a:t>Não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762120"/>
            <a:ext cx="3504960" cy="5333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a25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1520">
            <a:solidFill>
              <a:srgbClr val="cc0000"/>
            </a:solidFill>
            <a:miter/>
          </a:ln>
          <a:effectLst>
            <a:outerShdw dist="107932" dir="189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accidente_901792422" descr=""/>
          <p:cNvPicPr/>
          <p:nvPr/>
        </p:nvPicPr>
        <p:blipFill>
          <a:blip r:embed="rId1"/>
          <a:stretch/>
        </p:blipFill>
        <p:spPr>
          <a:xfrm>
            <a:off x="1600200" y="2438280"/>
            <a:ext cx="5475240" cy="377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530640" y="304920"/>
            <a:ext cx="7995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m 1995 ele perdeu metade do seu cor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o ser cortado próximo à altura da cintura por um caminhã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s médicos que o socorreram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chavam que ele não sobreviveria, 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m milagre de Deus fez com que ele sobrevives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101520">
            <a:solidFill>
              <a:srgbClr val="cc0000"/>
            </a:solidFill>
            <a:miter/>
          </a:ln>
          <a:effectLst>
            <a:outerShdw dist="107932" dir="189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304920"/>
            <a:ext cx="8534160" cy="6242040"/>
          </a:xfrm>
          <a:prstGeom prst="rect">
            <a:avLst/>
          </a:prstGeom>
          <a:noFill/>
          <a:ln w="101520">
            <a:solidFill>
              <a:srgbClr val="cc0000"/>
            </a:solidFill>
            <a:miter/>
          </a:ln>
          <a:effectLst>
            <a:outerShdw dist="107932" dir="189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2362320"/>
            <a:ext cx="5486400" cy="3886200"/>
          </a:xfrm>
          <a:prstGeom prst="rect">
            <a:avLst/>
          </a:prstGeom>
          <a:noFill/>
          <a:ln w="101520">
            <a:solidFill>
              <a:srgbClr val="cc0000"/>
            </a:solidFill>
            <a:miter/>
          </a:ln>
          <a:effectLst>
            <a:outerShdw dist="107932" dir="189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2666880"/>
            <a:ext cx="91440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homem_metade1" descr=""/>
          <p:cNvPicPr/>
          <p:nvPr/>
        </p:nvPicPr>
        <p:blipFill>
          <a:blip r:embed="rId2"/>
          <a:stretch/>
        </p:blipFill>
        <p:spPr>
          <a:xfrm>
            <a:off x="1295280" y="1295280"/>
            <a:ext cx="6553440" cy="4321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7621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Ele é  conhecido na China como “Half Man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30440" y="5562720"/>
            <a:ext cx="23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Homem-Met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image00161" descr=""/>
          <p:cNvPicPr/>
          <p:nvPr/>
        </p:nvPicPr>
        <p:blipFill>
          <a:blip r:embed="rId2"/>
          <a:stretch/>
        </p:blipFill>
        <p:spPr>
          <a:xfrm>
            <a:off x="1600200" y="1676520"/>
            <a:ext cx="5867280" cy="4857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86560" y="152280"/>
            <a:ext cx="8276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camado por mais de dez ano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familiares e amigos tinham pouca esperança de que ele fos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viver qualquer coisa parecida com vida normal outra ve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final, precisou da ajuda de vinte médicos para conseguir manter-se viv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1676520"/>
            <a:ext cx="5867280" cy="4876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91120" y="6019920"/>
            <a:ext cx="327636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66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half-man-682_929573a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7794360" cy="4572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0880" y="5335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em as perna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hulin ficou com apenas 78 cm de altur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1981080"/>
            <a:ext cx="7772400" cy="4572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00515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5105520" cy="3581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55600 w 9144000"/>
              <a:gd name="textAreaRight" fmla="*/ 8888400 w 9144000"/>
              <a:gd name="textAreaTop" fmla="*/ 255600 h 6858000"/>
              <a:gd name="textAreaBottom" fmla="*/ 660240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805" y="805"/>
                </a:moveTo>
                <a:lnTo>
                  <a:pt x="805" y="20795"/>
                </a:lnTo>
                <a:lnTo>
                  <a:pt x="27995" y="20795"/>
                </a:lnTo>
                <a:lnTo>
                  <a:pt x="27995" y="805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28800" y="2362320"/>
            <a:ext cx="5105520" cy="3581280"/>
          </a:xfrm>
          <a:prstGeom prst="rect">
            <a:avLst/>
          </a:prstGeom>
          <a:noFill/>
          <a:ln w="572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4120" y="5791320"/>
            <a:ext cx="1523880" cy="759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52480" y="2286000"/>
            <a:ext cx="5257800" cy="3733920"/>
          </a:xfrm>
          <a:prstGeom prst="rect">
            <a:avLst/>
          </a:prstGeom>
          <a:noFill/>
          <a:ln w="572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685800"/>
            <a:ext cx="7238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Arial Unicode MS"/>
              </a:rPr>
              <a:t>Mas, recentemente, começou a exercitar seus braços, para poder executar tarefas diári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Arial Unicode MS"/>
              </a:rPr>
              <a:t>como lavar seu rosto e escovar seus d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manwithahalfofthebody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57150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Sua recuperação tem surpreendido os cirurgiõ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depois dele ser submetido a uma série de operaçõ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9:28:32Z</dcterms:created>
  <dc:creator>Cidinha Gandolpho</dc:creator>
  <dc:description/>
  <dc:language>en-US</dc:language>
  <cp:lastModifiedBy>cidinha</cp:lastModifiedBy>
  <dcterms:modified xsi:type="dcterms:W3CDTF">2010-01-26T16:09:01Z</dcterms:modified>
  <cp:revision>25</cp:revision>
  <dc:subject/>
  <dc:title>Um homem insuperável</dc:title>
</cp:coreProperties>
</file>