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C30-A1AD-44AE-B05D-D5A0C3AE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CE7-7A68-4514-B7D0-884CD3C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C5E-26D5-455C-89F3-4C4B860E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698-5394-4965-BDF2-7DA979C0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3BE-7E96-451F-9F5A-8B379A13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C93-DCA5-440D-8F59-348D18AD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814-5421-43DD-B539-D631C34B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7FF-925E-4706-BCBF-5F94D7BC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2D6-D24B-4FAF-A4B8-2899ABAD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F91-9F55-4990-B5AE-CC1A1DAB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E65-E745-41DE-A843-E5B0B90B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758-2340-4409-9FB1-924763D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2CFAF8-84BE-4147-911E-BE7CA9CA7E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0508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6736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584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4791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44640" y="0"/>
            <a:ext cx="5622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1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348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1200" y="0"/>
            <a:ext cx="528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734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</cp:lastModifiedBy>
  <dcterms:modified xsi:type="dcterms:W3CDTF">2009-03-12T05:52:36Z</dcterms:modified>
  <cp:revision>1</cp:revision>
  <dc:subject/>
  <dc:title>PowerPoint-Präsentation</dc:title>
</cp:coreProperties>
</file>