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diosestaaqui-i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A97-9120-478D-B761-68ADC5AA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563-7D32-4CCE-AFE5-14A8E9B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00C-A465-42E6-88B0-0E642FE4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505-006A-4A5D-AA0B-DB326DAF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03C-1FC5-4E90-AD24-721E76D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97D-00E6-49A4-9F10-99EF465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AEB-71C7-4699-9576-1644212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951-13F3-4AF6-9F09-67E8680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349-391D-4199-B017-F4DE537C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5BB-A38C-44A4-A819-79F1D26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730-8E4F-4930-BEE0-1A2E119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43B-5483-4F51-ACAD-25E25A0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3EC-8861-4136-9EF4-22F61BF610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diosestaaqui-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swif.uniba.it/lei/personali/zavattero/sfondo/pippo%2520torta.gif&amp;imgrefurl=http://www.swif.uniba.it/lei/personali/zavattero/sfondo/&amp;h=290&amp;w=250&amp;sz=47&amp;tbnid=D3AYaM9tRmoJ:&amp;tbnh=109&amp;tbnw=94&amp;start=1&amp;prev=/images%3Fq%3Dtorta%26hl%3Des%26lr%3D%26ie%3DUTF-8%26sa%3D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çom"/>
          <p:cNvPicPr/>
          <p:nvPr/>
        </p:nvPicPr>
        <p:blipFill>
          <a:blip r:embed="rId1"/>
          <a:stretch/>
        </p:blipFill>
        <p:spPr>
          <a:xfrm>
            <a:off x="685800" y="0"/>
            <a:ext cx="8128080" cy="5283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438280" y="518148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663012"/>
                    </a:gs>
                  </a:gsLst>
                  <a:lin ang="18900000"/>
                </a:gradFill>
                <a:latin typeface="Tahoma"/>
              </a:rPr>
              <a:t>¿Un pedazo de pastel...?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663012"/>
                  </a:gs>
                </a:gsLst>
                <a:lin ang="18900000"/>
              </a:gradFill>
              <a:latin typeface="Tahoma"/>
              <a:ea typeface="Tahoma"/>
            </a:endParaRPr>
          </a:p>
        </p:txBody>
      </p:sp>
      <p:pic>
        <p:nvPicPr>
          <p:cNvPr id="43" name="Picture 5" descr="1janitor1.gif"/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752480" y="6324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cc"/>
                </a:solidFill>
                <a:latin typeface="Times New Roman"/>
              </a:rPr>
              <a:t>Ya esta limpio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3" name="diosestaaqui-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ovo"/>
          <p:cNvPicPr/>
          <p:nvPr/>
        </p:nvPicPr>
        <p:blipFill>
          <a:blip r:embed="rId1"/>
          <a:stretch/>
        </p:blipFill>
        <p:spPr>
          <a:xfrm>
            <a:off x="152280" y="762120"/>
            <a:ext cx="4648320" cy="5499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6560" y="304920"/>
            <a:ext cx="426708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cc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¿Que tal si te comes un huevo crudo?     </a:t>
            </a:r>
            <a:br>
              <a:rPr sz="4000"/>
            </a:b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- Nunca, Madre!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arinha"/>
          <p:cNvPicPr/>
          <p:nvPr/>
        </p:nvPicPr>
        <p:blipFill>
          <a:blip r:embed="rId1"/>
          <a:stretch/>
        </p:blipFill>
        <p:spPr>
          <a:xfrm>
            <a:off x="533520" y="609480"/>
            <a:ext cx="4647960" cy="5448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7440" y="228600"/>
            <a:ext cx="38862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 Quieres comer un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poco de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harina de Trig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o Bicarbonato de Sodio?                                                    - Madre, eso n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me agrada, me enfermaría!</a:t>
            </a:r>
            <a:r>
              <a:rPr b="0" lang="pt-BR" sz="48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La Madre le respondió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cccc"/>
                </a:solidFill>
                <a:latin typeface="Times New Roman"/>
              </a:rPr>
              <a:t>- Es verdad, todas esas cosas  están crudas y son feas separadas...  Pero cuando las colocamos juntas, en su justa medida...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cccc"/>
                </a:solidFill>
                <a:uFillTx/>
                <a:latin typeface="Times New Roman"/>
              </a:rPr>
              <a:t>...Ellas hacen un delicioso paste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harina"/>
          <p:cNvPicPr/>
          <p:nvPr/>
        </p:nvPicPr>
        <p:blipFill>
          <a:blip r:embed="rId1"/>
          <a:stretch/>
        </p:blipFill>
        <p:spPr>
          <a:xfrm>
            <a:off x="609480" y="2241720"/>
            <a:ext cx="3062520" cy="34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bolao"/>
          <p:cNvPicPr/>
          <p:nvPr/>
        </p:nvPicPr>
        <p:blipFill>
          <a:blip r:embed="rId2"/>
          <a:stretch/>
        </p:blipFill>
        <p:spPr>
          <a:xfrm>
            <a:off x="4572000" y="2371680"/>
            <a:ext cx="428004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50532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Dios trabaja de forma similar.  La gente se pregunta, </a:t>
            </a:r>
            <a:br>
              <a:rPr sz="2200"/>
            </a:br>
            <a:r>
              <a:rPr b="1" i="1" lang="pt-BR" sz="2200" spc="-1" strike="noStrike">
                <a:solidFill>
                  <a:srgbClr val="ffff66"/>
                </a:solidFill>
                <a:latin typeface="Times New Roman"/>
              </a:rPr>
              <a:t>¿porque El permite que pasemos por momentos difíciles?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no saben que cuando El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permite que todas esas cosas entren en el orden perfecto, siempre será para hacer una obra perfecta en nuestra vida. No necesitas conformarte con ingredientes crudos, 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Deja TODO en sus manos... y se tornarán en algo</a:t>
            </a:r>
            <a:br>
              <a:rPr sz="2200"/>
            </a:br>
            <a:r>
              <a:rPr b="1" lang="pt-BR" sz="2200" spc="-1" strike="noStrike">
                <a:solidFill>
                  <a:srgbClr val="ffcccc"/>
                </a:solidFill>
                <a:latin typeface="Times New Roman"/>
              </a:rPr>
              <a:t>fantástico!</a:t>
            </a:r>
            <a:r>
              <a:rPr b="0" lang="pt-BR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sad"/>
          <p:cNvPicPr/>
          <p:nvPr/>
        </p:nvPicPr>
        <p:blipFill>
          <a:blip r:embed="rId1"/>
          <a:stretch/>
        </p:blipFill>
        <p:spPr>
          <a:xfrm>
            <a:off x="0" y="228600"/>
            <a:ext cx="55562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rimavera"/>
          <p:cNvPicPr/>
          <p:nvPr/>
        </p:nvPicPr>
        <p:blipFill>
          <a:blip r:embed="rId1"/>
          <a:stretch/>
        </p:blipFill>
        <p:spPr>
          <a:xfrm>
            <a:off x="380880" y="380880"/>
            <a:ext cx="4648320" cy="577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Dios se preocupa tanto por ti...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que te envia flores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odas las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Primaveras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unrise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4889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5028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...Hace nacer el Sol todas las mañan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cc"/>
                </a:solidFill>
                <a:latin typeface="Times New Roman"/>
              </a:rPr>
              <a:t>... y siempre que quieras conversar...                                     El está dispuesto a escucharte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ela"/>
          <p:cNvPicPr/>
          <p:nvPr/>
        </p:nvPicPr>
        <p:blipFill>
          <a:blip r:embed="rId1"/>
          <a:stretch/>
        </p:blipFill>
        <p:spPr>
          <a:xfrm>
            <a:off x="1752480" y="228600"/>
            <a:ext cx="5181840" cy="4597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oraçao"/>
          <p:cNvPicPr/>
          <p:nvPr/>
        </p:nvPicPr>
        <p:blipFill>
          <a:blip r:embed="rId1"/>
          <a:stretch/>
        </p:blipFill>
        <p:spPr>
          <a:xfrm>
            <a:off x="304920" y="685800"/>
            <a:ext cx="4192560" cy="510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8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l puede vivi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n cualquier luga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del universo...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pero escogió vivir                        en tu Corazó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Envia este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mensaje a todos 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para que                                                 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  sus  días sean como 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un “Pedazo de Pastel”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peda"/>
          <p:cNvPicPr/>
          <p:nvPr/>
        </p:nvPicPr>
        <p:blipFill>
          <a:blip r:embed="rId1"/>
          <a:stretch/>
        </p:blipFill>
        <p:spPr>
          <a:xfrm>
            <a:off x="457200" y="762120"/>
            <a:ext cx="4254480" cy="552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Que pases un Feliz Dí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torta"/>
          <p:cNvPicPr/>
          <p:nvPr/>
        </p:nvPicPr>
        <p:blipFill>
          <a:blip r:embed="rId2"/>
          <a:stretch/>
        </p:blipFill>
        <p:spPr>
          <a:xfrm>
            <a:off x="2060640" y="1447920"/>
            <a:ext cx="510228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vidro"/>
          <p:cNvPicPr/>
          <p:nvPr/>
        </p:nvPicPr>
        <p:blipFill>
          <a:blip r:embed="rId1"/>
          <a:stretch/>
        </p:blipFill>
        <p:spPr>
          <a:xfrm>
            <a:off x="1676520" y="304920"/>
            <a:ext cx="6159240" cy="4508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A veces nos preguntamos:    ¿Que hice para merec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676520" y="609480"/>
            <a:ext cx="60195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cc"/>
                </a:solidFill>
                <a:latin typeface="Times New Roman"/>
              </a:rPr>
              <a:t>DIOS DERRAME BENDICIONES SOBRE USTEDES Y SUS SERES QUERIDOS.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cc"/>
                </a:solidFill>
                <a:latin typeface="Times New Roman"/>
              </a:rPr>
              <a:t>AMEN..      AMEN…  AMEN…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grpSp>
        <p:nvGrpSpPr>
          <p:cNvPr id="83" name="AutoShape 9"/>
          <p:cNvGrpSpPr/>
          <p:nvPr/>
        </p:nvGrpSpPr>
        <p:grpSpPr>
          <a:xfrm>
            <a:off x="2120760" y="4029120"/>
            <a:ext cx="6121440" cy="2006640"/>
            <a:chOff x="2120760" y="4029120"/>
            <a:chExt cx="6121440" cy="2006640"/>
          </a:xfrm>
        </p:grpSpPr>
        <p:pic>
          <p:nvPicPr>
            <p:cNvPr id="84" name="AutoShape 9" descr=""/>
            <p:cNvPicPr/>
            <p:nvPr/>
          </p:nvPicPr>
          <p:blipFill>
            <a:blip r:embed="rId1"/>
            <a:stretch/>
          </p:blipFill>
          <p:spPr>
            <a:xfrm>
              <a:off x="2120760" y="4029120"/>
              <a:ext cx="61214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381400" y="4286160"/>
              <a:ext cx="560052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2209680" y="43434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ffcccc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ffcccc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7" name="Picture 10" descr="Hand-03-june[1]"/>
          <p:cNvPicPr/>
          <p:nvPr/>
        </p:nvPicPr>
        <p:blipFill>
          <a:blip r:embed="rId2"/>
          <a:stretch/>
        </p:blipFill>
        <p:spPr>
          <a:xfrm>
            <a:off x="1066680" y="4724280"/>
            <a:ext cx="800280" cy="615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259092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09C1-05CD-4854-8E83-1AA2C68EA579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jueves, 30 de julio de 2026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124080" y="3581280"/>
            <a:ext cx="33530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AADAC75D-4CA8-473B-8D8F-D9130C87A92F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5:48:25 p.m.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ordo"/>
          <p:cNvPicPr/>
          <p:nvPr/>
        </p:nvPicPr>
        <p:blipFill>
          <a:blip r:embed="rId1"/>
          <a:stretch/>
        </p:blipFill>
        <p:spPr>
          <a:xfrm>
            <a:off x="380880" y="304920"/>
            <a:ext cx="428004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¿Porque Dios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iene que ser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tan injusto conmi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cc"/>
                </a:solidFill>
                <a:latin typeface="Times New Roman"/>
              </a:rPr>
              <a:t>Aquí va una bellísima explic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"/>
          <p:cNvPicPr/>
          <p:nvPr/>
        </p:nvPicPr>
        <p:blipFill>
          <a:blip r:embed="rId1"/>
          <a:stretch/>
        </p:blipFill>
        <p:spPr>
          <a:xfrm>
            <a:off x="1905120" y="228600"/>
            <a:ext cx="553716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Una joven le dice a su madre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como todo le ha salido mal;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No salió bien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n el exámen de Matemática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389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7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...Su novio resolvió terminar con ella... y su mejor amiga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está de paseo en otra ciu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"/>
          <p:cNvPicPr/>
          <p:nvPr/>
        </p:nvPicPr>
        <p:blipFill>
          <a:blip r:embed="rId1"/>
          <a:stretch/>
        </p:blipFill>
        <p:spPr>
          <a:xfrm>
            <a:off x="1219320" y="76320"/>
            <a:ext cx="6692760" cy="38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cc"/>
                </a:solidFill>
                <a:latin typeface="Times New Roman"/>
              </a:rPr>
              <a:t>En horas de amargura, una madre sabe qué puede agradar a su hija...  Le preparará un sabroso pastel. En aquel momento tan dificil,                            Abrazó a su hija y la llevó a la cocina,                                        consiguiendo arrancar de su rostro una sonri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Luego que la madre separó los utensilios e ingredientes que usaría, los colocó en la mesa y preguntó a su hija: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-Querida, ¿quieres un pedazo de pastel? </a:t>
            </a:r>
            <a:br>
              <a:rPr sz="4400"/>
            </a:br>
            <a:r>
              <a:rPr b="0" lang="pt-BR" sz="4400" spc="-1" strike="noStrike">
                <a:solidFill>
                  <a:srgbClr val="ffcccc"/>
                </a:solidFill>
                <a:latin typeface="Times New Roman"/>
              </a:rPr>
              <a:t>- Claro Ma!! Sabes que me encanta el pastel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zeite"/>
          <p:cNvPicPr/>
          <p:nvPr/>
        </p:nvPicPr>
        <p:blipFill>
          <a:blip r:embed="rId1"/>
          <a:stretch/>
        </p:blipFill>
        <p:spPr>
          <a:xfrm>
            <a:off x="304920" y="990720"/>
            <a:ext cx="455436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04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Está bien,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respondió la madre.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Bebe un poco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de ese aceite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que está en la cocina!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Asustada, la hija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respondió: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- ¿Cómo dices? </a:t>
            </a:r>
            <a:br>
              <a:rPr sz="3600"/>
            </a:br>
            <a:r>
              <a:rPr b="0" lang="pt-BR" sz="3600" spc="-1" strike="noStrike">
                <a:solidFill>
                  <a:srgbClr val="ffcccc"/>
                </a:solidFill>
                <a:latin typeface="Times New Roman"/>
              </a:rPr>
              <a:t>Jamás!!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7:22Z</dcterms:created>
  <dc:creator>RLIMA</dc:creator>
  <dc:description/>
  <dc:language>en-US</dc:language>
  <cp:lastModifiedBy>RLIMA</cp:lastModifiedBy>
  <dcterms:modified xsi:type="dcterms:W3CDTF">2007-12-18T22:01:57Z</dcterms:modified>
  <cp:revision>5</cp:revision>
  <dc:subject/>
  <dc:title>UN PEDAZO DE PASTEL</dc:title>
</cp:coreProperties>
</file>