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gif" ContentType="image/gif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diosestaaqui-i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10C-896B-4995-A3F5-49DD84A6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990F-3D6C-4B42-86F9-1657D5BA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A0E8-39A8-46BE-9EBC-1F11504B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FA2-A4BD-4AA3-A7F9-36AF986D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9FD-8A32-4697-B395-94D7EAED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A17-0CDE-448F-AAAB-D4216C7E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6042-CB88-4441-800A-143BBE11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FBF-3116-4A90-83A4-37534602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552-5EC5-492E-86EF-0D56FC4F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B19-AB77-417F-874F-C5D3FB8E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B14C-CB9C-45B2-9783-75B54C5E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A67-6DB0-4B44-BE1E-F0E18630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04A3-04D8-4368-AA3D-3DECF10606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diosestaaqui-i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www.swif.uniba.it/lei/personali/zavattero/sfondo/pippo%2520torta.gif&amp;imgrefurl=http://www.swif.uniba.it/lei/personali/zavattero/sfondo/&amp;h=290&amp;w=250&amp;sz=47&amp;tbnid=D3AYaM9tRmoJ:&amp;tbnh=109&amp;tbnw=94&amp;start=1&amp;prev=/images%3Fq%3Dtorta%26hl%3Des%26lr%3D%26ie%3DUTF-8%26sa%3D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garçom"/>
          <p:cNvPicPr/>
          <p:nvPr/>
        </p:nvPicPr>
        <p:blipFill>
          <a:blip r:embed="rId1"/>
          <a:stretch/>
        </p:blipFill>
        <p:spPr>
          <a:xfrm>
            <a:off x="685800" y="0"/>
            <a:ext cx="8128080" cy="528336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2438280" y="5181480"/>
            <a:ext cx="6172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100000">
                      <a:srgbClr val="663012"/>
                    </a:gs>
                  </a:gsLst>
                  <a:lin ang="18900000"/>
                </a:gradFill>
                <a:latin typeface="Tahoma"/>
              </a:rPr>
              <a:t>¿Un pedazo de pastel...?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100000">
                    <a:srgbClr val="663012"/>
                  </a:gs>
                </a:gsLst>
                <a:lin ang="18900000"/>
              </a:gradFill>
              <a:latin typeface="Tahoma"/>
              <a:ea typeface="Tahoma"/>
            </a:endParaRPr>
          </a:p>
        </p:txBody>
      </p:sp>
      <p:pic>
        <p:nvPicPr>
          <p:cNvPr id="43" name="Picture 5" descr="1janitor1.gif"/>
          <p:cNvPicPr/>
          <p:nvPr/>
        </p:nvPicPr>
        <p:blipFill>
          <a:blip r:embed="rId2"/>
          <a:stretch/>
        </p:blipFill>
        <p:spPr>
          <a:xfrm>
            <a:off x="228600" y="480060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752480" y="6324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cc"/>
                </a:solidFill>
                <a:latin typeface="Times New Roman"/>
              </a:rPr>
              <a:t>Ya esta limpio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3" name="diosestaaqui-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ovo"/>
          <p:cNvPicPr/>
          <p:nvPr/>
        </p:nvPicPr>
        <p:blipFill>
          <a:blip r:embed="rId1"/>
          <a:stretch/>
        </p:blipFill>
        <p:spPr>
          <a:xfrm>
            <a:off x="152280" y="762120"/>
            <a:ext cx="4648320" cy="5499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76560" y="304920"/>
            <a:ext cx="426708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ffcc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0" lang="pt-BR" sz="4000" spc="-1" strike="noStrike">
                <a:solidFill>
                  <a:srgbClr val="ffcccc"/>
                </a:solidFill>
                <a:latin typeface="Times New Roman"/>
              </a:rPr>
              <a:t>¿Que tal si te comes un huevo crudo?     </a:t>
            </a:r>
            <a:br>
              <a:rPr sz="4000"/>
            </a:br>
            <a:r>
              <a:rPr b="0" lang="pt-BR" sz="4000" spc="-1" strike="noStrike">
                <a:solidFill>
                  <a:srgbClr val="ffcccc"/>
                </a:solidFill>
                <a:latin typeface="Times New Roman"/>
              </a:rPr>
              <a:t>- Nunca, Madre!</a:t>
            </a: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arinha"/>
          <p:cNvPicPr/>
          <p:nvPr/>
        </p:nvPicPr>
        <p:blipFill>
          <a:blip r:embed="rId1"/>
          <a:stretch/>
        </p:blipFill>
        <p:spPr>
          <a:xfrm>
            <a:off x="533520" y="609480"/>
            <a:ext cx="4647960" cy="54486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57440" y="228600"/>
            <a:ext cx="38862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- Quieres comer un </a:t>
            </a:r>
            <a:br>
              <a:rPr sz="3600"/>
            </a:b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poco de </a:t>
            </a:r>
            <a:br>
              <a:rPr sz="3600"/>
            </a:b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harina de Trigo </a:t>
            </a:r>
            <a:br>
              <a:rPr sz="3600"/>
            </a:b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o Bicarbonato de Sodio?                                                    - Madre, eso no </a:t>
            </a:r>
            <a:br>
              <a:rPr sz="3600"/>
            </a:b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me agrada, me enfermaría!</a:t>
            </a:r>
            <a:r>
              <a:rPr b="0" lang="pt-BR" sz="4800" spc="-1" strike="noStrike">
                <a:solidFill>
                  <a:srgbClr val="ffcc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cccc"/>
                </a:solidFill>
                <a:latin typeface="Times New Roman"/>
              </a:rPr>
              <a:t>La Madre le respondió: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ffcccc"/>
                </a:solidFill>
                <a:latin typeface="Times New Roman"/>
              </a:rPr>
              <a:t>- Es verdad, todas esas cosas  están crudas y son feas separadas...  Pero cuando las colocamos juntas, en su justa medida...</a:t>
            </a: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cccc"/>
                </a:solidFill>
                <a:uFillTx/>
                <a:latin typeface="Times New Roman"/>
              </a:rPr>
              <a:t>...Ellas hacen un delicioso paste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harina"/>
          <p:cNvPicPr/>
          <p:nvPr/>
        </p:nvPicPr>
        <p:blipFill>
          <a:blip r:embed="rId1"/>
          <a:stretch/>
        </p:blipFill>
        <p:spPr>
          <a:xfrm>
            <a:off x="609480" y="2241720"/>
            <a:ext cx="3062520" cy="347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bolao"/>
          <p:cNvPicPr/>
          <p:nvPr/>
        </p:nvPicPr>
        <p:blipFill>
          <a:blip r:embed="rId2"/>
          <a:stretch/>
        </p:blipFill>
        <p:spPr>
          <a:xfrm>
            <a:off x="4572000" y="2371680"/>
            <a:ext cx="4280040" cy="3343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38320" y="228600"/>
            <a:ext cx="350532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cc"/>
                </a:solidFill>
                <a:latin typeface="Times New Roman"/>
              </a:rPr>
              <a:t>Dios trabaja de forma similar.  La gente se pregunta, </a:t>
            </a:r>
            <a:br>
              <a:rPr sz="2200"/>
            </a:br>
            <a:r>
              <a:rPr b="1" i="1" lang="pt-BR" sz="2200" spc="-1" strike="noStrike">
                <a:solidFill>
                  <a:srgbClr val="ffff66"/>
                </a:solidFill>
                <a:latin typeface="Times New Roman"/>
              </a:rPr>
              <a:t>¿porque El permite que pasemos por momentos difíciles? </a:t>
            </a:r>
            <a:br>
              <a:rPr sz="2200"/>
            </a:br>
            <a:r>
              <a:rPr b="1" lang="pt-BR" sz="2200" spc="-1" strike="noStrike">
                <a:solidFill>
                  <a:srgbClr val="ffcccc"/>
                </a:solidFill>
                <a:latin typeface="Times New Roman"/>
              </a:rPr>
              <a:t>no saben que cuando El </a:t>
            </a:r>
            <a:br>
              <a:rPr sz="2200"/>
            </a:br>
            <a:r>
              <a:rPr b="1" lang="pt-BR" sz="2200" spc="-1" strike="noStrike">
                <a:solidFill>
                  <a:srgbClr val="ffcccc"/>
                </a:solidFill>
                <a:latin typeface="Times New Roman"/>
              </a:rPr>
              <a:t>permite que todas esas cosas entren en el orden perfecto, siempre será para hacer una obra perfecta en nuestra vida. No necesitas conformarte con ingredientes crudos, </a:t>
            </a:r>
            <a:br>
              <a:rPr sz="2200"/>
            </a:br>
            <a:r>
              <a:rPr b="1" lang="pt-BR" sz="2200" spc="-1" strike="noStrike">
                <a:solidFill>
                  <a:srgbClr val="ffcccc"/>
                </a:solidFill>
                <a:latin typeface="Times New Roman"/>
              </a:rPr>
              <a:t>Deja TODO en sus manos... y se tornarán en algo</a:t>
            </a:r>
            <a:br>
              <a:rPr sz="2200"/>
            </a:br>
            <a:r>
              <a:rPr b="1" lang="pt-BR" sz="2200" spc="-1" strike="noStrike">
                <a:solidFill>
                  <a:srgbClr val="ffcccc"/>
                </a:solidFill>
                <a:latin typeface="Times New Roman"/>
              </a:rPr>
              <a:t>fantástico!</a:t>
            </a:r>
            <a:r>
              <a:rPr b="0" lang="pt-BR" sz="24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sad"/>
          <p:cNvPicPr/>
          <p:nvPr/>
        </p:nvPicPr>
        <p:blipFill>
          <a:blip r:embed="rId1"/>
          <a:stretch/>
        </p:blipFill>
        <p:spPr>
          <a:xfrm>
            <a:off x="0" y="228600"/>
            <a:ext cx="5556240" cy="5867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rimavera"/>
          <p:cNvPicPr/>
          <p:nvPr/>
        </p:nvPicPr>
        <p:blipFill>
          <a:blip r:embed="rId1"/>
          <a:stretch/>
        </p:blipFill>
        <p:spPr>
          <a:xfrm>
            <a:off x="380880" y="380880"/>
            <a:ext cx="4648320" cy="577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0" y="0"/>
            <a:ext cx="41148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Dios se preocupa tanto por ti... 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que te envia flores 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todas las 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Primaveras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sunrise"/>
          <p:cNvPicPr/>
          <p:nvPr/>
        </p:nvPicPr>
        <p:blipFill>
          <a:blip r:embed="rId1"/>
          <a:stretch/>
        </p:blipFill>
        <p:spPr>
          <a:xfrm>
            <a:off x="533520" y="380880"/>
            <a:ext cx="8127720" cy="4889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5028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...Hace nacer el Sol todas las mañana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cc"/>
                </a:solidFill>
                <a:latin typeface="Times New Roman"/>
              </a:rPr>
              <a:t>... y siempre que quieras conversar...                                     El está dispuesto a escucharte!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bela"/>
          <p:cNvPicPr/>
          <p:nvPr/>
        </p:nvPicPr>
        <p:blipFill>
          <a:blip r:embed="rId1"/>
          <a:stretch/>
        </p:blipFill>
        <p:spPr>
          <a:xfrm>
            <a:off x="1752480" y="228600"/>
            <a:ext cx="5181840" cy="4597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oraçao"/>
          <p:cNvPicPr/>
          <p:nvPr/>
        </p:nvPicPr>
        <p:blipFill>
          <a:blip r:embed="rId1"/>
          <a:stretch/>
        </p:blipFill>
        <p:spPr>
          <a:xfrm>
            <a:off x="304920" y="685800"/>
            <a:ext cx="4192560" cy="5105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8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El puede vivir 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en cualquier lugar 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del universo... 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pero escogió vivir                        en tu Corazó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23920" y="-360"/>
            <a:ext cx="441972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Envia este </a:t>
            </a:r>
            <a:br>
              <a:rPr sz="3200"/>
            </a:b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mensaje a todos  </a:t>
            </a:r>
            <a:br>
              <a:rPr sz="3200"/>
            </a:b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para que                                                  </a:t>
            </a:r>
            <a:br>
              <a:rPr sz="3200"/>
            </a:b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  sus  días sean como </a:t>
            </a:r>
            <a:br>
              <a:rPr sz="3200"/>
            </a:b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un “Pedazo de Pastel”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peda"/>
          <p:cNvPicPr/>
          <p:nvPr/>
        </p:nvPicPr>
        <p:blipFill>
          <a:blip r:embed="rId1"/>
          <a:stretch/>
        </p:blipFill>
        <p:spPr>
          <a:xfrm>
            <a:off x="457200" y="762120"/>
            <a:ext cx="4254480" cy="5524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Que pases un Feliz Día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9" descr="torta"/>
          <p:cNvPicPr/>
          <p:nvPr/>
        </p:nvPicPr>
        <p:blipFill>
          <a:blip r:embed="rId2"/>
          <a:stretch/>
        </p:blipFill>
        <p:spPr>
          <a:xfrm>
            <a:off x="2060640" y="1447920"/>
            <a:ext cx="5102280" cy="4522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vidro"/>
          <p:cNvPicPr/>
          <p:nvPr/>
        </p:nvPicPr>
        <p:blipFill>
          <a:blip r:embed="rId1"/>
          <a:stretch/>
        </p:blipFill>
        <p:spPr>
          <a:xfrm>
            <a:off x="1676520" y="304920"/>
            <a:ext cx="6159240" cy="4508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A veces nos preguntamos:    ¿Que hice para merecer es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1676520" y="609480"/>
            <a:ext cx="60195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cc"/>
                </a:solidFill>
                <a:latin typeface="Times New Roman"/>
              </a:rPr>
              <a:t>DIOS DERRAME BENDICIONES SOBRE USTEDES Y SUS SERES QUERIDOS.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cc"/>
                </a:solidFill>
                <a:latin typeface="Times New Roman"/>
              </a:rPr>
              <a:t>AMEN..      AMEN…  AMEN…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grpSp>
        <p:nvGrpSpPr>
          <p:cNvPr id="83" name="AutoShape 9"/>
          <p:cNvGrpSpPr/>
          <p:nvPr/>
        </p:nvGrpSpPr>
        <p:grpSpPr>
          <a:xfrm>
            <a:off x="2120760" y="4029120"/>
            <a:ext cx="6121440" cy="2006640"/>
            <a:chOff x="2120760" y="4029120"/>
            <a:chExt cx="6121440" cy="2006640"/>
          </a:xfrm>
        </p:grpSpPr>
        <p:pic>
          <p:nvPicPr>
            <p:cNvPr id="84" name="AutoShape 9" descr=""/>
            <p:cNvPicPr/>
            <p:nvPr/>
          </p:nvPicPr>
          <p:blipFill>
            <a:blip r:embed="rId1"/>
            <a:stretch/>
          </p:blipFill>
          <p:spPr>
            <a:xfrm>
              <a:off x="2120760" y="4029120"/>
              <a:ext cx="612144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381400" y="4286160"/>
              <a:ext cx="560052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cc"/>
                </a:solidFill>
                <a:latin typeface="Times New Roman"/>
              </a:endParaRPr>
            </a:p>
          </p:txBody>
        </p:sp>
      </p:grpSp>
      <p:sp>
        <p:nvSpPr>
          <p:cNvPr id="86" name="Rectangle 7"/>
          <p:cNvSpPr/>
          <p:nvPr/>
        </p:nvSpPr>
        <p:spPr>
          <a:xfrm>
            <a:off x="2209680" y="43434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4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i="1" lang="nb-NO" sz="2400" spc="-1" strike="noStrike">
                <a:solidFill>
                  <a:srgbClr val="ffcccc"/>
                </a:solidFill>
                <a:latin typeface="Times New Roman"/>
              </a:rPr>
              <a:t>SI TE GUSTO POR FAVOR PASALO A OTROS , </a:t>
            </a:r>
            <a:r>
              <a:rPr b="1" i="1" lang="nb-NO" sz="3200" spc="-1" strike="noStrike">
                <a:solidFill>
                  <a:srgbClr val="ffcccc"/>
                </a:solidFill>
                <a:latin typeface="Times New Roman"/>
              </a:rPr>
              <a:t>DIOS TE BENDIGA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pic>
        <p:nvPicPr>
          <p:cNvPr id="87" name="Picture 10" descr="Hand-03-june[1]"/>
          <p:cNvPicPr/>
          <p:nvPr/>
        </p:nvPicPr>
        <p:blipFill>
          <a:blip r:embed="rId2"/>
          <a:stretch/>
        </p:blipFill>
        <p:spPr>
          <a:xfrm>
            <a:off x="1066680" y="4724280"/>
            <a:ext cx="800280" cy="6159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2"/>
          <p:cNvSpPr/>
          <p:nvPr/>
        </p:nvSpPr>
        <p:spPr>
          <a:xfrm>
            <a:off x="259092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104E-9DD2-41CE-B36D-8222B93C3CF1}" type="datetime2">
              <a:rPr b="1" lang="es-UY" sz="2400" spc="-1" strike="noStrike">
                <a:solidFill>
                  <a:srgbClr val="000000"/>
                </a:solidFill>
                <a:latin typeface="Times New Roman"/>
              </a:rPr>
              <a:t>jueves, 30 de julio de 2026</a:t>
            </a:fld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3124080" y="3581280"/>
            <a:ext cx="3353040" cy="4597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Times New Roman"/>
              </a:rPr>
              <a:t>Son las  </a:t>
            </a:r>
            <a:fld id="{2A2E453C-AD9F-4C50-A357-521262004DF6}" type="datetime13">
              <a:rPr b="1" lang="es-UY" sz="2400" spc="-1" strike="noStrike">
                <a:solidFill>
                  <a:srgbClr val="000000"/>
                </a:solidFill>
                <a:latin typeface="Times New Roman"/>
              </a:rPr>
              <a:t>05:45:13 p.m.</a:t>
            </a:fld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gordo"/>
          <p:cNvPicPr/>
          <p:nvPr/>
        </p:nvPicPr>
        <p:blipFill>
          <a:blip r:embed="rId1"/>
          <a:stretch/>
        </p:blipFill>
        <p:spPr>
          <a:xfrm>
            <a:off x="380880" y="304920"/>
            <a:ext cx="4280040" cy="6006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41148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¿Porque Dios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tiene que ser 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tan injusto conmi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cccc"/>
                </a:solidFill>
                <a:latin typeface="Times New Roman"/>
              </a:rPr>
              <a:t>Aquí va una bellísima explicació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1"/>
          <p:cNvPicPr/>
          <p:nvPr/>
        </p:nvPicPr>
        <p:blipFill>
          <a:blip r:embed="rId1"/>
          <a:stretch/>
        </p:blipFill>
        <p:spPr>
          <a:xfrm>
            <a:off x="1905120" y="228600"/>
            <a:ext cx="5537160" cy="3276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426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Una joven le dice a su madre 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como todo le ha salido mal; 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No salió bien 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en el exámen de Matemática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2"/>
          <p:cNvPicPr/>
          <p:nvPr/>
        </p:nvPicPr>
        <p:blipFill>
          <a:blip r:embed="rId1"/>
          <a:stretch/>
        </p:blipFill>
        <p:spPr>
          <a:xfrm>
            <a:off x="1143000" y="228600"/>
            <a:ext cx="6553080" cy="3890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7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...Su novio resolvió terminar con ella... y su mejor amiga 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está de paseo en otra ciud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3"/>
          <p:cNvPicPr/>
          <p:nvPr/>
        </p:nvPicPr>
        <p:blipFill>
          <a:blip r:embed="rId1"/>
          <a:stretch/>
        </p:blipFill>
        <p:spPr>
          <a:xfrm>
            <a:off x="1219320" y="76320"/>
            <a:ext cx="6692760" cy="3835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cc"/>
                </a:solidFill>
                <a:latin typeface="Times New Roman"/>
              </a:rPr>
              <a:t>En horas de amargura, una madre sabe qué puede agradar a su hija...  Le preparará un sabroso pastel. En aquel momento tan dificil,                            Abrazó a su hija y la llevó a la cocina,                                        consiguiendo arrancar de su rostro una sonri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Luego que la madre separó los utensilios e ingredientes que usaría, los colocó en la mesa y preguntó a su hija: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-Querida, ¿quieres un pedazo de pastel? 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- Claro Ma!! Sabes que me encanta el pastel 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azeite"/>
          <p:cNvPicPr/>
          <p:nvPr/>
        </p:nvPicPr>
        <p:blipFill>
          <a:blip r:embed="rId1"/>
          <a:stretch/>
        </p:blipFill>
        <p:spPr>
          <a:xfrm>
            <a:off x="304920" y="990720"/>
            <a:ext cx="4554360" cy="5181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004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-Está bien, </a:t>
            </a:r>
            <a:br>
              <a:rPr sz="3600"/>
            </a:b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respondió la madre. </a:t>
            </a:r>
            <a:br>
              <a:rPr sz="3600"/>
            </a:b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Bebe un poco </a:t>
            </a:r>
            <a:br>
              <a:rPr sz="3600"/>
            </a:b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de ese aceite </a:t>
            </a:r>
            <a:br>
              <a:rPr sz="3600"/>
            </a:b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que está en la cocina!</a:t>
            </a:r>
            <a:br>
              <a:rPr sz="3600"/>
            </a:b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Asustada, la hija</a:t>
            </a:r>
            <a:br>
              <a:rPr sz="3600"/>
            </a:b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respondió:</a:t>
            </a:r>
            <a:br>
              <a:rPr sz="3600"/>
            </a:b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- ¿Cómo dices? </a:t>
            </a:r>
            <a:br>
              <a:rPr sz="3600"/>
            </a:b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Jamás!!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21:27:22Z</dcterms:created>
  <dc:creator>RLIMA</dc:creator>
  <dc:description/>
  <dc:language>en-US</dc:language>
  <cp:lastModifiedBy>RLIMA</cp:lastModifiedBy>
  <dcterms:modified xsi:type="dcterms:W3CDTF">2007-12-18T22:01:57Z</dcterms:modified>
  <cp:revision>5</cp:revision>
  <dc:subject/>
  <dc:title>UN PEDAZO DE PASTEL</dc:title>
</cp:coreProperties>
</file>