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Ernesto%20Cortazar%20Eternity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8594640" y="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0" y="318456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8594640" y="318456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7"/>
          <a:stretch/>
        </p:blipFill>
        <p:spPr>
          <a:xfrm>
            <a:off x="0" y="630864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8594640" y="630864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4251240" y="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4251240" y="630864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8432">
                <a:moveTo>
                  <a:pt x="0" y="0"/>
                </a:moveTo>
                <a:lnTo>
                  <a:pt x="0" y="26"/>
                </a:lnTo>
                <a:lnTo>
                  <a:pt x="0" y="26"/>
                </a:lnTo>
                <a:lnTo>
                  <a:pt x="0" y="264"/>
                </a:lnTo>
                <a:lnTo>
                  <a:pt x="0" y="8431"/>
                </a:lnTo>
                <a:lnTo>
                  <a:pt x="0" y="843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nesto%20Cortazar%20Eternit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19800000">
            <a:off x="-102240" y="44028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0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3399"/>
                </a:solidFill>
                <a:latin typeface="Script MT Bold"/>
                <a:ea typeface="HG Mincho Light J"/>
              </a:rPr>
              <a:t>Ama al hombre que te am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58760"/>
            <a:ext cx="7886520" cy="998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ma al hombre que te llame "bonita" en lugar de "sexy"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966960"/>
            <a:ext cx="78865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te llame aun cuando le colgaste el teléfon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643040"/>
            <a:ext cx="788652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se quede despierto sólo para verte dorm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037320"/>
            <a:ext cx="78865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quiera enseñarte al mundo cuando estés desarreglad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3747600"/>
            <a:ext cx="788688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no le importe si engordaste o adelgazaste con el transcurrir de los añ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5106960"/>
            <a:ext cx="78868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te diga "que quieres comer hoy, que yo cocino"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640" y="5865120"/>
            <a:ext cx="7886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tome tu mano frente a sus amigos…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421720"/>
            <a:ext cx="788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 que bese tu fre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16000"/>
            <a:ext cx="78073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Espera al que te diga constantemente cuánto le importas y lo suertudo que es por tener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71960"/>
            <a:ext cx="780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Y que cuando te presente a sus amigos diga: "Es ella..."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9080" y="4581000"/>
            <a:ext cx="7807320" cy="12639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5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Espera al que te diga constantemente cuánto le importas y lo suertudo que es por tener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8160" y="6206760"/>
            <a:ext cx="7337520" cy="6699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Manda esto a 15 personas en 15 minutos para continuar con la cadena y disípate del estrés emo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-69480"/>
            <a:ext cx="716256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Si abriste esto tienes que reenviarlo pues tiene </a:t>
            </a:r>
            <a:br>
              <a:rPr sz="3000"/>
            </a:b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un hechizo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314360"/>
            <a:ext cx="71625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 la medianoche de hoy, tu amor te dará una sorpres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3760" y="3330720"/>
            <a:ext cx="7223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sí que prepárate para el más grande shock de tu vid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96600"/>
            <a:ext cx="716256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Si rompes esta cadena, tendrás una maldición en los problemas amorosos; en el momento más importante de tu vid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8920" y="2309760"/>
            <a:ext cx="71629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99"/>
                </a:solidFill>
                <a:latin typeface="Palatino Linotype"/>
                <a:ea typeface="HG Mincho Light J"/>
              </a:rPr>
              <a:t>Algo bueno pasará, podría estar en cualquier lad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800000">
            <a:off x="-556920" y="56124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0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00"/>
                </a:solidFill>
                <a:latin typeface="Script MT Bold"/>
                <a:ea typeface="HG Mincho Light J"/>
              </a:rPr>
              <a:t>Dios te Bendiga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