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9.jpeg" ContentType="image/jpeg"/>
  <Override PartName="/ppt/media/MUSICA%20CRISTIANA%20-%20Wilkins%20-%20%20Como%20No%20Creer%20En%20Dio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FB0-A769-40D0-B16C-9AC9B144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4E4-D0A9-4C2A-9EA0-7BA2DB4D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DB1-1522-4778-B734-91460221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0BB-8A96-4609-A87E-9983F38D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47A-FD37-473B-8454-A4EE80F9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5B5-5DC1-477D-BA33-901D4860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902-FDAD-4C30-8EC7-5531B276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A1F-3DDE-432E-8AD5-06C8E51A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FDB-D101-44F7-B323-3940EBE0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F6C-14B1-441A-A196-E467DCC1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DE1-E5E8-43A8-B9E7-E5AD2721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6E2-8C02-42FE-A4EB-2335E7D6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11E8-51C4-4025-B14E-87578636F4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ylvetterivera1@hotmail.com" TargetMode="External"/><Relationship Id="rId3" Type="http://schemas.openxmlformats.org/officeDocument/2006/relationships/hyperlink" Target="mailto:Sylvetterivera1@hotmail.com" TargetMode="External"/><Relationship Id="rId4" Type="http://schemas.openxmlformats.org/officeDocument/2006/relationships/hyperlink" Target="mailto:sylvetterivera@gmail.com" TargetMode="External"/><Relationship Id="rId5" Type="http://schemas.openxmlformats.org/officeDocument/2006/relationships/hyperlink" Target="http://www.sylvetterivera.com/" TargetMode="External"/><Relationship Id="rId6" Type="http://schemas.openxmlformats.org/officeDocument/2006/relationships/hyperlink" Target="http://www.law.cornell.edu/uscode/17/107.shtml" TargetMode="Externa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MUSICA%20CRISTIANA%20-%20Wilkins%20-%20%20Como%20No%20Creer%20En%20Dio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838080" y="228600"/>
            <a:ext cx="107442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800000"/>
                </a:solidFill>
                <a:latin typeface="Arial"/>
              </a:rPr>
              <a:t>Esta presentación es solo para su recreación, en mi interés de llevar un mensaje de paz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800000"/>
                </a:solidFill>
                <a:latin typeface="Arial"/>
              </a:rPr>
              <a:t>amor y alegría a través de la música  y los fotomontajes que cre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 u="sng">
                <a:solidFill>
                  <a:srgbClr val="800000"/>
                </a:solidFill>
                <a:uFillTx/>
                <a:latin typeface="Arial"/>
              </a:rPr>
              <a:t>NO</a:t>
            </a:r>
            <a:r>
              <a:rPr b="1" i="1" lang="es-ES" sz="1600" spc="-1" strike="noStrike">
                <a:solidFill>
                  <a:srgbClr val="800000"/>
                </a:solidFill>
                <a:latin typeface="Arial"/>
              </a:rPr>
              <a:t> debe utilizarse  para fines comercial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800000"/>
                </a:solidFill>
                <a:latin typeface="Arial"/>
              </a:rPr>
              <a:t>Tampoco debe ser alterado o modificado, sin autorizació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1371600"/>
            <a:ext cx="31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1400" spc="-1" strike="noStrike">
                <a:solidFill>
                  <a:srgbClr val="800000"/>
                </a:solidFill>
                <a:latin typeface="Arial"/>
              </a:rPr>
              <a:t>Copyright </a:t>
            </a: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©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2007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Script MT Bold"/>
                <a:ea typeface="Arial"/>
              </a:rPr>
              <a:t>Sylvette Riv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8120"/>
            <a:ext cx="304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Arial"/>
              </a:rPr>
              <a:t>**Se preparan presentaciones person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Arial"/>
              </a:rPr>
              <a:t>Para información favor escribirme a mi correo electrónic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495680"/>
            <a:ext cx="3124080" cy="1372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4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Sylvetterivera1</a:t>
            </a:r>
            <a:r>
              <a:rPr b="0" lang="es-PR" sz="14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@hotmail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4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sylvetterivera@gmail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4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www.sylvetterivera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6172200"/>
            <a:ext cx="1981440" cy="3808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0000"/>
                </a:solidFill>
                <a:latin typeface="Arial"/>
              </a:rPr>
              <a:t>Presiona para comenz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4267080"/>
            <a:ext cx="3962160" cy="1736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dfd293"/>
                </a:solidFill>
                <a:uFillTx/>
                <a:latin typeface="Arial"/>
              </a:rPr>
              <a:t>DISCLAIM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293"/>
                </a:solidFill>
                <a:latin typeface="Arial"/>
              </a:rPr>
              <a:t>In accordance with Title 17 U.S.C. Section 107, any copyrighted work in this message is distributed under fair use without profit or payment for non-profit research and educational or criticism purposes on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99"/>
                </a:solidFill>
                <a:uFillTx/>
                <a:latin typeface="Arial"/>
                <a:hlinkClick r:id="rId6"/>
              </a:rPr>
              <a:t>http://www.law.cornell.edu/uscode/17/107.s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NO COPYRIGHT INFRINGEMENT DONE HERE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26280" y="4037040"/>
            <a:ext cx="53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En la risa de un niño por la calle,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o en la tierna caricia de una madr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5600" y="48769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Como n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43200" y="159912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Como no creer en Dios,</a:t>
            </a: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96600" y="198108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si está en las viñas y en el manso trigo.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17640" y="159912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72200" y="1981080"/>
            <a:ext cx="57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si me dio la mano abierta de un a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28800" y="411372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4840" y="4495680"/>
            <a:ext cx="55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si me ha dado la tristeza y la alegría.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00200" y="1675080"/>
            <a:ext cx="58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De saber que hay un mañana cada día, </a:t>
            </a:r>
            <a:br>
              <a:rPr sz="2400"/>
            </a:b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por la fe, por la esperanza y el am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5600" y="243828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o n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8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8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28800" y="121824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16002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si me ha dado la tristez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y la alegría.</a:t>
            </a:r>
            <a:r>
              <a:rPr b="1" i="1" lang="en-US" sz="2400" spc="-1" strike="noStrike">
                <a:solidFill>
                  <a:srgbClr val="ffff2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2741760"/>
            <a:ext cx="58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De saber que hay un mañana cada día, </a:t>
            </a:r>
            <a:br>
              <a:rPr sz="2400"/>
            </a:b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por la fe, por la esperanza y el am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8000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95480" y="10666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o no cree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93680" y="144792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me ha dado los hijos y la vi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7440" y="33526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me ha dado la mujer quer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895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o no cree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96960" y="1141920"/>
            <a:ext cx="59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si está en las viñas y en el manso trigo.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95880" y="2437200"/>
            <a:ext cx="57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si me dio la mano abierta de un a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762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2057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371600" y="1676520"/>
            <a:ext cx="632448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9900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Script MT Bold"/>
              </a:rPr>
              <a:t>Como no creer en Dios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009900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48" name=""/>
          <p:cNvSpPr/>
          <p:nvPr/>
        </p:nvSpPr>
        <p:spPr>
          <a:xfrm>
            <a:off x="1778760" y="2590920"/>
            <a:ext cx="53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3200" spc="-1" strike="noStrike">
                <a:solidFill>
                  <a:srgbClr val="ffffff"/>
                </a:solidFill>
                <a:latin typeface="Script MT Bold"/>
              </a:rPr>
              <a:t>Autor e Intérprete: Wilk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052360" y="114192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si me ha dado los hijos y la vi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55000" y="220860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si me ha dado la mujer quer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762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o no creer en Di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18288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Como no creer en Di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3276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5d"/>
                </a:solidFill>
                <a:latin typeface="Arial"/>
              </a:rPr>
              <a:t>Como no creer en Di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240" y="3656160"/>
            <a:ext cx="32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5d"/>
                </a:solidFill>
                <a:latin typeface="Arial"/>
              </a:rPr>
              <a:t>si está en las viñas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5d"/>
                </a:solidFill>
                <a:latin typeface="Arial"/>
              </a:rPr>
              <a:t>en el manso trigo.</a:t>
            </a:r>
            <a:r>
              <a:rPr b="0" lang="en-US" sz="1800" spc="-1" strike="noStrike">
                <a:solidFill>
                  <a:srgbClr val="ffff5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76520" y="121824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Yo te llevo, desde niño, muy adentr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2920" y="16765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Te he encontraba en el pájaro y la fl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/>
    <p:sndAc>
      <p:stSnd>
        <p:snd r:embed="rId2" name="MUSICA%20CRISTIANA%20-%20Wilkins%20-%20%20Como%20No%20Creer%20En%20Dio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69520" y="3579480"/>
            <a:ext cx="54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5d"/>
                </a:solidFill>
                <a:latin typeface="Arial"/>
              </a:rPr>
              <a:t>En la lluvia, en la tierra y el silencio, </a:t>
            </a:r>
            <a:br>
              <a:rPr sz="2400"/>
            </a:br>
            <a:r>
              <a:rPr b="1" i="1" lang="es-PR" sz="2400" spc="-1" strike="noStrike">
                <a:solidFill>
                  <a:srgbClr val="ffff5d"/>
                </a:solidFill>
                <a:latin typeface="Arial"/>
              </a:rPr>
              <a:t>y en mis sueños c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5d"/>
                </a:solidFill>
                <a:latin typeface="Arial"/>
              </a:rPr>
              <a:t>noche estabas tú.</a:t>
            </a:r>
            <a:r>
              <a:rPr b="1" i="1" lang="en-US" sz="2400" spc="-1" strike="noStrike">
                <a:solidFill>
                  <a:srgbClr val="ffff5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1080" y="1217880"/>
            <a:ext cx="70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5d"/>
                </a:solidFill>
                <a:latin typeface="Arial"/>
              </a:rPr>
              <a:t>Desde entonces, quiero darte siempre gracias, </a:t>
            </a:r>
            <a:br>
              <a:rPr sz="2400"/>
            </a:br>
            <a:r>
              <a:rPr b="1" i="1" lang="en-US" sz="2400" spc="-1" strike="noStrike">
                <a:solidFill>
                  <a:srgbClr val="ffff5d"/>
                </a:solidFill>
                <a:latin typeface="Arial"/>
              </a:rPr>
              <a:t>porque puedo darme cuenta de tu am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2025360"/>
            <a:ext cx="544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ff"/>
                </a:solidFill>
                <a:latin typeface="Arial"/>
              </a:rPr>
              <a:t>Beberé de tu cuerpo y de tu sangre, </a:t>
            </a:r>
            <a:br>
              <a:rPr sz="2400"/>
            </a:br>
            <a:r>
              <a:rPr b="1" i="1" lang="es-PR" sz="2400" spc="-1" strike="noStrike">
                <a:solidFill>
                  <a:srgbClr val="ffffff"/>
                </a:solidFill>
                <a:latin typeface="Arial"/>
              </a:rPr>
              <a:t>y por siempre te daré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81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800" spc="-1" strike="noStrike">
                <a:solidFill>
                  <a:srgbClr val="ffffff"/>
                </a:solidFill>
                <a:latin typeface="Arial"/>
              </a:rPr>
              <a:t>Mi coraz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1553040"/>
            <a:ext cx="49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ccc"/>
                </a:solidFill>
                <a:latin typeface="Arial"/>
              </a:rPr>
              <a:t>Como no creer en Dios,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2360" y="190512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ccc"/>
                </a:solidFill>
                <a:latin typeface="Arial"/>
              </a:rPr>
              <a:t>si me ha dado los hijos y la vida.</a:t>
            </a:r>
            <a:r>
              <a:rPr b="1" lang="en-US" sz="2400" spc="-1" strike="noStrike">
                <a:solidFill>
                  <a:srgbClr val="005c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744640" y="190404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0840" y="228600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me ha dado la mujer queri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96600" y="5104080"/>
            <a:ext cx="60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omo no creer en Dios, 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si lo siento en mi pecho a cada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20:47:07Z</dcterms:created>
  <dc:creator>Sylvette E. Rivera</dc:creator>
  <dc:description/>
  <dc:language>en-US</dc:language>
  <cp:lastModifiedBy>Sylvette Rivera</cp:lastModifiedBy>
  <dcterms:modified xsi:type="dcterms:W3CDTF">2007-03-08T04:44:16Z</dcterms:modified>
  <cp:revision>19</cp:revision>
  <dc:subject/>
  <dc:title>Diapositiva 1</dc:title>
</cp:coreProperties>
</file>