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23.jpeg" ContentType="image/jpeg"/>
  <Override PartName="/ppt/media/Marine%20Life.wav" ContentType="audio/x-wav"/>
  <Override PartName="/ppt/media/image15.jpeg" ContentType="image/jpeg"/>
  <Override PartName="/ppt/media/image13.jpeg" ContentType="image/jpeg"/>
  <Override PartName="/ppt/media/image14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2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E4D5-C868-4144-9F16-ED2B1DA19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A693-3856-4528-BB21-1C0DEF127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CD93-0EDE-47B3-9447-44882799F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9F6F-1B87-4030-8AAE-FB9AC9D5A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445D-CE36-469B-A011-1316618C3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D6ED-9820-4418-B780-31E9E0829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931B-F1FA-4ABA-A0C3-C0050F677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14E8-8583-49BC-88ED-CF87FAAA7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1CC0-7653-48DF-A0A0-4249E88DB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3E5A-AC4E-467D-921B-D8E2DF89D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88DA-8369-4F0B-855B-3551A85AF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6B48-A521-4C94-A85E-3AF3484A2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87c"/>
            </a:gs>
            <a:gs pos="100000">
              <a:srgbClr val="70be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F193E-A3FE-47F2-A77E-FDE82B55D973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Marine%20Life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87c"/>
            </a:gs>
            <a:gs pos="100000">
              <a:srgbClr val="70be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00000" y="1139760"/>
            <a:ext cx="74883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800" spc="-1" strike="noStrike" u="sng">
                <a:solidFill>
                  <a:srgbClr val="66ff66"/>
                </a:solidFill>
                <a:uFillTx/>
                <a:latin typeface="Harrington"/>
              </a:rPr>
              <a:t>El Valor de un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800" spc="-1" strike="noStrike" u="sng">
                <a:solidFill>
                  <a:srgbClr val="66ff66"/>
                </a:solidFill>
                <a:uFillTx/>
                <a:latin typeface="Harrington"/>
              </a:rPr>
              <a:t>TE QUIERO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  <p:sndAc>
      <p:stSnd>
        <p:snd r:embed="rId1" name="Marine%20Lif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3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87c"/>
            </a:gs>
            <a:gs pos="100000">
              <a:srgbClr val="70be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-2844720" y="0"/>
            <a:ext cx="7489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La Meridien Res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Bora Bo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Tahiti French Polynes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08000" y="390600"/>
            <a:ext cx="633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Un Amigo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Kristen ITC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Kristen ITC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a).. Te acepta tal cual eres          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87c"/>
            </a:gs>
            <a:gs pos="100000">
              <a:srgbClr val="70be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716360" y="0"/>
            <a:ext cx="741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Manly Bea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Sydn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Austral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0" y="115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b).. Cree en 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 </a:t>
            </a: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c).. No se rinde contig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87c"/>
            </a:gs>
            <a:gs pos="100000">
              <a:srgbClr val="70be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755640" y="0"/>
            <a:ext cx="763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Tropical Beach &amp; Sea near Durn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Scotl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835280" y="1052640"/>
            <a:ext cx="608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d).. Admira to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 </a:t>
            </a: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las partes de tu persona (incluso las partes inacabada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e).. Perdona tus erro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        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87c"/>
            </a:gs>
            <a:gs pos="100000">
              <a:srgbClr val="70be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581800" y="0"/>
            <a:ext cx="53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Nassa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Baham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6000" y="260280"/>
            <a:ext cx="5165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f).. Se entrega incondicionalme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         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g).. Te ayu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87c"/>
            </a:gs>
            <a:gs pos="100000">
              <a:srgbClr val="70be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-684360" y="-100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771240" y="171360"/>
            <a:ext cx="15372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Burj Al Ara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Duba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United Arab Emir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4360" y="620640"/>
            <a:ext cx="617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h).. Te invita a reintentarlo contig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 </a:t>
            </a: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i).. Te mantiene cerca de su coraz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87c"/>
            </a:gs>
            <a:gs pos="100000">
              <a:srgbClr val="70be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547640" y="2276640"/>
            <a:ext cx="5545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181560" y="189000"/>
            <a:ext cx="2422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Plage Larvot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Mona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549360"/>
            <a:ext cx="597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Kristen ITC"/>
              </a:rPr>
              <a:t>j).. Te ama por quien e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Kristen ITC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Kristen ITC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Kristen ITC"/>
              </a:rPr>
              <a:t> </a:t>
            </a:r>
            <a:r>
              <a:rPr b="1" lang="es-ES" sz="2400" spc="-1" strike="noStrike">
                <a:solidFill>
                  <a:srgbClr val="000000"/>
                </a:solidFill>
                <a:latin typeface="Kristen ITC"/>
              </a:rPr>
              <a:t>k).. Hace una diferencia en tu vi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87c"/>
            </a:gs>
            <a:gs pos="100000">
              <a:srgbClr val="70be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132000" y="0"/>
            <a:ext cx="727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Blue Bay Bea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Kiwengw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Zanzib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26920" y="76500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l).. Nunca te juzg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      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m).. Te ofrece su apoy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87c"/>
            </a:gs>
            <a:gs pos="100000">
              <a:srgbClr val="70be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297200" y="6048360"/>
            <a:ext cx="1320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Trunk Bay Bea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St. Joh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U.S. Virgin Islan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2602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n).. Te ayuda a levant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      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ñ).. Calma tus temores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87c"/>
            </a:gs>
            <a:gs pos="100000">
              <a:srgbClr val="70be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300800" y="171360"/>
            <a:ext cx="1383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Blue Lagoon Bea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Mauriti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549360"/>
            <a:ext cx="5545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o).. Eleva tu espíri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p).. Dice cosas lindas acerca de 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87c"/>
            </a:gs>
            <a:gs pos="100000">
              <a:srgbClr val="70be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7243200" y="171360"/>
            <a:ext cx="1319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Binningup Bea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Western Austral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86000" y="76500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q).. Te dice la verdad cuando necesitas escuchar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 </a:t>
            </a: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r).. Te compre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87c"/>
            </a:gs>
            <a:gs pos="100000">
              <a:srgbClr val="70be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79280" y="4892760"/>
            <a:ext cx="604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Kristen ITC"/>
              </a:rPr>
              <a:t>Te quiero decir en este momento por medio de esta carta y sinceramente te la mereces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Kristen ITC"/>
              </a:rPr>
              <a:t>TU AMISTAD VALE MUCH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780000" y="6035760"/>
            <a:ext cx="604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Bora Bora Pearl Beach 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Polynes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87c"/>
            </a:gs>
            <a:gs pos="100000">
              <a:srgbClr val="70be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659480" y="449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59480" y="5218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115920"/>
            <a:ext cx="640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Church Bay Bea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Southampt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Bermu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0" y="69228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s).. Te valo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      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t).. Camina a tu l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87c"/>
            </a:gs>
            <a:gs pos="100000">
              <a:srgbClr val="70be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427640" y="0"/>
            <a:ext cx="640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Tagbulo Island Tayt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The Philipp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55640" y="627120"/>
            <a:ext cx="756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 </a:t>
            </a: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u).. Te explica cosas que no entiend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v).. Grita si es necesario, cuando tú no quieres escuchar y te baja a la realidad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87c"/>
            </a:gs>
            <a:gs pos="100000">
              <a:srgbClr val="70be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356000" y="260280"/>
            <a:ext cx="727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Waianapanap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(Black Sand Beach)</a:t>
            </a:r>
            <a:r>
              <a:rPr b="1" lang="en-GB" sz="1000" spc="-1" strike="noStrike">
                <a:solidFill>
                  <a:srgbClr val="333399"/>
                </a:solidFill>
                <a:latin typeface="Kristen ITC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Maui - Hawai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9280" y="260280"/>
            <a:ext cx="712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SI TIENES UN AMIGO O AMIGA MANDASELO... Y SI NO REGRESA ES QUE VERDADERAMENTE NO ES TU AMI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87c"/>
            </a:gs>
            <a:gs pos="100000">
              <a:srgbClr val="70be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79280" y="6272280"/>
            <a:ext cx="1997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Diani Bea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Keny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032360" y="40464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Kristen ITC"/>
              </a:rPr>
              <a:t>Esto es una prueba para ver cuántos ¡¡amigos tienes!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Kristen ITC"/>
              </a:rPr>
              <a:t>No te sientas herido si nadie más te lo vuelve a enviar.</a:t>
            </a:r>
            <a:r>
              <a:rPr b="1" lang="es-ES" sz="2400" spc="-1" strike="noStrike">
                <a:solidFill>
                  <a:srgbClr val="333399"/>
                </a:solidFill>
                <a:latin typeface="Kristen IT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87c"/>
            </a:gs>
            <a:gs pos="100000">
              <a:srgbClr val="70be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300720" y="6127920"/>
            <a:ext cx="2289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Clifton Bea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Tasman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234080" y="333360"/>
            <a:ext cx="667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Kristen ITC"/>
              </a:rPr>
              <a:t>De hecho ya alguien te lo ha enviado: (Yo),</a:t>
            </a:r>
            <a:r>
              <a:rPr b="1" lang="es-ES" sz="2400" spc="-1" strike="noStrike">
                <a:solidFill>
                  <a:srgbClr val="333399"/>
                </a:solidFill>
                <a:latin typeface="Kristen IT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87c"/>
            </a:gs>
            <a:gs pos="100000">
              <a:srgbClr val="70be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915000" y="6119640"/>
            <a:ext cx="1442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Playa de San Migu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Ibiz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Balearic Islan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068720" y="189000"/>
            <a:ext cx="73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Kristen ITC"/>
              </a:rPr>
              <a:t>Esto es sólo una prueb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87c"/>
            </a:gs>
            <a:gs pos="100000">
              <a:srgbClr val="70be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643280" y="6272280"/>
            <a:ext cx="3065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Blue Lagoon Bea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Fij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09440" y="4905360"/>
            <a:ext cx="77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Kristen ITC"/>
              </a:rPr>
              <a:t>Cuando recibas esto, inmediatamente, debes enviarlo al menos a diez personas, incluyendo la persona que te lo envió a </a:t>
            </a:r>
            <a:r>
              <a:rPr b="1" lang="es-ES" sz="2400" spc="-1" strike="noStrike">
                <a:solidFill>
                  <a:srgbClr val="000000"/>
                </a:solidFill>
                <a:latin typeface="Kristen ITC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Kristen ITC"/>
              </a:rPr>
              <a:t>ti.</a:t>
            </a:r>
            <a:r>
              <a:rPr b="1" lang="es-ES" sz="2400" spc="-1" strike="noStrike">
                <a:solidFill>
                  <a:srgbClr val="333399"/>
                </a:solidFill>
                <a:latin typeface="Kristen IT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87c"/>
            </a:gs>
            <a:gs pos="100000">
              <a:srgbClr val="70be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867280" y="6272280"/>
            <a:ext cx="293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Beach Bottom B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Barba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9440" y="115920"/>
            <a:ext cx="77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Kristen ITC"/>
              </a:rPr>
              <a:t>Recuerda, esto solo es una prueba.</a:t>
            </a:r>
            <a:r>
              <a:rPr b="1" lang="es-ES" sz="2400" spc="-1" strike="noStrike">
                <a:solidFill>
                  <a:srgbClr val="333399"/>
                </a:solidFill>
                <a:latin typeface="Kristen IT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77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1" dur="770" fill="hold"/>
                                        <p:tgtEl>
                                          <p:spTgt spid="1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3" dur="77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5" dur="77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87c"/>
            </a:gs>
            <a:gs pos="100000">
              <a:srgbClr val="70be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7803000" y="6345360"/>
            <a:ext cx="1029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Iles aux Cer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Mauriti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09440" y="333360"/>
            <a:ext cx="77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Kristen ITC"/>
              </a:rPr>
              <a:t>Aparte de decirte que te aprecio y te quiero, disfruta con las maravillosas playas del mundo a las que yo te invito.</a:t>
            </a:r>
            <a:r>
              <a:rPr b="1" lang="es-ES" sz="2400" spc="-1" strike="noStrike">
                <a:solidFill>
                  <a:srgbClr val="333399"/>
                </a:solidFill>
                <a:latin typeface="Kristen IT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87c"/>
            </a:gs>
            <a:gs pos="100000">
              <a:srgbClr val="70be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4920" y="6127920"/>
            <a:ext cx="151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Ba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Maldiv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9440" y="333360"/>
            <a:ext cx="77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Kristen ITC"/>
              </a:rPr>
              <a:t>No olvides nunca el valor de la amist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87c"/>
            </a:gs>
            <a:gs pos="100000">
              <a:srgbClr val="70be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219640" y="6416640"/>
            <a:ext cx="5329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Kristen ITC"/>
              </a:rPr>
              <a:t>Phi Phi Isl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Kristen ITC"/>
              </a:rPr>
              <a:t>Thail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5410080"/>
            <a:ext cx="727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Kristen ITC"/>
              </a:rPr>
              <a:t>Te Quiero decir que si mañana dejo de existir, te observare en el cielo, te cuidaré y, sobre todo, trataré de que no sufras.</a:t>
            </a:r>
            <a:r>
              <a:rPr b="1" lang="es-ES" sz="2400" spc="-1" strike="noStrike">
                <a:solidFill>
                  <a:srgbClr val="333399"/>
                </a:solidFill>
                <a:latin typeface="Kristen IT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87c"/>
            </a:gs>
            <a:gs pos="100000">
              <a:srgbClr val="70be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7231320" y="6207120"/>
            <a:ext cx="1480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Kristen ITC"/>
              </a:rPr>
              <a:t>Arub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Kristen ITC"/>
              </a:rPr>
              <a:t>Netherlands Antil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0" y="228744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Recuerda: Un Amigo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Kristen ITC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Kristen ITC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Te acepta tal cual eres          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87c"/>
            </a:gs>
            <a:gs pos="100000">
              <a:srgbClr val="70be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-900000" y="115920"/>
            <a:ext cx="453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St. Jean Bea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St. Barthelem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Caribbe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0" y="90792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Lo espero de vuelt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Chao          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77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4" dur="770" fill="hold"/>
                                        <p:tgtEl>
                                          <p:spTgt spid="1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6" dur="77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8" dur="77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87c"/>
            </a:gs>
            <a:gs pos="100000">
              <a:srgbClr val="70be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900000" y="1139760"/>
            <a:ext cx="74883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800" spc="-1" strike="noStrike" u="sng">
                <a:solidFill>
                  <a:srgbClr val="66ff66"/>
                </a:solidFill>
                <a:uFillTx/>
                <a:latin typeface="Harrington"/>
              </a:rPr>
              <a:t>El Valor de un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800" spc="-1" strike="noStrike" u="sng">
                <a:solidFill>
                  <a:srgbClr val="66ff66"/>
                </a:solidFill>
                <a:uFillTx/>
                <a:latin typeface="Harrington"/>
              </a:rPr>
              <a:t>TE QUIERO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861240" y="5527800"/>
            <a:ext cx="17431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R. BENITEZ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wedge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1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1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22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87c"/>
            </a:gs>
            <a:gs pos="100000">
              <a:srgbClr val="70be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849920" y="6335640"/>
            <a:ext cx="6275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La Dique - Anse Source D'Ar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Seychel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5877000"/>
            <a:ext cx="669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Kristen ITC"/>
              </a:rPr>
              <a:t>Te quiero decir que, si dejas este mundo, Dios no lo quiera, te recordaré y siempre te querré.</a:t>
            </a:r>
            <a:r>
              <a:rPr b="1" lang="es-ES" sz="2400" spc="-1" strike="noStrike">
                <a:solidFill>
                  <a:srgbClr val="333399"/>
                </a:solidFill>
                <a:latin typeface="Kristen IT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87c"/>
            </a:gs>
            <a:gs pos="100000">
              <a:srgbClr val="70be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219640" y="6256440"/>
            <a:ext cx="5400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Blue Lagoon - Oldeniz Beach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Fethiy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Turk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44280"/>
            <a:ext cx="727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Kristen ITC"/>
              </a:rPr>
              <a:t>Quiero que sepas que te quiero mucho y eso es algo muy importante para mi ya que hay veces que uno cree que no es conveniente decirlo por cualquier razón.</a:t>
            </a: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87c"/>
            </a:gs>
            <a:gs pos="100000">
              <a:srgbClr val="70be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08000" y="44280"/>
            <a:ext cx="496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Kristen ITC"/>
              </a:rPr>
              <a:t>Sé que debí decirte antes cuanto te aprecio, pero si por alguna razón no nos volvemos a ver, te dejo esta nota para que sepas lo mucho que te quier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59280" y="6093000"/>
            <a:ext cx="4969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Kristen ITC"/>
              </a:rPr>
              <a:t>Seven Mile Bea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Kristen ITC"/>
              </a:rPr>
              <a:t>Negri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Kristen ITC"/>
              </a:rPr>
              <a:t>Jamai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87c"/>
            </a:gs>
            <a:gs pos="100000">
              <a:srgbClr val="70be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070680" y="6119640"/>
            <a:ext cx="3254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Kristen ITC"/>
              </a:rPr>
              <a:t>Smuggler's Co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Kristen ITC"/>
              </a:rPr>
              <a:t>Torto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Kristen ITC"/>
              </a:rPr>
              <a:t>British Virgin Islan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2200" y="260280"/>
            <a:ext cx="691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Kristen ITC"/>
              </a:rPr>
              <a:t>Y si no alcanzaste a decírmelo tú, y yo dejo de existir, no te preocupes que por el simple hecho de que nació nuestra amistad, sabré que me apreci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87c"/>
            </a:gs>
            <a:gs pos="100000">
              <a:srgbClr val="70be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492360" y="0"/>
            <a:ext cx="9144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Tobago Ca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Windward Islan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189000"/>
            <a:ext cx="619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Kristen ITC"/>
              </a:rPr>
              <a:t>Recuerda que nunca sabemos cuando dejaremos de existir, por eso déjame decirte hoy con est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Kristen ITC"/>
              </a:rPr>
              <a:t>!QUE TE APRECIO, TE QUIERO MUCHO !</a:t>
            </a: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87c"/>
            </a:gs>
            <a:gs pos="100000">
              <a:srgbClr val="70be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900000" y="5013360"/>
            <a:ext cx="727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-2484360" y="6264360"/>
            <a:ext cx="619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Kristen ITC"/>
              </a:rPr>
              <a:t>Lanikai Bea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Kristen ITC"/>
              </a:rPr>
              <a:t>Kailu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Kristen ITC"/>
              </a:rPr>
              <a:t>Hawai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115920"/>
            <a:ext cx="813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Kristen ITC"/>
              </a:rPr>
              <a:t>MANDALE ESTO A LAS PERSONAS QUE APREC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Kristen ITC"/>
              </a:rPr>
              <a:t>(INCLUYENDOME A MI SI ASI LO SIENTES) YA QUE NO SABRAS SI MAÑANA TENDRAS LA OPORTUNIDAD DE HACERLO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Kristen ITC"/>
              </a:rPr>
              <a:t>Y SI REGRESA A TI ESTE E-MAIL SABRAS QUE ESA PERSONA TE QUIERE MUCHO!</a:t>
            </a: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8T09:19:38Z</dcterms:created>
  <dc:creator>acredel</dc:creator>
  <dc:description/>
  <dc:language>en-US</dc:language>
  <cp:lastModifiedBy>Rafael</cp:lastModifiedBy>
  <dcterms:modified xsi:type="dcterms:W3CDTF">2007-03-08T15:56:42Z</dcterms:modified>
  <cp:revision>4</cp:revision>
  <dc:subject/>
  <dc:title>Diapositiva 1</dc:title>
</cp:coreProperties>
</file>