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jpeg" ContentType="image/jpeg"/>
  <Override PartName="/ppt/media/image4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type.wav" ContentType="audio/x-wav"/>
  <Override PartName="/ppt/media/image14.jpeg" ContentType="image/jpeg"/>
  <Override PartName="/ppt/media/image13.jpeg" ContentType="image/jpeg"/>
  <Override PartName="/ppt/media/image12.jpeg" ContentType="image/jpeg"/>
  <Override PartName="/ppt/media/image3.jpeg" ContentType="image/jpeg"/>
  <Override PartName="/ppt/media/image2.jpeg" ContentType="image/jpeg"/>
  <Override PartName="/ppt/media/image1.png" ContentType="image/png"/>
  <Override PartName="/ppt/media/!Enya-Heaven.wav" ContentType="audio/x-wav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CECF-76CF-48E3-B405-90FB0B4A7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B066-2763-4025-966C-7EABECD3F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19D8-575F-491D-BDCD-FCFB11EB7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3C2E-1B27-4C6C-8F09-293992D59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0BDE-6274-4CD8-98D5-63341A52E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43BD-6CC8-4703-9780-51BE6B006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0126-7A35-4167-B4EC-B2BBDEE61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0064-656A-408F-9D97-41222F8B9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BEFD-2F90-4CE6-9111-2975C5DA5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6071-0DAA-44A3-8859-3951065C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1CEA-672C-469E-A082-8BDBF3B9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0DB5-65F3-4E39-A9E3-D6116DBA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3ECAC-EDDC-43A9-92B7-25535918BE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audio" Target="../media/!Enya-Heaven.wav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193920" y="228600"/>
            <a:ext cx="5410440" cy="6400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600" y="57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0066"/>
                </a:solidFill>
                <a:latin typeface="Times New Roman"/>
              </a:rPr>
              <a:t>         </a:t>
            </a:r>
            <a:r>
              <a:rPr b="1" lang="es-ES" sz="5400" spc="-1" strike="noStrike">
                <a:solidFill>
                  <a:srgbClr val="ff0066"/>
                </a:solidFill>
                <a:latin typeface="Times New Roman"/>
              </a:rPr>
              <a:t>A MI  HIJ@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600"/>
                            </p:stCondLst>
                            <p:childTnLst>
                              <p:par>
                                <p:cTn id="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34920" y="333000"/>
            <a:ext cx="521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Solo  por  esta  noche,  te  dejaré salpicar en la bañadera y no me voy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a enojar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203640" y="1916280"/>
            <a:ext cx="5940360" cy="43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132000" y="260280"/>
            <a:ext cx="5977080" cy="47624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928960" y="5444640"/>
            <a:ext cx="621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Solo  por  esta  noche, te dejaré despierto hasta tarde,   mientras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nos sentamos en el jardín a contar las estrellas y a pedir deseo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" nodeType="afterEffect" fill="hold" presetClass="entr" presetID="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637080" y="333360"/>
            <a:ext cx="5327640" cy="43909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76720" y="54446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Solo  por esta noche, cuando pase mis dedos entre tu cabello mientras rezas sìmplemente daré gracias a Dios por el mayor regalo que he recibido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848120" y="115920"/>
            <a:ext cx="2387880" cy="31687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59280" y="4723920"/>
            <a:ext cx="608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Voy a pensar en las madres y en los padres que están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ahora buscando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a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sus  hijos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extraviados;  las  madres y padres que visitan a  sus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hijos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en sus   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tumbas  en  lugar de sus camas, y en las madres y padres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que están en los hospitales mirando sufrir a sus hijos, gritando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por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dentro por  no poder hacer nada má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246560" y="2205000"/>
            <a:ext cx="3854520" cy="4653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916000" y="54900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Y  cuando  te de un beso de buenas noches te voy a estrechar un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poco más  fuerte 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y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 un poco más 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de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tiempo, diciéndote a tu oído: </a:t>
            </a:r>
            <a:br>
              <a:rPr sz="2400"/>
            </a:br>
            <a:r>
              <a:rPr b="1" lang="es-ES" sz="3200" spc="-1" strike="noStrike">
                <a:solidFill>
                  <a:srgbClr val="ffffff"/>
                </a:solidFill>
                <a:latin typeface="Georgia"/>
              </a:rPr>
              <a:t>¡¡¡ HIJ@,  TE AMO 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3400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Así, agradeceré a Dios por ti  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y no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le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pediré nada,  excepto,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un día má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95640" y="1584360"/>
            <a:ext cx="424836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562640" y="2708280"/>
            <a:ext cx="3105000" cy="403236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00000" y="764640"/>
            <a:ext cx="64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¿Te gustó?. Te pido un  enorme favor: pasá esto a otras mamás y papás, e incluso a quienes no lo son. 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Actualmente nuestras rutinas diarias nos absorben, incluso al grado que olvidamos el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hermoso regalo que 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son realmente los niñ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500"/>
                            </p:stCondLst>
                            <p:childTnLst>
                              <p:par>
                                <p:cTn id="183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427640" y="1352520"/>
            <a:ext cx="4537080" cy="38782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46560" y="404280"/>
            <a:ext cx="48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Pero hazlo hoy!!! No podemos saber si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Dios nos dar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á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 UN DIA MÁ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11640" y="5805360"/>
            <a:ext cx="4932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Por grandes que sean nuestros hijos, u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Georgia"/>
              </a:rPr>
              <a:t>TE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Georgia"/>
              </a:rPr>
              <a:t>AMO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       los hace sentir tan bien                como a ti te hará decírselo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75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7325"/>
                            </p:stCondLst>
                            <p:childTnLst>
                              <p:par>
                                <p:cTn id="200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75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862440" y="304920"/>
            <a:ext cx="4481640" cy="52117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95640" y="537336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Solo  por  hoy,  en la mañana, voy a                        sonreír cuando vea tu  rostro y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reír                              cuando tenga ganas de llorar.</a:t>
            </a:r>
            <a:br>
              <a:rPr sz="2400"/>
            </a:br>
            <a:r>
              <a:rPr b="1" lang="es-ES" sz="2400" spc="-1" strike="noStrike">
                <a:solidFill>
                  <a:srgbClr val="ff33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314880" y="228600"/>
            <a:ext cx="4713120" cy="55767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08000" y="57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Solo  por hoy, en la mañana, no pelearé                   contigo por la ropa  que quieres ponerte o                 por cuanto tardas y la prisa que tengo, voy                a sonreir y a decirte que luces grandios@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236760" y="1752480"/>
            <a:ext cx="5943600" cy="48006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10920" y="475920"/>
            <a:ext cx="64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Solo por hoy, pediré un día de descanso  o vacaciones o haré las gestiones necesarias, sólo para  llevarte                  al parque a jugar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879720" y="228600"/>
            <a:ext cx="3787920" cy="52164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8000" y="628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Solo por hoy, al mediodía, voy a dejar los      platos en la  cocina y voy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a dejarte que me enseñes como armar  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un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 rompecabezas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894040" y="1517760"/>
            <a:ext cx="5854680" cy="50799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71280" y="691920"/>
            <a:ext cx="63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Solo  por  hoy, en la tarde, voy a desconectar el  teléfono y  a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apagar la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computadora, para  sentarme  junto  a ti  en el jardín  para hacer burbujas  de jabón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027320" y="0"/>
            <a:ext cx="4000680" cy="4776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68360" y="530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Solo  por  esta  tarde,  no  voy  a                       reclamarte ni siquiera  a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murmurar, cuando  tu grites y llores                          cuando pase el carro de los  helados,                                     y voy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a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salir  contigo a comprarte uno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725560" y="2189160"/>
            <a:ext cx="6310440" cy="45529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84000" y="691920"/>
            <a:ext cx="66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Solo  por  esta  tarde, no voy a preocuparme sobre que  va a  ser de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ti cuando crezcas y voy a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pensar otra vez             en todas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las  decisiones que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haya hecho acerca de ti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500"/>
                            </p:stCondLst>
                            <p:childTnLst>
                              <p:par>
                                <p:cTn id="89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976560" y="0"/>
            <a:ext cx="4340520" cy="47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00360" y="5444640"/>
            <a:ext cx="672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Solo  por  esta  tarde, te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estrecharé                                      en mis brazos y   te  contare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una historia acerca de cuando tu naciste, de la gran bendición que eres en mi vida y sobre todo de lo mucho que te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quiero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5T16:09:18Z</dcterms:created>
  <dc:creator>.</dc:creator>
  <dc:description/>
  <dc:language>en-US</dc:language>
  <cp:lastModifiedBy>HP Authorized Customer</cp:lastModifiedBy>
  <dcterms:modified xsi:type="dcterms:W3CDTF">2009-04-01T02:35:33Z</dcterms:modified>
  <cp:revision>4</cp:revision>
  <dc:subject/>
  <dc:title>         A Mi  Hij@ </dc:title>
</cp:coreProperties>
</file>