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2.jpeg" ContentType="image/jpeg"/>
  <Override PartName="/ppt/media/image1.png" ContentType="image/png"/>
  <Override PartName="/ppt/media/!Enya-Heaven.wav" ContentType="audio/x-wav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257-343B-4618-91D6-FA5EF1AE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C26-AD2E-4CAC-A3E8-7309091E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BA3-367F-47D9-B519-334219F2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0223-8748-447F-AB07-21A8173C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040-6DC5-4F8E-A80C-55848CA4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C99-5C27-445C-8F0A-C0BBD802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EC1-3ABA-4A93-A85F-61D2B423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96D-9DA2-4063-8B6F-68AA20C4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8E9-76CA-4C76-81C7-2B27FF54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32A-0C9E-473F-8428-CF0513B7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744-09EE-4F62-B7C6-F17177CD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8D4-7960-461C-BBFF-5D67CF5F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64C3-198D-446C-8686-7847C953A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audio" Target="../media/!Enya-Heaven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193920" y="228600"/>
            <a:ext cx="541044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1" lang="es-ES" sz="5400" spc="-1" strike="noStrike">
                <a:solidFill>
                  <a:srgbClr val="ff0066"/>
                </a:solidFill>
                <a:latin typeface="Times New Roman"/>
              </a:rPr>
              <a:t>A MI  HIJ@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6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333000"/>
            <a:ext cx="521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noche,  te  dejaré salpicar en la bañadera y no me voy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 enoj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03640" y="1916280"/>
            <a:ext cx="5940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132000" y="260280"/>
            <a:ext cx="5977080" cy="4762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28960" y="544464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noche, te dejaré despierto hasta tarde,   mientra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nos sentamos en el jardín a contar las estrellas y a pedir dese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37080" y="333360"/>
            <a:ext cx="5327640" cy="4390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720" y="54446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 esta noche, cuando pase mis dedos entre tu cabello mientras rezas sìmplemente daré gracias a Dios por el mayor regalo que he recib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48120" y="115920"/>
            <a:ext cx="2387880" cy="3168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59280" y="472392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Voy a pensar en las madres y en los padres que están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hora buscando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us  hijo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extraviados;  las  madres y padres que visitan a  su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hijo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en sus  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tumbas  en  lugar de sus camas, y en las madres y padre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que están en los hospitales mirando sufrir a sus hijos, gritando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or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dentro por  no poder hacer nada má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246560" y="2205000"/>
            <a:ext cx="3854520" cy="4653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6000" y="54900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Y  cuando  te de un beso de buenas noches te voy a estrechar un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oco más  fuerte 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y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 un poco más 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de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tiempo, diciéndote a tu oído: </a:t>
            </a:r>
            <a:br>
              <a:rPr sz="2400"/>
            </a:b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¡¡¡ HIJ@,  TE AMO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4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sí, agradeceré a Dios por ti 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y no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l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ediré nada,  excepto,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un día má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95640" y="1584360"/>
            <a:ext cx="4248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62640" y="2708280"/>
            <a:ext cx="310500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0000" y="76464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¿Te gustó?. Te pido un  enorme favor: pasá esto a otras mamás y papás, e incluso a quienes no lo son.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ctualmente nuestras rutinas diarias nos absorben, incluso al grado que olvidamos el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hermoso regalo que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n realmente los ni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7640" y="1352520"/>
            <a:ext cx="4537080" cy="3878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46560" y="40428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ero hazlo hoy!!! No podemos saber si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Dios nos dar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á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 UN DIA MÁ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5805360"/>
            <a:ext cx="493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Por grandes que sean nuestros hijos, u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TE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AMO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      los hace sentir tan bien                como a ti te hará decírsel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75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325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75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62440" y="304920"/>
            <a:ext cx="4481640" cy="5211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95640" y="53733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hoy,  en la mañana, voy a                        sonreír cuando vea tu  rostro y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reír                              cuando tenga ganas de llorar.</a:t>
            </a:r>
            <a:br>
              <a:rPr sz="2400"/>
            </a:br>
            <a:r>
              <a:rPr b="1" lang="es-ES" sz="24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314880" y="228600"/>
            <a:ext cx="4713120" cy="5576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80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 hoy, en la mañana, no pelearé                   contigo por la ropa  que quieres ponerte o                 por cuanto tardas y la prisa que tengo, voy                a sonreir y a decirte que luces grandios@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36760" y="17524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0920" y="47592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 por hoy, pediré un día de descanso  o vacaciones o haré las gestiones necesarias, sólo para  llevarte                  al parque a jug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79720" y="228600"/>
            <a:ext cx="3787920" cy="5216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628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 por hoy, al mediodía, voy a dejar los      platos en la  cocina y voy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 dejarte que me enseñes como armar  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un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 rompecabeza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94040" y="1517760"/>
            <a:ext cx="5854680" cy="5079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280" y="69192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hoy, en la tarde, voy a desconectar el  teléfono y  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pagar l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computadora, para  sentarme  junto  a ti  en el jardín  para hacer burbujas  de jabó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27320" y="0"/>
            <a:ext cx="4000680" cy="4776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360" y="530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tarde,  no  voy  a                       reclamarte ni siquiera  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murmurar, cuando  tu grites y llores                          cuando pase el carro de los  helados,                                     y voy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alir  contigo a comprarte un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25560" y="2189160"/>
            <a:ext cx="6310440" cy="4552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84000" y="691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tarde, no voy a preocuparme sobre que  va a  ser d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ti cuando crezcas y voy 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ensar otra vez             en toda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las  decisiones qu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haya hecho acerca de t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76560" y="0"/>
            <a:ext cx="434052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0360" y="5444640"/>
            <a:ext cx="67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tarde, t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estrecharé                                      en mis brazos y   te  contar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una historia acerca de cuando tu naciste, de la gran bendición que eres en mi vida y sobre todo de lo mucho que t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quier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6:09:18Z</dcterms:created>
  <dc:creator>.</dc:creator>
  <dc:description/>
  <dc:language>en-US</dc:language>
  <cp:lastModifiedBy>HP Authorized Customer</cp:lastModifiedBy>
  <dcterms:modified xsi:type="dcterms:W3CDTF">2009-04-01T02:35:33Z</dcterms:modified>
  <cp:revision>4</cp:revision>
  <dc:subject/>
  <dc:title>         A Mi  Hij@ </dc:title>
</cp:coreProperties>
</file>