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ABF-F3D5-43F1-B06A-11470750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BD8-2B2E-4C12-805B-C0083246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985-8D49-4F45-B229-B7A1D6E9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D0A-58E2-4D97-B870-79D492F4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6F0-FBB3-4E6A-9B3D-D3A6A803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50B-58BD-4EF8-BD40-CFA0A47C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7B71-0629-4BB7-8324-56F3F6C1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06F-3F98-4824-9236-8A56ACAF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279-253B-4502-AD21-2A4EF3E7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B5F-7373-4DA3-BF41-74530D33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A6C-90BA-48DC-8F19-73EF8338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942-44EB-4144-8B83-84297A37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2844-64FE-440D-A60F-8D8DEDC7C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Lady%20in%20red_E-L2.wav" TargetMode="External"/><Relationship Id="rId2" Type="http://schemas.microsoft.com/office/2007/relationships/media" Target="file:///tmp/home/.config/libreoffice/4/user/gallery/Lady%20in%20red_E-L2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4572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"/>
          <p:cNvPicPr/>
          <p:nvPr/>
        </p:nvPicPr>
        <p:blipFill>
          <a:blip r:embed="rId4"/>
          <a:stretch/>
        </p:blipFill>
        <p:spPr>
          <a:xfrm>
            <a:off x="-36360" y="27000"/>
            <a:ext cx="9180360" cy="6831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68580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Comic Sans MS"/>
              </a:rPr>
              <a:t>Mi Milagro</a:t>
            </a:r>
            <a:r>
              <a:rPr b="0" lang="en-US" sz="6000" spc="-1" strike="noStrike">
                <a:solidFill>
                  <a:srgbClr val="ccecff"/>
                </a:solidFill>
                <a:latin typeface="Adorable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4191120"/>
            <a:ext cx="8839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Eres único. Nadie es igual a ti.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Sólo en ti está aceptar el camino de la felicidad y enfrentarlo, y seguir siempre adelante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hasta el fin. Simplemente porque eres libre.</a:t>
            </a:r>
            <a:r>
              <a:rPr b="0" lang="es-ES" sz="3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1295280"/>
            <a:ext cx="8076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66ff33"/>
                </a:solidFill>
                <a:latin typeface="Comic Sans MS"/>
              </a:rPr>
              <a:t>En ti está el poder de no atarte a las cosas. Las cosas no hacen la felicidad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7086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omic Sans MS"/>
              </a:rPr>
              <a:t>Te hice perfecto 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Comic Sans MS"/>
              </a:rPr>
              <a:t>para que aprovecharas tu capacidad y no para que te destruyas 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Comic Sans MS"/>
              </a:rPr>
              <a:t>con tontería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hecke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260280"/>
            <a:ext cx="889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Te di el poder de pensar, te di el poder de amar, te di el poder de determinar, te di el poder de reír, te di el poder de imaginar, te di el </a:t>
            </a: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poder de</a:t>
            </a: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 crear, te di el poder de </a:t>
            </a: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planear, te di el poder de</a:t>
            </a: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 hablar, te di </a:t>
            </a: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el poder de rezar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5410080"/>
            <a:ext cx="448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No te olvides que eres MI MILAGR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zoom dir="in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26920" y="907920"/>
            <a:ext cx="748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y te situé por encima de los ángeles, cuando te di el poder de elección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68360" y="260280"/>
            <a:ext cx="489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33cc"/>
                </a:solidFill>
                <a:latin typeface="Comic Sans MS"/>
              </a:rPr>
              <a:t>Te di el dominio de elegir tu propio destino usando tu voluntad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333360"/>
            <a:ext cx="712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¿Qué has hecho de estas tremendas fuerzas que te di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0481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34290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2514600"/>
            <a:ext cx="4419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No te olvides que eres MI MILAGR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checker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03280" y="549360"/>
            <a:ext cx="7740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No importa. De hoy en adelante, </a:t>
            </a:r>
            <a:br>
              <a:rPr sz="3000"/>
            </a:b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olvida tu pasado, </a:t>
            </a:r>
            <a:br>
              <a:rPr sz="3000"/>
            </a:b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usando sabiamente ese poder de elec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zoom dir="in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3657600"/>
            <a:ext cx="7993080" cy="283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99"/>
                </a:solidFill>
                <a:latin typeface="Comic Sans MS"/>
              </a:rPr>
              <a:t>Elige amar en lugar de odiar, </a:t>
            </a:r>
            <a:br>
              <a:rPr sz="3000"/>
            </a:br>
            <a:r>
              <a:rPr b="1" lang="es-ES" sz="3000" spc="-1" strike="noStrike">
                <a:solidFill>
                  <a:srgbClr val="ffff99"/>
                </a:solidFill>
                <a:latin typeface="Comic Sans MS"/>
              </a:rPr>
              <a:t>elige reír en lugar de llorar, </a:t>
            </a:r>
            <a:br>
              <a:rPr sz="3000"/>
            </a:br>
            <a:r>
              <a:rPr b="1" lang="es-ES" sz="3000" spc="-1" strike="noStrike">
                <a:solidFill>
                  <a:srgbClr val="ffff99"/>
                </a:solidFill>
                <a:latin typeface="Comic Sans MS"/>
              </a:rPr>
              <a:t>elige actuar en lugar de aplazar, </a:t>
            </a:r>
            <a:br>
              <a:rPr sz="3000"/>
            </a:br>
            <a:r>
              <a:rPr b="1" lang="es-ES" sz="3000" spc="-1" strike="noStrike">
                <a:solidFill>
                  <a:srgbClr val="ffff99"/>
                </a:solidFill>
                <a:latin typeface="Comic Sans MS"/>
              </a:rPr>
              <a:t>elige crecer en lugar de consumirte, </a:t>
            </a:r>
            <a:br>
              <a:rPr sz="3000"/>
            </a:br>
            <a:r>
              <a:rPr b="1" lang="es-ES" sz="3000" spc="-1" strike="noStrike">
                <a:solidFill>
                  <a:srgbClr val="ffff99"/>
                </a:solidFill>
                <a:latin typeface="Comic Sans MS"/>
              </a:rPr>
              <a:t>elige bendecir en lugar de blasfemar, elige vivir en lugar de morir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blinds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19520" y="4149720"/>
            <a:ext cx="6324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Y aprende a sentir mi presencia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en cada acto de tu vida.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Crece cada día un poco más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en el optimismo de la esperanza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checke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76360" y="836640"/>
            <a:ext cx="547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Tú, que eres un ser humano, eres mi milagr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35280" y="404640"/>
            <a:ext cx="5708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Deja atrás los miedos </a:t>
            </a:r>
            <a:br>
              <a:rPr sz="3000"/>
            </a:b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y los sentimientos de derrota. Yo estoy a tu lado siempre.</a:t>
            </a:r>
            <a:r>
              <a:rPr b="0" lang="es-ES" sz="30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260280"/>
            <a:ext cx="8512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omic Sans MS"/>
              </a:rPr>
              <a:t>Llámame, búscame, acuérdate de mí. 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Comic Sans MS"/>
              </a:rPr>
              <a:t>Vivo en ti desde siempre 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Comic Sans MS"/>
              </a:rPr>
              <a:t>y siempre te estoy esperando para amarte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blinds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16360" y="2349360"/>
            <a:ext cx="5256000" cy="215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Comic Sans MS"/>
              </a:rPr>
              <a:t>Si has de venir hacia mí algún día…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Comic Sans MS"/>
              </a:rPr>
              <a:t>que sea hoy, </a:t>
            </a:r>
            <a:br>
              <a:rPr sz="3000"/>
            </a:br>
            <a:r>
              <a:rPr b="0" lang="es-ES" sz="3000" spc="-1" strike="noStrike">
                <a:solidFill>
                  <a:srgbClr val="ffffcc"/>
                </a:solidFill>
                <a:latin typeface="Comic Sans MS"/>
              </a:rPr>
              <a:t>en este momento.</a:t>
            </a: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333360"/>
            <a:ext cx="5651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6600"/>
                </a:solidFill>
                <a:latin typeface="Comic Sans MS"/>
              </a:rPr>
              <a:t>Cada instante que vivas sin mí, es un instante infinito </a:t>
            </a:r>
            <a:br>
              <a:rPr sz="3000"/>
            </a:br>
            <a:r>
              <a:rPr b="0" lang="es-ES" sz="3000" spc="-1" strike="noStrike">
                <a:solidFill>
                  <a:srgbClr val="006600"/>
                </a:solidFill>
                <a:latin typeface="Comic Sans MS"/>
              </a:rPr>
              <a:t>que pierdes de paz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013360"/>
            <a:ext cx="914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Trata de volverte niño, simple, inocente, generoso, dador, con capacidad de asombro y capacidad para conmoverte ante la maravilla de sentirte humano…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3280" y="260280"/>
            <a:ext cx="6121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porque puedes conocer mi amor, puedes sentir una lágrima, puedes comprender el dolor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14400"/>
            <a:ext cx="8839080" cy="6825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33720" y="1219320"/>
            <a:ext cx="448308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No te olvides que eres MI MILAGR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checker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63640" y="333360"/>
            <a:ext cx="705636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99"/>
                </a:solidFill>
                <a:latin typeface="Comic Sans MS"/>
              </a:rPr>
              <a:t>Que te quiero feliz, con misericordia, con piedad, para que este mundo </a:t>
            </a:r>
            <a:br>
              <a:rPr sz="3000"/>
            </a:br>
            <a:r>
              <a:rPr b="0" lang="es-ES" sz="3000" spc="-1" strike="noStrike">
                <a:solidFill>
                  <a:srgbClr val="ffff99"/>
                </a:solidFill>
                <a:latin typeface="Comic Sans MS"/>
              </a:rPr>
              <a:t>que transitas pueda acostumbrarse </a:t>
            </a:r>
            <a:br>
              <a:rPr sz="3000"/>
            </a:br>
            <a:r>
              <a:rPr b="0" lang="es-ES" sz="3000" spc="-1" strike="noStrike">
                <a:solidFill>
                  <a:srgbClr val="ffff99"/>
                </a:solidFill>
                <a:latin typeface="Comic Sans MS"/>
              </a:rPr>
              <a:t>a reír, siempre que tú aprendas a reír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blinds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34920" y="260280"/>
            <a:ext cx="8209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Y si eres mi milagro, entonces usa tus dones y cambia tu medio ambiente, contagiando esperanza y optimismo sin temor,</a:t>
            </a:r>
            <a:br>
              <a:rPr sz="3000"/>
            </a:b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 porque yo estoy a tu l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checker dir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4267080"/>
            <a:ext cx="39877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Con todo cariño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Tu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58920" y="4724280"/>
            <a:ext cx="6626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Y eres fuerte, capaz, inteligente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y lleno de dones y talentos.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Cuenta tus dones y talent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zoom dir="in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19280" y="4869000"/>
            <a:ext cx="6840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Entusiásmate con ellos. Reconócete. Encuéntrate. Acéptate. Aním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blinds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94360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4653000"/>
            <a:ext cx="7920000" cy="14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6600"/>
                </a:solidFill>
                <a:latin typeface="Comic Sans MS"/>
              </a:rPr>
              <a:t>Y piensa que, desde este momento, </a:t>
            </a:r>
            <a:br>
              <a:rPr sz="3000"/>
            </a:br>
            <a:r>
              <a:rPr b="0" lang="es-ES" sz="3000" spc="-1" strike="noStrike">
                <a:solidFill>
                  <a:srgbClr val="ff6600"/>
                </a:solidFill>
                <a:latin typeface="Comic Sans MS"/>
              </a:rPr>
              <a:t>puedes cambiar tu vida para bien, </a:t>
            </a:r>
            <a:br>
              <a:rPr sz="3000"/>
            </a:br>
            <a:r>
              <a:rPr b="0" lang="es-ES" sz="3000" spc="-1" strike="noStrike">
                <a:solidFill>
                  <a:srgbClr val="ff6600"/>
                </a:solidFill>
                <a:latin typeface="Comic Sans MS"/>
              </a:rPr>
              <a:t>si te lo propones y te llenas de entusiasm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6000" y="4653000"/>
            <a:ext cx="7056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ffff"/>
                </a:solidFill>
                <a:latin typeface="Comic Sans MS"/>
              </a:rPr>
              <a:t>Y sobre todo, si te das cuenta </a:t>
            </a:r>
            <a:br>
              <a:rPr sz="3000"/>
            </a:br>
            <a:r>
              <a:rPr b="0" lang="es-ES" sz="3000" spc="-1" strike="noStrike">
                <a:solidFill>
                  <a:srgbClr val="00ffff"/>
                </a:solidFill>
                <a:latin typeface="Comic Sans MS"/>
              </a:rPr>
              <a:t>de la felicidad que puedes conseguir con sólo desearl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6440" y="5908680"/>
            <a:ext cx="24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4508640"/>
            <a:ext cx="674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Eres mi creación más grande.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Eres mi milagro.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No temas comenzar una nueva vid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3429000"/>
            <a:ext cx="6912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No te lamentes nunca. No te quejes. No te atormentes. No te deprim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No te olvides que eres MI MILAGR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657600" y="685800"/>
            <a:ext cx="4038480" cy="798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4038840" cy="798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 flipH="1" rot="10800000">
            <a:off x="4711680" y="2793600"/>
            <a:ext cx="4038480" cy="7128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87280" y="4508640"/>
            <a:ext cx="7499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¿Cómo puedes temer, si eres un milagro? Estás dotado de poderes desconocidos para todas las criaturas del universo.</a:t>
            </a: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657600" y="685800"/>
            <a:ext cx="4038480" cy="798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4038480" cy="798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 flipH="1" rot="10800000">
            <a:off x="4711680" y="2793600"/>
            <a:ext cx="4038480" cy="7128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3:50:31Z</dcterms:created>
  <dc:creator/>
  <dc:description/>
  <dc:language>en-US</dc:language>
  <cp:lastModifiedBy>Usuario</cp:lastModifiedBy>
  <dcterms:modified xsi:type="dcterms:W3CDTF">2008-04-27T20:48:40Z</dcterms:modified>
  <cp:revision>221</cp:revision>
  <dc:subject/>
  <dc:title>Mi milagro</dc:title>
</cp:coreProperties>
</file>