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0BC-B3AE-4BC4-9ED9-AAC11531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66C-E333-440E-9B85-00811C90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077-1A4E-4CC5-B04D-63643A42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8EE-54C2-4947-8CF1-3C5CBA12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29F-A33E-42B3-A274-0CD0EF4D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EB0-0DD4-4BFD-915B-0255D5F0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3FE-0C98-4EC7-AD90-852338C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ED8-C941-4C08-A411-BAC1B53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D4B-1D80-4CE7-B28C-720B1A4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879-61A0-45DD-B2D4-6BF6983E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47E-36B3-4DCE-B081-8E947B4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802-CF6E-4D8E-A975-FAC2F63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54B-DC23-40A1-BC24-AAB64BE8534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346040"/>
            <a:ext cx="8532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821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86821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80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2:29:01Z</dcterms:created>
  <dc:creator>Faculdades Integradas Fafibe</dc:creator>
  <dc:description/>
  <dc:language>en-US</dc:language>
  <cp:lastModifiedBy>.</cp:lastModifiedBy>
  <dcterms:modified xsi:type="dcterms:W3CDTF">2005-11-18T16:15:41Z</dcterms:modified>
  <cp:revision>1</cp:revision>
  <dc:subject/>
  <dc:title>Slide 1</dc:title>
</cp:coreProperties>
</file>