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5E0-264D-439B-B6D3-089AD0B1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5D8-DC60-4F05-81FA-1BD30AFC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12D-6541-4B63-933F-2D196F9A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93C-C6DA-453A-8296-4C4EF9EE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7FE8-57E7-45A3-8F7B-44CB80D4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A91-8550-4B4D-AF25-665D2249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8C9-76DD-44B0-9B01-96CEB939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231-53A4-491A-A914-F6D37A4F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685-2DE9-4393-AAA8-32BFB3B5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FEDB-7DA8-4E7D-B2B5-6169CFE1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846-C879-41F7-AA75-D727E968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33D-63D9-4B90-8BD5-5BE7D227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D04A-02A1-4C66-84A5-FED61743355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346040"/>
            <a:ext cx="853272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8212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1285920"/>
            <a:ext cx="868212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802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12:29:01Z</dcterms:created>
  <dc:creator>Faculdades Integradas Fafibe</dc:creator>
  <dc:description/>
  <dc:language>en-US</dc:language>
  <cp:lastModifiedBy>.</cp:lastModifiedBy>
  <dcterms:modified xsi:type="dcterms:W3CDTF">2005-11-18T16:15:41Z</dcterms:modified>
  <cp:revision>1</cp:revision>
  <dc:subject/>
  <dc:title>Slide 1</dc:title>
</cp:coreProperties>
</file>