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relude_vangelis232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18520" cy="69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elude_vangelis23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5157720"/>
            <a:ext cx="8207280" cy="95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Palatino Linotype"/>
                <a:ea typeface="Times New Roman"/>
              </a:rPr>
              <a:t>Tequila y Sal</a:t>
            </a:r>
            <a:r>
              <a:rPr b="1" lang="en-US" sz="7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28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8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guien, que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ú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no sabes que existe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te a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30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9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Cuando cometes un error muy grande, algo bueno sale de e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0</a:t>
            </a:r>
            <a:br>
              <a:rPr sz="92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Cuando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piens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que el mundo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e ha vuelto contra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 míralo de otra mane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21440" cy="345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1</a:t>
            </a:r>
            <a:br>
              <a:rPr sz="10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empre acuérdate de los cumplidos que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reciba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.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Olvida los comentarios ofensiv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97080"/>
            <a:ext cx="7921440" cy="306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un buen amigo, manda esto a todos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incluyéndome a mí.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Si lo recibes de vuelta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, 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 porque realmente eres apreci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2152800" cy="3213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21440" cy="314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6600"/>
                </a:solidFill>
                <a:latin typeface="Palatino Linotype"/>
                <a:ea typeface="Arial"/>
              </a:rPr>
              <a:t>Y siempre recuerda que cuando del cielo te caigan limones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846440"/>
            <a:ext cx="7921800" cy="194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6600" spc="-1" strike="noStrike">
                <a:solidFill>
                  <a:srgbClr val="006600"/>
                </a:solidFill>
                <a:latin typeface="Palatino Linotype"/>
                <a:ea typeface="Arial"/>
              </a:rPr>
              <a:t>Pide tequila y sal…</a:t>
            </a: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6360" y="4149720"/>
            <a:ext cx="8712000" cy="194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s-MX" sz="10600" spc="-1" strike="noStrike">
                <a:solidFill>
                  <a:srgbClr val="006600"/>
                </a:solidFill>
                <a:latin typeface="Palatino Linotype"/>
                <a:ea typeface="Arial"/>
              </a:rPr>
              <a:t>Y llámame…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7921800" cy="688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Los grandes amigos no se pierden en pequeñas disputas; </a:t>
            </a:r>
            <a:br>
              <a:rPr sz="5400"/>
            </a:b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y </a:t>
            </a:r>
            <a:r>
              <a:rPr b="1" lang="es-ES_tradnl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s</a:t>
            </a: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i se pierden</a:t>
            </a:r>
            <a:r>
              <a:rPr b="1" lang="es-ES_tradnl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 </a:t>
            </a: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es porque no eran amigos… 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y mucho menos gran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31800"/>
            <a:ext cx="9144000" cy="344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Hoy </a:t>
            </a:r>
            <a:fld id="{03E5435D-ABE8-4812-B1A6-C10FA96AAC9B}" type="datetime2"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jueves 30 de julio de 2026</a:t>
            </a:fld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A las </a:t>
            </a:r>
            <a:fld id="{C5CA5553-17B6-4489-90B0-0176AA70E9D5}" type="datetime13"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05:49:01 p. m.</a:t>
            </a:fld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00"/>
                </a:solidFill>
                <a:latin typeface="Palatino Linotype"/>
                <a:ea typeface="Arial"/>
              </a:rPr>
              <a:t>¡Te deseo que tengas un hermoso dí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800" spc="-1" strike="noStrike">
                <a:solidFill>
                  <a:srgbClr val="006600"/>
                </a:solidFill>
                <a:latin typeface="Palatino Linotype"/>
                <a:ea typeface="Arial"/>
              </a:rPr>
              <a:t>T.Q.M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324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to debería estar pegado en el espejo de tu baño donde lo puedas leer todos los días.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al vez no lo sepas, pero es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100 % ver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8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1</a:t>
            </a:r>
            <a:br>
              <a:rPr sz="10000"/>
            </a:br>
            <a:r>
              <a:rPr b="0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Hay al menos 2 personas en este mundo que se morirían por </a:t>
            </a:r>
            <a:r>
              <a:rPr b="0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1520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200" spc="-1" strike="noStrike">
                <a:solidFill>
                  <a:srgbClr val="006600"/>
                </a:solidFill>
                <a:latin typeface="Palatino Linotype"/>
                <a:ea typeface="Arial"/>
              </a:rPr>
              <a:t>2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 menos 15 personas en este mundo te quieren de alguna for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391520" cy="36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3</a:t>
            </a:r>
            <a:br>
              <a:rPr sz="10000"/>
            </a:b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La única razón por la que alguien te odiaría es porque quiere ser como </a:t>
            </a:r>
            <a:r>
              <a:rPr b="1" lang="es-ES_tradnl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tú</a:t>
            </a: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1120" cy="360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200" spc="-1" strike="noStrike">
                <a:solidFill>
                  <a:srgbClr val="006600"/>
                </a:solidFill>
                <a:latin typeface="Palatino Linotype"/>
                <a:ea typeface="Arial"/>
              </a:rPr>
              <a:t>4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Una sonrisa tuya le trae felicidad a todos, hasta a los que no les caes b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696080" cy="3527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5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odas las noches, 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alguien piensa en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ti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antes de irse a dorm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921440" cy="230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6</a:t>
            </a:r>
            <a:br>
              <a:rPr sz="10000"/>
            </a:br>
            <a:r>
              <a:rPr b="1" lang="es-ES_tradnl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400" spc="-1" strike="noStrike">
                <a:solidFill>
                  <a:srgbClr val="006600"/>
                </a:solidFill>
                <a:latin typeface="Palatino Linotype"/>
                <a:ea typeface="Arial"/>
              </a:rPr>
              <a:t> el mundo para alg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213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0" spc="-1" strike="noStrike">
                <a:solidFill>
                  <a:srgbClr val="006600"/>
                </a:solidFill>
                <a:latin typeface="Palatino Linotype"/>
                <a:ea typeface="Arial"/>
              </a:rPr>
              <a:t>7</a:t>
            </a:r>
            <a:br>
              <a:rPr sz="4000"/>
            </a:b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res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una persona </a:t>
            </a:r>
            <a:r>
              <a:rPr b="1" lang="es-ES" sz="4000" spc="-1" strike="noStrike">
                <a:solidFill>
                  <a:srgbClr val="006600"/>
                </a:solidFill>
                <a:latin typeface="Palatino Linotype"/>
                <a:ea typeface="Arial"/>
              </a:rPr>
              <a:t>especial y ún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13:45Z</dcterms:created>
  <dc:creator>Mtro. Juan José Coronado Chavira</dc:creator>
  <dc:description/>
  <dc:language>en-US</dc:language>
  <cp:lastModifiedBy>DESARROLLOS TURISTICOS REGINA</cp:lastModifiedBy>
  <dcterms:modified xsi:type="dcterms:W3CDTF">2009-02-04T23:59:22Z</dcterms:modified>
  <cp:revision>3</cp:revision>
  <dc:subject/>
  <dc:title>Tequila y sal</dc:title>
</cp:coreProperties>
</file>