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the%20way%20you%20look%20tonight.wav" ContentType="audio/x-wav"/>
  <Override PartName="/ppt/media/image6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AF7-B949-4223-A817-BEE9906F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C34-2F03-46BE-AE5B-FAF8BE59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782-348C-43B2-BE7F-CF464029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EC0-B8FA-484F-8C41-374D52A7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4F2-ACE2-4B31-A4CD-C5CD9B8C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ED6-1B56-4250-A22D-51B384B3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390-6E81-4390-B2D0-130EC1BE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5C6-B80B-48B3-9A28-DDABEACC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E4E-CD56-495E-9FC7-5A558F46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3F6-1057-4726-A3AC-CA974DC2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0FF-6078-4D43-B959-0B1F6752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C79-C5A9-40F8-8DE8-710AB915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4E82-24D7-48C7-8194-A00B21CD8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he%20way%20you%20look%20tonigh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11280" y="404640"/>
            <a:ext cx="42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 A C I 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68360" y="4581360"/>
            <a:ext cx="460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 I F I C I 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8040" y="-720"/>
            <a:ext cx="52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-Fácil es criticar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840720" cy="5400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68960" y="6092280"/>
            <a:ext cx="56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00"/>
                </a:solidFill>
                <a:latin typeface="Comic Sans MS"/>
              </a:rPr>
              <a:t>-Difícil es mejorar uno mism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750"/>
                            </p:stCondLst>
                            <p:childTnLst>
                              <p:par>
                                <p:cTn id="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750"/>
                            </p:stCondLst>
                            <p:childTnLst>
                              <p:par>
                                <p:cTn id="1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14280" y="-7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-Fácil es pensar en mejo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74160" cy="5400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7200" y="6123960"/>
            <a:ext cx="88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Difícil es dejar de pensarlo y realmente hacerl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50"/>
                            </p:stCondLst>
                            <p:childTnLst>
                              <p:par>
                                <p:cTn id="2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650"/>
                            </p:stCondLst>
                            <p:childTnLst>
                              <p:par>
                                <p:cTn id="2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30120" y="-720"/>
            <a:ext cx="29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-Fácil es recib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14720" y="609228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Difícil es dar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50"/>
                            </p:stCondLst>
                            <p:childTnLst>
                              <p:par>
                                <p:cTn id="2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02440" y="1196640"/>
            <a:ext cx="782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-Envía esto a todos aquell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que aprecias y amas de verdad..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86064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1" lang="es-ES" sz="3600" spc="-1" strike="noStrike">
                <a:solidFill>
                  <a:srgbClr val="ff6600"/>
                </a:solidFill>
                <a:latin typeface="Comic Sans MS"/>
              </a:rPr>
              <a:t>FACIL ES LEER ESTE E-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es-ES" sz="3600" spc="-1" strike="noStrike">
                <a:solidFill>
                  <a:srgbClr val="ff9900"/>
                </a:solidFill>
                <a:latin typeface="Comic Sans MS"/>
              </a:rPr>
              <a:t> </a:t>
            </a:r>
            <a:r>
              <a:rPr b="1" lang="es-ES" sz="3600" spc="-1" strike="noStrike">
                <a:solidFill>
                  <a:srgbClr val="0000ff"/>
                </a:solidFill>
                <a:latin typeface="Comic Sans MS"/>
              </a:rPr>
              <a:t>DIFICIL SERA REENVIAR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Fácil es ocupar un lugar en la agenda telefónica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200" y="6092280"/>
            <a:ext cx="71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-Difícil es ocupar el corazón de alguien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912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5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50"/>
                            </p:stCondLst>
                            <p:childTnLst>
                              <p:par>
                                <p:cTn id="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058160" cy="5400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-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Comic Sans MS"/>
              </a:rPr>
              <a:t>Fácil es juzgar los errores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400" y="6092280"/>
            <a:ext cx="82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-Difícil es reconocer nuestros propios err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61920" y="89640"/>
            <a:ext cx="565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</a:rPr>
              <a:t>-Fácil es herir a quien nos 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02400" y="6020640"/>
            <a:ext cx="48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-Difícil es curar esa herida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51246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750"/>
                            </p:stCondLst>
                            <p:childTnLst>
                              <p:par>
                                <p:cTn id="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50"/>
                            </p:stCondLst>
                            <p:childTnLst>
                              <p:par>
                                <p:cTn id="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848720" cy="532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9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-Fácil es perdonar a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0508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-Difícil es pedir perd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600"/>
                            </p:stCondLst>
                            <p:childTnLst>
                              <p:par>
                                <p:cTn id="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60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22920" y="-720"/>
            <a:ext cx="48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-Fácil es exhibir la vict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840720" cy="5329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01160" y="6092280"/>
            <a:ext cx="74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-Difícil es asumir la derrota con dign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75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750"/>
                            </p:stCondLst>
                            <p:childTnLst>
                              <p:par>
                                <p:cTn id="1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2720" y="620640"/>
            <a:ext cx="5038560" cy="5400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57160" y="-720"/>
            <a:ext cx="58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-Fácil es soñar todas las no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120" y="6092280"/>
            <a:ext cx="56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-Difícil es luchar por un sueño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50"/>
                            </p:stCondLst>
                            <p:childTnLst>
                              <p:par>
                                <p:cTn id="1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850"/>
                            </p:stCondLst>
                            <p:childTnLst>
                              <p:par>
                                <p:cTn id="1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30680" y="-720"/>
            <a:ext cx="55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</a:rPr>
              <a:t>-Fácil es orar todas las no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9920" y="6123960"/>
            <a:ext cx="89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Comic Sans MS"/>
              </a:rPr>
              <a:t>-Difícil es encontrar a Dios en las cosas pequeñ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800"/>
                            </p:stCondLst>
                            <p:childTnLst>
                              <p:par>
                                <p:cTn id="1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800"/>
                            </p:stCondLst>
                            <p:childTnLst>
                              <p:par>
                                <p:cTn id="1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138040" y="-720"/>
            <a:ext cx="50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-Fácil es decir que ama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61360" y="6092280"/>
            <a:ext cx="68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Comic Sans MS"/>
              </a:rPr>
              <a:t>-Difícil es demostrarlo todos los dia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600"/>
                            </p:stCondLst>
                            <p:childTnLst>
                              <p:par>
                                <p:cTn id="1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60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3:37:44Z</dcterms:created>
  <dc:creator>HOME</dc:creator>
  <dc:description/>
  <dc:language>en-US</dc:language>
  <cp:lastModifiedBy>Blanca</cp:lastModifiedBy>
  <dcterms:modified xsi:type="dcterms:W3CDTF">2007-07-29T15:08:28Z</dcterms:modified>
  <cp:revision>22</cp:revision>
  <dc:subject/>
  <dc:title>Diapositiva 1</dc:title>
</cp:coreProperties>
</file>