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he%20way%20you%20look%20tonight.wav" ContentType="audio/x-wav"/>
  <Override PartName="/ppt/media/image6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F33-4CA9-44CC-894D-682AA503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B3D-45D5-46AD-9CC5-511A7FAA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3D9-83BC-4EB6-85A5-1A7B1AD8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18F-9C55-4A99-BEE1-888D2014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1CC-26D2-450C-865E-94F9A653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43D-BB6D-4F3B-A042-62CC9245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7E6-E207-4E51-B7F8-D6FF0040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BB1-F967-44EC-A1BE-822A3DC7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3E7-6010-4769-BC9F-203F5D51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BBF-58E7-42D7-A9BA-655371F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FC7-0824-4847-8760-7121CE7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AC4-F826-4E9C-8590-3AD9FC88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7309-DECC-40F7-9B2F-0F7566263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he%20way%20you%20look%20tonigh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11280" y="404640"/>
            <a:ext cx="42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 A C I 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4581360"/>
            <a:ext cx="46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 I F I C I 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8040" y="-720"/>
            <a:ext cx="52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-Fácil es criticar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84072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68960" y="6092280"/>
            <a:ext cx="56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00"/>
                </a:solidFill>
                <a:latin typeface="Comic Sans MS"/>
              </a:rPr>
              <a:t>-Difícil es mejorar uno mism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5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750"/>
                            </p:stCondLst>
                            <p:childTnLst>
                              <p:par>
                                <p:cTn id="1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14280" y="-7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-Fácil es pensar en mejo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7416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200" y="6123960"/>
            <a:ext cx="88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Difícil es dejar de pensarlo y realmente hacerl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50"/>
                            </p:stCondLst>
                            <p:childTnLst>
                              <p:par>
                                <p:cTn id="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65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30120" y="-72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-Fácil es recib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14720" y="609228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Difícil es dar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50"/>
                            </p:stCondLst>
                            <p:childTnLst>
                              <p:par>
                                <p:cTn id="2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02440" y="1196640"/>
            <a:ext cx="782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-Envía esto a todos aquell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que aprecias y amas de verdad..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8606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3600" spc="-1" strike="noStrike">
                <a:solidFill>
                  <a:srgbClr val="ff6600"/>
                </a:solidFill>
                <a:latin typeface="Comic Sans MS"/>
              </a:rPr>
              <a:t>FACIL ES LEER ESTE E-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es-ES" sz="3600" spc="-1" strike="noStrike">
                <a:solidFill>
                  <a:srgbClr val="ff9900"/>
                </a:solidFill>
                <a:latin typeface="Comic Sans MS"/>
              </a:rPr>
              <a:t> </a:t>
            </a:r>
            <a:r>
              <a:rPr b="1" lang="es-ES" sz="3600" spc="-1" strike="noStrike">
                <a:solidFill>
                  <a:srgbClr val="0000ff"/>
                </a:solidFill>
                <a:latin typeface="Comic Sans MS"/>
              </a:rPr>
              <a:t>DIFICIL SERA REENVIAR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Fácil es ocupar un lugar en la agenda telefónica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200" y="6092280"/>
            <a:ext cx="71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-Difícil es ocupar el corazón de alguien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912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5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5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058160" cy="5400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-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Comic Sans MS"/>
              </a:rPr>
              <a:t>Fácil es juzgar los errores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400" y="6092280"/>
            <a:ext cx="82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-Difícil es reconocer nuestros propios err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61920" y="89640"/>
            <a:ext cx="56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</a:rPr>
              <a:t>-Fácil es herir a quien nos 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02400" y="6020640"/>
            <a:ext cx="48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-Difícil es curar esa herida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51246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750"/>
                            </p:stCondLst>
                            <p:childTnLst>
                              <p:par>
                                <p:cTn id="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5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848720" cy="532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9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-Fácil es perdonar a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508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-Difícil es pedir perd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0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2920" y="-720"/>
            <a:ext cx="48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-Fácil es exhibir la vict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840720" cy="5329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01160" y="6092280"/>
            <a:ext cx="74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-Difícil es asumir la derrota con dig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5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5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2720" y="620640"/>
            <a:ext cx="5038560" cy="540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7160" y="-720"/>
            <a:ext cx="58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-Fácil es soñar todas las no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120" y="6092280"/>
            <a:ext cx="56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-Difícil es luchar por un sueñ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50"/>
                            </p:stCondLst>
                            <p:childTnLst>
                              <p:par>
                                <p:cTn id="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85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30680" y="-720"/>
            <a:ext cx="55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</a:rPr>
              <a:t>-Fácil es orar todas las no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920" y="6123960"/>
            <a:ext cx="89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Comic Sans MS"/>
              </a:rPr>
              <a:t>-Difícil es encontrar a Dios en las cosas pequeñ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00"/>
                            </p:stCondLst>
                            <p:childTnLst>
                              <p:par>
                                <p:cTn id="1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38040" y="-72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-Fácil es decir que ama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61360" y="6092280"/>
            <a:ext cx="68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Comic Sans MS"/>
              </a:rPr>
              <a:t>-Difícil es demostrarlo todos los di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0"/>
                            </p:stCondLst>
                            <p:childTnLst>
                              <p:par>
                                <p:cTn id="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6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3:37:44Z</dcterms:created>
  <dc:creator>HOME</dc:creator>
  <dc:description/>
  <dc:language>en-US</dc:language>
  <cp:lastModifiedBy>Blanca</cp:lastModifiedBy>
  <dcterms:modified xsi:type="dcterms:W3CDTF">2007-07-29T15:08:28Z</dcterms:modified>
  <cp:revision>22</cp:revision>
  <dc:subject/>
  <dc:title>Diapositiva 1</dc:title>
</cp:coreProperties>
</file>