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6.wmf" ContentType="image/x-wmf"/>
  <Override PartName="/ppt/media/image11.png" ContentType="image/png"/>
  <Override PartName="/ppt/media/image17.png" ContentType="image/pn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E1A-2985-43EA-A57C-4FC65FFC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185-CC64-46F8-BAEF-5D5E309D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E23-B985-4071-AE2E-2DBA9665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3C9-ADC8-4204-9F1C-04968A68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9C7-B76D-45C8-A960-9A73B970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049-7CD5-4A9A-8252-7A222023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F75-3CCB-4DE8-A19A-C58541D9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87B-5093-4F36-BB8D-6C4B5111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35D-B2D4-4D82-BED7-6ECB35BF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A8E-3920-431A-BD19-7884DD50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E9F-E1A4-42EB-ADD8-13200A5E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730-1DFA-4111-A62F-D6979C26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B0DF-9186-4036-B45A-7D2F8E2C6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3.wmf"/><Relationship Id="rId8" Type="http://schemas.openxmlformats.org/officeDocument/2006/relationships/image" Target="../media/image1.wmf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image" Target="../media/image2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306360"/>
            <a:ext cx="8686800" cy="6551640"/>
            <a:chOff x="457200" y="306360"/>
            <a:chExt cx="8686800" cy="655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8381880" y="5869080"/>
              <a:ext cx="76212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002120" y="4954680"/>
              <a:ext cx="5698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8475840" y="2359080"/>
              <a:ext cx="6681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8077320" y="306360"/>
              <a:ext cx="5698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886200" y="1449360"/>
              <a:ext cx="8460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6019920" y="3051000"/>
              <a:ext cx="6681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1523880" y="6173640"/>
              <a:ext cx="6685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2590920" y="3038400"/>
              <a:ext cx="76176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5867280" y="5335560"/>
              <a:ext cx="84636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457200" y="458640"/>
              <a:ext cx="6681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533520" y="3506760"/>
              <a:ext cx="56988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3429000" y="236232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19520" y="38088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0033"/>
                </a:solidFill>
                <a:latin typeface="Book Antiqua"/>
              </a:rPr>
              <a:t>Todos, alguna vez le decimos a nuestros amigos . . .</a:t>
            </a:r>
            <a:r>
              <a:rPr b="0" i="1" lang="es-ES" sz="2400" spc="-1" strike="noStrike">
                <a:solidFill>
                  <a:srgbClr val="990033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9051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9966"/>
                </a:solidFill>
                <a:latin typeface="Book Antiqua"/>
              </a:rPr>
              <a:t>SEREM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182880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3300"/>
                </a:solidFill>
                <a:latin typeface="Book Antiqua"/>
              </a:rPr>
              <a:t>AMIG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62485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339966"/>
                </a:solidFill>
                <a:latin typeface="Book Antiqua"/>
              </a:rPr>
              <a:t>SIEMP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ngel1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57240">
            <a:solidFill>
              <a:srgbClr val="9933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2438280" y="5029200"/>
            <a:ext cx="426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Book Antiqua"/>
              </a:rPr>
              <a:t>y  diles  a  los nuev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Book Antiqua"/>
              </a:rPr>
              <a:t>que  nunca  lo  ha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1219320"/>
            <a:ext cx="7391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300" spc="-1" strike="noStrike">
                <a:solidFill>
                  <a:srgbClr val="dddddd"/>
                </a:solidFill>
                <a:latin typeface="Book Antiqua"/>
              </a:rPr>
              <a:t>Recuerda que todos necesitamos un amig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834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0720" y="5029200"/>
            <a:ext cx="7772400" cy="835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3520" y="1981080"/>
            <a:ext cx="8229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Book Antiqua"/>
              </a:rPr>
              <a:t>En algún momento de tú vida quizás llegues a sentir que no tienes ningún am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Book Antiqua"/>
              </a:rPr>
              <a:t>pero sólo recuerda este correo y tranquilízate</a:t>
            </a:r>
            <a:r>
              <a:rPr b="1" i="1" lang="es-E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Book Antiqua"/>
              </a:rPr>
              <a:t>sabiendo que hay alquien que te aprecia y se acuerda de 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19720" y="304920"/>
            <a:ext cx="4724280" cy="1600200"/>
          </a:xfrm>
          <a:prstGeom prst="cloudCallout">
            <a:avLst>
              <a:gd name="adj1" fmla="val -43750"/>
              <a:gd name="adj2" fmla="val 6527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685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</a:rPr>
              <a:t>Pero, ¿cuánto dura en re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00600" y="54864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99ff"/>
                </a:solidFill>
                <a:latin typeface="Book Antiqua"/>
              </a:rPr>
              <a:t>Podemos ser los mejores amigos por un año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3192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192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RS631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034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2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7242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cc"/>
                </a:solidFill>
                <a:latin typeface="Book Antiqua"/>
              </a:rPr>
              <a:t>Muy buenos amigos el siguente año . . .</a:t>
            </a:r>
            <a:r>
              <a:rPr b="1" i="1" lang="es-ES" sz="2400" spc="-1" strike="noStrike">
                <a:solidFill>
                  <a:srgbClr val="ff66cc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295280" y="914400"/>
          <a:ext cx="67057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6705720" cy="533412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prstDash val="dashDot"/>
                    <a:miter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295280" y="10825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cc"/>
                </a:solidFill>
                <a:latin typeface="Book Antiqua"/>
              </a:rPr>
              <a:t>no hablamos tan a menu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8862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cc"/>
                </a:solidFill>
                <a:latin typeface="Book Antiqua"/>
              </a:rPr>
              <a:t>el pró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i="1" lang="es-ES" sz="2400" spc="-1" strike="noStrike">
                <a:solidFill>
                  <a:srgbClr val="cc00cc"/>
                </a:solidFill>
                <a:latin typeface="Book Antiqua"/>
              </a:rPr>
              <a:t>año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5334120" cy="4989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3733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</a:rPr>
              <a:t>El año después de 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</a:rPr>
              <a:t>. . . y no necesita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</a:rPr>
              <a:t>hablar del to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ngel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8120" y="2590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99"/>
                </a:solidFill>
                <a:latin typeface="Book Antiqua"/>
              </a:rPr>
              <a:t>Entonces, lo que quiero decirte es que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cc66"/>
                </a:solidFill>
                <a:latin typeface="Book Antiqua"/>
              </a:rPr>
              <a:t>Aunque nos demoremos en volver a 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4572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Book Antiqua"/>
              </a:rPr>
              <a:t>Eres importante para 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99ff"/>
                </a:solidFill>
                <a:latin typeface="Book Antiqua"/>
              </a:rPr>
              <a:t>Que te adm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</a:rPr>
              <a:t>Te resp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38862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Book Antiqua"/>
              </a:rPr>
              <a:t>y que realmente te aprecio mu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ivingbk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5120" y="3048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99"/>
                </a:solidFill>
                <a:latin typeface="Book Antiqua"/>
              </a:rPr>
              <a:t>Envia este mensaje a todos tus 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3808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99"/>
                </a:solidFill>
                <a:latin typeface="Book Antiqua"/>
              </a:rPr>
              <a:t>No importa que tan seguido hablen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4952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99"/>
                </a:solidFill>
                <a:latin typeface="Book Antiqua"/>
              </a:rPr>
              <a:t>que tan cerca e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60958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99"/>
                </a:solidFill>
                <a:latin typeface="Book Antiqua"/>
              </a:rPr>
              <a:t>y también regrésaselo a quien te lo env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1350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ngel12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5623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2895480" y="40384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6600"/>
                </a:solidFill>
                <a:latin typeface="Book Antiqua"/>
              </a:rPr>
              <a:t>Permítele a los viejos amigos saber que no los has olvi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2:28:04Z</dcterms:created>
  <dc:creator>Rosa/Raquel</dc:creator>
  <dc:description/>
  <dc:language>en-US</dc:language>
  <cp:lastModifiedBy>CLIENTE-3</cp:lastModifiedBy>
  <dcterms:modified xsi:type="dcterms:W3CDTF">2002-05-21T23:27:40Z</dcterms:modified>
  <cp:revision>12</cp:revision>
  <dc:subject/>
  <dc:title>Sin título de diapositiva</dc:title>
</cp:coreProperties>
</file>