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83F-D306-420E-8BEC-E16D53D6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423-6A0A-4888-9C92-D1BD4255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339-45DE-4B11-BF12-E69A4BF6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912-779E-44A9-BB51-47F8DF3A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6472-1438-4506-80F9-2361DCC2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56F1-DCFC-466A-ABA9-FBAC251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C92-964B-4B0A-851F-8B768E39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2DF2-6325-40BC-96F9-B0AF1C4E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86C6-9EC3-4DAB-8950-51598059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68D-9448-4B16-BFFC-E376A14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0BE5-679D-4149-B705-CAF72D3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10E-9D7A-4875-9071-855E9FA4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D08D-538A-4FA7-9133-291E35C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098-3A4A-4235-9D02-B4B72EE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6C6-5439-4982-A541-E9FC5FD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8639-F609-40BE-A5F9-21E9273A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C447-1C4C-4459-B96F-1435E3D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B7F-66B4-406E-80E9-0083D38A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67A-A122-4A58-AF95-36B7E03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E6-8D19-4126-95A4-2BBA45E7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088-E8F2-4484-8538-E25FD80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C96-FAE7-4E81-B0B9-03E825C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B8F-F443-4EC7-A35C-1564D32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0C4-4953-4A32-BFDF-E522275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139A-0A1D-446B-AF59-83ADF620E0C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81B-D54D-4A63-9F55-E991CFBFE9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Arial"/>
              </a:rPr>
              <a:t>Necesito que me lo devuelvas.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Arial"/>
              </a:rPr>
              <a:t>Si lo haces por mí, yo lo haré por ti....</a:t>
            </a: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125000"/>
            <a:ext cx="4114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uando no te queda nada más que Di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cuando te das cuenta de que Dios 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odo lo que necesitas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¡Sólo tardarás 60 segundo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odo lo que tienes que hacer es decir esta pequeña oración por la persona que te mandó es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adre Di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endice a todos mis amig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 lo que Tú sabes que pueden necesitar ho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Y que su vida se llene de tu paz, prosperidad y poder mientras buscan tener una re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ás estrecha contig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mén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3809520"/>
            <a:ext cx="854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víalo a otras cinco person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incluyendo a la que te lo mandó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unas horas habrás movido a una multitud de perso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 orar por Otro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hora ya puedes relajarte y ver como el poder de Dios actúa en tu vid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54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inco está bien, si son más, mejor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15760" y="6248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Copperplate Gothic Light"/>
              </a:rPr>
              <a:t>P.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8:20Z</dcterms:created>
  <dc:creator>Jessica Farias</dc:creator>
  <dc:description/>
  <dc:language>en-US</dc:language>
  <cp:lastModifiedBy>. ..</cp:lastModifiedBy>
  <dcterms:modified xsi:type="dcterms:W3CDTF">2006-08-11T16:14:01Z</dcterms:modified>
  <cp:revision>7</cp:revision>
  <dc:subject/>
  <dc:title>Necesito que me lo devuelvas. Si lo haces por mí, yo lo haré por ti.... </dc:title>
</cp:coreProperties>
</file>