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E6C-14BC-4404-B643-C4B01907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D16-757C-4608-AC28-745770E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5A8-EC48-4D78-85C3-FA075B7A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40B-3397-4595-AB4E-93BEACD4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D524-D89B-422D-975B-5D2574EE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90D8-7D64-45FF-A262-0EC0833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A5D2-FE3E-4874-8FE0-6949C35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5AFB-238D-4267-8BEA-0D31C8B1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5870-4683-4941-ADF6-900F31B5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6202-A115-48AC-998A-AAE3C5D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0DEE-B43D-461B-8BE2-82B9731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DC2-48B2-4BBD-84A7-176E2282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6703-4EA0-4D30-9C1C-0601B18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F431-B41E-4636-9F48-77C6B3D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CE5-21FE-4290-9855-BADB082B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D4F6-2A8B-48B8-AC6B-5AE7501D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20A2-85D0-4A9F-B1F6-4B3C51A4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BF7-83DC-4265-8A01-C4FB36A9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335-EE79-4B61-B2B7-AF19387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235-107C-4A31-93DA-F2F81F93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75B-EEA5-4749-A70A-90538F0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2F3-294A-4DE3-B50B-1EF70DB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4F6-8944-40F6-AD06-0200648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9BC-A9E1-4F55-A345-8673F7A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014B-F454-4228-8059-6BEBDE1F2F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16F1-D8BA-47E3-AF98-7EA9690E76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Arial"/>
              </a:rPr>
              <a:t>Necesito que me lo devuelvas. </a:t>
            </a: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Arial"/>
              </a:rPr>
              <a:t>Si lo haces por mí, yo lo haré por ti....</a:t>
            </a: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125000"/>
            <a:ext cx="4114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uando no te queda nada más que Dio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cuando te das cuenta de que Dios 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todo lo que necesitas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¡Sólo tardarás 60 segundo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Todo lo que tienes que hacer es decir esta pequeña oración por la persona que te mandó es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adre Di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Bendice a todos mis amig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 lo que Tú sabes que pueden necesitar ho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Y que su vida se llene de tu paz, prosperidad y poder mientras buscan tener una re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más estrecha contigo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Amén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1920" y="3809520"/>
            <a:ext cx="854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víalo a otras cinco person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incluyendo a la que te lo mandó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unas horas habrás movido a una multitud de perso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 orar por Otro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hora ya puedes relajarte y ver como el poder de Dios actúa en tu vid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520" y="5181120"/>
            <a:ext cx="854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inco está bien, si son más, mejor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15760" y="6248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Copperplate Gothic Light"/>
              </a:rPr>
              <a:t>P.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8:20Z</dcterms:created>
  <dc:creator>Jessica Farias</dc:creator>
  <dc:description/>
  <dc:language>en-US</dc:language>
  <cp:lastModifiedBy>. ..</cp:lastModifiedBy>
  <dcterms:modified xsi:type="dcterms:W3CDTF">2006-08-11T16:14:01Z</dcterms:modified>
  <cp:revision>7</cp:revision>
  <dc:subject/>
  <dc:title>Necesito que me lo devuelvas. Si lo haces por mí, yo lo haré por ti.... </dc:title>
</cp:coreProperties>
</file>