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L%20PESCAD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E88-AD8A-4C5C-9769-D871EA70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FDA-BA75-44D4-8F36-F715B33E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20D-CC4C-4A81-B251-3009F2AC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F16-CAE4-42D7-AA7B-C762A340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77D-035A-4E63-8EB5-F66F4165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081-4F2C-4948-A5F4-C904556A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8DD-673E-4890-87FD-20A821B6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CB0-5B2C-4933-AEB3-8081AAC5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9C9-2A1C-4ADA-93DE-4881390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A46-D693-422C-9B2E-C47F7091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9D2-3446-4F71-8345-FA1E6BF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700-FE1E-47AB-A9DD-4A42305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4058-DAEE-4E9F-BE0D-4A17BD900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%20PESCAD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219480"/>
            <a:ext cx="739152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noFill/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Dios</a:t>
            </a:r>
            <a:endParaRPr b="1" lang="en-US" sz="9600" spc="1" strike="noStrike">
              <a:ln w="0">
                <a:noFill/>
              </a:ln>
              <a:noFill/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8776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EL%20PESCAD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01336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 es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n una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situa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ió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roblemática….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si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t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er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menor i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de como  resolver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a….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repen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sol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ió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parece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17800"/>
            <a:ext cx="914400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toma siempre…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uestro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roblemas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Sus M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s… y nos ayuda a resolverl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92600"/>
            <a:ext cx="9144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 ….sentiste 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i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mensa tristeza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n e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lma ….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repente  como 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bálsamo de amor, f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e derramado en ti…..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parec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paz inexplic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bl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…..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que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invad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todo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tu ser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917800"/>
            <a:ext cx="914400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te con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la en sus brazos …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te dá esperan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403880"/>
            <a:ext cx="9144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… te sentiste 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cansado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 la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vida.. a p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nto de querer mor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r...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repente 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ntes que 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n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a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rz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suficiente… para continuar tu camino…. con renovados bríos…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683240"/>
            <a:ext cx="914400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esta a tu lado …y te acompaña con am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n el  camino de tu vida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435640"/>
            <a:ext cx="91440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do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r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u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nd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4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4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4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400" spc="-1" strike="noStrike">
                <a:solidFill>
                  <a:srgbClr val="ff3300"/>
                </a:solidFill>
                <a:latin typeface="Times New Roman"/>
              </a:rPr>
              <a:t>S QUE ESTÁ </a:t>
            </a:r>
            <a:r>
              <a:rPr b="1" i="1" lang="es-AR" sz="3400" spc="-1" strike="noStrike">
                <a:solidFill>
                  <a:srgbClr val="ff3300"/>
                </a:solidFill>
                <a:latin typeface="Times New Roman"/>
              </a:rPr>
              <a:t>AL</a:t>
            </a:r>
            <a:r>
              <a:rPr b="1" i="1" lang="es-ES_tradnl" sz="3400" spc="-1" strike="noStrike">
                <a:solidFill>
                  <a:srgbClr val="ff3300"/>
                </a:solidFill>
                <a:latin typeface="Times New Roman"/>
              </a:rPr>
              <a:t> FRENTE DE T</a:t>
            </a:r>
            <a:r>
              <a:rPr b="1" i="1" lang="es-AR" sz="3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400" spc="-1" strike="noStrike">
                <a:solidFill>
                  <a:srgbClr val="ff3300"/>
                </a:solidFill>
                <a:latin typeface="Times New Roman"/>
              </a:rPr>
              <a:t>DO!!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5470560"/>
            <a:ext cx="8991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Piensas que es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en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je…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te f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nvia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or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asualidad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200400"/>
            <a:ext cx="899172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que toco m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cora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zó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…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hizo acordarme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de ti….. No por ser 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p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o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amiga…. 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n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orqu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r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importante para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…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ara m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 porque DIOS TE AMA MUCHISIMO…..y yo tambi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41911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De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que 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S to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que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tu cora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zón…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te 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haga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enviar esta mensa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je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a todos  tus amigos…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27080" y="4511520"/>
            <a:ext cx="766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Tambien envialo a todos tus familiares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Conocidos…vecinos..en fin…a 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Porque todos necesitamos saber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DIOS SIEMPRE ESTA CON NOS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9144000" cy="19479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6954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Algu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n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a vez sentist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el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 deseo …de 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h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a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c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er u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n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a cosa agrad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able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por algu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ien…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 a qu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i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e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n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 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le 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t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i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en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e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s cari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ñ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o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75"/>
                            </p:stCondLst>
                            <p:childTnLst>
                              <p:par>
                                <p:cTn id="1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600"/>
                            </p:stCondLst>
                            <p:childTnLst>
                              <p:par>
                                <p:cTn id="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75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5343480"/>
            <a:ext cx="81536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Vamos a compartir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on todos….. e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NMENSO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MOR  DE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!!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105520"/>
            <a:ext cx="9144000" cy="1287720"/>
          </a:xfrm>
          <a:prstGeom prst="rect">
            <a:avLst/>
          </a:prstGeom>
          <a:noFill/>
          <a:ln w="9360">
            <a:solidFill>
              <a:srgbClr val="4e1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habla…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través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spíri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Sant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9424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 sentiste tristeza..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sol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d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unq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 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en cercano…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s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 tu lado?</a:t>
            </a: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26716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cog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..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por med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su Hijo Jesucris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86108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  pensa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t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en…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que 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uy querido…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no v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c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h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 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mpo…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repen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parece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sa p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rso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34348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porqu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a casualidad…. n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xist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39424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rec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te algo maravil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so…. que n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había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edido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917800"/>
            <a:ext cx="914400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con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ce b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e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s s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r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s…. que guardas    en  tu cora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zón</a:t>
            </a: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18:07:15Z</dcterms:created>
  <dc:creator>Dios</dc:creator>
  <dc:description>Dios te ama y yo tambien</dc:description>
  <cp:keywords>sonrie Dios te ama</cp:keywords>
  <dc:language>en-US</dc:language>
  <cp:lastModifiedBy>Nelly Guadalupe González Leo</cp:lastModifiedBy>
  <dcterms:modified xsi:type="dcterms:W3CDTF">2005-10-15T15:48:59Z</dcterms:modified>
  <cp:revision>30</cp:revision>
  <dc:subject>saludos a todos mis amigos y hermanos</dc:subject>
  <dc:title>ES DIOS</dc:title>
</cp:coreProperties>
</file>