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349-A533-41C4-988A-1174BEC1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9C9-26EC-4EFC-9730-667D6B7B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893-16C6-4A32-93A4-BF816706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803-2209-4F7C-BC46-2FFDCDA1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F44-5BCD-45DF-BF87-F22F9F0B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0A3-6A88-4C99-8F50-157300F4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659-816C-4FB4-BAE6-69BF32DE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919-5FE8-4CB2-9FFD-5EDFF2BF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551-4B15-425C-9C8B-AE627E70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2FB-4986-4763-9A09-D26D276F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89A-76FC-451A-AF36-71B97DAA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DAA-17F6-4CC6-A6F6-63A70F22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89AF-822E-4F90-BA2C-01A58D711570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89000"/>
            <a:ext cx="8497800" cy="648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378000"/>
            <a:ext cx="8209080" cy="60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68360" y="620640"/>
            <a:ext cx="4281840" cy="571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95640" y="16016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éelo en silencio, por favor, ES MUY CORTITO Y EF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ñor Jesús: "Perdona mis pecados, Te amo mucho, te necesito para siempre, estás en lo más profundo de mi corazón, cubre con tu sangre preciosa, a mi familia, mi casa, mi hogar, mi empleo, mis finanzas, mis sueños, mis proyecto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is amigos“ A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 esta oración a 7 personas (mínimo) excepto a mi. Recibirás un milagro mañana. No lo ignores. Yo lo envié a más de 7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20000" y="4149720"/>
            <a:ext cx="15811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21:31:51Z</dcterms:created>
  <dc:creator>Guillermo Diaz</dc:creator>
  <dc:description/>
  <dc:language>en-US</dc:language>
  <cp:lastModifiedBy>Usuario</cp:lastModifiedBy>
  <dcterms:modified xsi:type="dcterms:W3CDTF">2007-10-18T04:04:10Z</dcterms:modified>
  <cp:revision>3</cp:revision>
  <dc:subject/>
  <dc:title>Diapositiva 1</dc:title>
</cp:coreProperties>
</file>