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B77-76BD-4752-A34F-52919E1C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A23-5C4D-4490-B20E-2B7501C0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13F-92E6-4E23-9551-E4FFDBC7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B39-1F27-4E76-9074-CC0A5A8D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325-49EE-4B1A-9B1E-20564C99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DBE-7065-4052-A583-2FB75D0B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CDC-1FB1-4B93-853D-676BDDD1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526-1182-4F6F-86A5-1B7C6DA1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17A-5391-49BF-88DC-85550D64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0A7-0AC2-4FC4-BFBC-DB984035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513-4262-4262-AE4B-91BCE066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959-EE1F-41C4-A785-1D64574B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3252-79A0-4C5A-A119-FF2FCD07720A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89000"/>
            <a:ext cx="8497800" cy="648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378000"/>
            <a:ext cx="8209080" cy="60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68360" y="620640"/>
            <a:ext cx="4281840" cy="571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95640" y="16016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éelo en silencio, por favor, ES MUY CORTITO Y EF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ñor Jesús: "Perdona mis pecados, Te amo mucho, te necesito para siempre, estás en lo más profundo de mi corazón, cubre con tu sangre preciosa, a mi familia, mi casa, mi hogar, mi empleo, mis finanzas, mis sueños, mis proyecto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is amigos“ A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 esta oración a 7 personas (mínimo) excepto a mi. Recibirás un milagro mañana. No lo ignores. Yo lo envié a más de 7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20000" y="4149720"/>
            <a:ext cx="15811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21:31:51Z</dcterms:created>
  <dc:creator>Guillermo Diaz</dc:creator>
  <dc:description/>
  <dc:language>en-US</dc:language>
  <cp:lastModifiedBy>Usuario</cp:lastModifiedBy>
  <dcterms:modified xsi:type="dcterms:W3CDTF">2007-10-18T04:04:10Z</dcterms:modified>
  <cp:revision>3</cp:revision>
  <dc:subject/>
  <dc:title>Diapositiva 1</dc:title>
</cp:coreProperties>
</file>