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rnesto%20Cortazar%20Fly_me_to_the_Moon%20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3AF-D075-4DBA-9814-989E8F0A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27D6-491D-410C-B51A-DC3F6742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295-1EC4-4FC5-851B-8155CD2F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293-C6E2-4EEC-94F2-B6D4BC52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39B2-5C65-4CEB-A1C8-D2A3D5FF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63F7-8C44-4E25-85BF-1435AA39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60E-422C-4EEC-98F0-08BD109B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F800-9BFB-47B4-9C8B-48598530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084-80FD-4E58-B304-6484B84D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8C19-7409-4768-ADBE-3AC4BDB6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312-0B48-45F6-9673-A1CF621C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3967-68A0-4C17-842E-DAC36B80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FD88-61E2-4D47-A3CB-E8BB712C6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azar%20Fly_me_to_the_Moon%201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7920" y="2514600"/>
            <a:ext cx="26481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EST    CHI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zoom dir="out"/>
    <p:sndAc>
      <p:stSnd>
        <p:snd r:embed="rId2" name="Ernesto%20Cortazar%20Fly_me_to_the_Moon%20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279360"/>
            <a:ext cx="609624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ff"/>
                </a:solidFill>
                <a:uFillTx/>
                <a:latin typeface="Comic Sans MS"/>
                <a:ea typeface="Courier New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STE TEST CHINO PUES NO SE SI SERA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COINCIDENCIA,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PERO A MI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ME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SORPRENDI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Ó, POR LOS RESULTADOS OBTENIDOS QUE REALMENTE FUERON ACER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NO DEJEN DE HACERLO Y A VER COMO LES 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INCREÍBLEMENTE, 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S UN PRECIS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HORÓSCOPO CHINO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EN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L AÑO DEL DRAGÓN DE HIERRO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,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DESEÁNDOTE PROSPERIDAD Y BUENA SUERTE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,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N EL 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NUEVO AÑ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CH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21337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05720" y="838080"/>
            <a:ext cx="1981080" cy="5562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685800"/>
            <a:ext cx="51055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SIGUE LAS INSTRUCCIONES O NO 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SE CUMPLIRÁ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Y DESEARÁS NO HABERLO HECHO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TARDARÁS 3 MINUTOS Y TE SENTIRÁS ALGO "RARO/A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ME HAN DICHO QUE LA PERSONA QUE ENVIÓ ESTO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,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DIJO QUE SU SUEÑO SE HIZO REALIDAD 10 MINUTOS DESPUÉS DE HABER LEÍDO EL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MA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PERO, NO HAGAS TRAMP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2096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62720" y="762120"/>
            <a:ext cx="3124080" cy="556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04920"/>
            <a:ext cx="83822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¡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A 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MPEZAR!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TARDARÁS 3 MINUTOS Y VALE LA P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LO PRIMERO, TOMA PAPEL Y LÁPIZ. CUANDO ELIJAS NOMBRES, HA DE SER GENT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QUE CONOZCAS Y ¡FÍATE DE TU PRIMER INSTINTO! VE HACIENDO LÍNEA POR LÍNEA Y NO LEAS MÁS ABAJO O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PERDERÁ LA GRA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1. PRIMERO, ESCRIBE UNA COLUMNA CON NÚMEROS DEL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1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AL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2. AL LADO DE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1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Y EL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2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, ESCRIBE LOS DOS NÚMEROS QUE QUIE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3. AL LADO DEL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3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Y EL </a:t>
            </a:r>
            <a:r>
              <a:rPr b="0" lang="es-AR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7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, ESCRIBE NOMBRES DE PERSONAS DEL SEXO 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O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552600"/>
            <a:ext cx="54864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4. ESCRIBE UN NOMBRE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, PUEDE SER DE AMIGOS, FAMILIARES  O CONOCIDOS,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EN LOS N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U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</a:t>
            </a:r>
            <a:r>
              <a:rPr b="0" lang="es-AR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4, 5 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Y</a:t>
            </a:r>
            <a:r>
              <a:rPr b="0" lang="es-AR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5. ESCRIBE CUATRO TÍTULOS DE CANCIONES EN LOS NÚMEROS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8, 9, 10</a:t>
            </a:r>
            <a:r>
              <a:rPr b="0" lang="es-AR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 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Y</a:t>
            </a:r>
            <a:r>
              <a:rPr b="0" lang="es-AR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 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6. FINALMENTE, PIDE UN DESEO Y ÉSTA ES LA CLAVE DEL JU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21337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67280" y="609480"/>
            <a:ext cx="2971800" cy="563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3080" y="193680"/>
            <a:ext cx="8420040" cy="67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TIENES QUE INFORMAR A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(EL N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U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MERO QUE HAS PUESTO EN EL PUNTO 2)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PERSONAS SOBRE ESTE JU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2.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LA PERSONA EN EL PUNTO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ES A QUIEN AMAS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3. LA PERSONA DEL PUNTO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7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TE GUSTA, PERO NO PUEDE CONCRETARSE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4. LA PERSONA QUE HAS PUESTO EN EL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4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TE IMPORTA 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5. LA QUE HAS PUESTO EN EL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5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ES LA QUE TE CONOCE BIEN DE VERDAD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6. LA QUE HAS PUESTO EN EL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6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ES TU ESTRELLA DE LA S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92160" y="476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3429000"/>
            <a:ext cx="838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7680" y="376200"/>
            <a:ext cx="889632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7. LA CANCIÓN DEL NÚMERO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 8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S LA QUE VA CON LA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PERSONA DEL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8. EL TÍTULO DEL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9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S LA CANCIÓN PARA LA PERSONA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DEL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7</a:t>
            </a:r>
            <a:r>
              <a:rPr b="0" lang="es-AR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9. LA QUE HAS PUESTO EN EL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10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S LA QUE MÁS DICE SOBRE LO QUE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PIEN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10. Y LA DEL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11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S LA QUE HABLA SOBRE CÓMO SIENTES LA VIDA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NVÍA ESTO A 10 PERSONAS EN LA HORA QUE SIGUE A TU LECTURA. SI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LO HACES, TU SUEÑO SE HARÁ REALIDAD...SINO...SE VOLVERÁ LO CONTR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RARO, ¿NO? ...PERO DICEN QUE SE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CUMPLE!!!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AR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                        </a:t>
            </a:r>
            <a:r>
              <a:rPr b="0" lang="es-AR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¡¡¡SUERT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0120" y="49528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238880" y="518148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20:05:20Z</dcterms:created>
  <dc:creator>Fabian</dc:creator>
  <dc:description/>
  <dc:language>en-US</dc:language>
  <cp:lastModifiedBy>Fabian</cp:lastModifiedBy>
  <dcterms:modified xsi:type="dcterms:W3CDTF">2007-09-07T20:51:11Z</dcterms:modified>
  <cp:revision>3</cp:revision>
  <dc:subject/>
  <dc:title>Presentación de PowerPoint</dc:title>
</cp:coreProperties>
</file>