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WINTER~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  <p:custShowLst>
    <p:custShow name="Um desafio com Desus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DB0-E974-4AA4-9C61-E5A47DBE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2DF-2CDE-461D-B9BA-4E0F1F70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95F-7CBF-4C71-87AC-2A9113B3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499-8A69-4115-9B5E-AD437A87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E25-E641-44C8-A7C9-FB29C3A5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1D8-BC2A-4EF3-82DB-B92CD577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25D-16C0-4136-AE9A-41742B70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C0A-9270-4065-B1C2-C250B65E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2F4-CEDC-44AE-86E7-CD99F34F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9F2-C26D-4F34-B1AF-70B293C8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6D9-6135-420A-A845-C86974A0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1E8-07C6-4935-9BAA-A1639498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98B1-F41D-4267-A8F9-197735191E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TER~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491940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99cc"/>
                </a:solidFill>
                <a:latin typeface="Times New Roman"/>
                <a:ea typeface="Times New Roman"/>
              </a:rPr>
              <a:t>EL DESAF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WINTER~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04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66"/>
                </a:solidFill>
                <a:latin typeface="Palatino Linotype"/>
              </a:rPr>
              <a:t>Dios es la fuente de mi existencia, es mi Salv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66"/>
                </a:solidFill>
                <a:latin typeface="Palatino Linotype"/>
              </a:rPr>
              <a:t>Él me sostiene cada día.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029200"/>
            <a:ext cx="914400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66"/>
                </a:solidFill>
                <a:latin typeface="Palatino Linotype"/>
              </a:rPr>
              <a:t>Sin Él no soy nada, pero con Él lo consigo todo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66"/>
                </a:solidFill>
                <a:latin typeface="Palatino Linotype"/>
              </a:rPr>
              <a:t>en la abundancia o en la escase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66"/>
                </a:solidFill>
                <a:latin typeface="Palatino Linotype"/>
              </a:rPr>
              <a:t>Todo lo puedo en aquél que me fortalerce.  </a:t>
            </a:r>
            <a:r>
              <a:rPr b="1" i="1" lang="pt-BR" sz="1500" spc="-1" strike="noStrike">
                <a:solidFill>
                  <a:srgbClr val="ffcc66"/>
                </a:solidFill>
                <a:latin typeface="Palatino Linotype"/>
              </a:rPr>
              <a:t>(Filipenses 4:1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100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ccccff"/>
                </a:solidFill>
                <a:latin typeface="Palatino Linotype"/>
              </a:rPr>
              <a:t>Entonces el desafío está hecho... 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5257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ccccff"/>
                </a:solidFill>
                <a:latin typeface="Palatino Linotype"/>
              </a:rPr>
              <a:t>Si amas a Dios y no sientes vergüenza de reconoc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ccccff"/>
                </a:solidFill>
                <a:latin typeface="Palatino Linotype"/>
              </a:rPr>
              <a:t>las cosas maravillosas que Él ha hecho por ti..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588636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5257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6600"/>
                </a:solidFill>
                <a:latin typeface="Palatino Linotype"/>
              </a:rPr>
              <a:t>envía este e-mail a muchas personas (</a:t>
            </a:r>
            <a:r>
              <a:rPr b="1" i="1" lang="pt-BR" sz="2000" spc="-1" strike="noStrike">
                <a:solidFill>
                  <a:srgbClr val="ff6600"/>
                </a:solidFill>
                <a:latin typeface="Palatino Linotype"/>
              </a:rPr>
              <a:t>aunque no sean cristianas</a:t>
            </a:r>
            <a:r>
              <a:rPr b="1" i="1" lang="pt-BR" sz="2800" spc="-1" strike="noStrike">
                <a:solidFill>
                  <a:srgbClr val="ff6600"/>
                </a:solidFill>
                <a:latin typeface="Palatino Linotype"/>
              </a:rPr>
              <a:t>), y también a la persona que te lo envió a tí, para que sepa que aceptáste el desafio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797000" y="5410080"/>
            <a:ext cx="407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1b1b"/>
                </a:solidFill>
                <a:latin typeface="Times New Roman"/>
              </a:rPr>
              <a:t>Que Dios te acompañ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1b1b"/>
                </a:solidFill>
                <a:latin typeface="Times New Roman"/>
              </a:rPr>
              <a:t>y tengas un lindo día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6094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Times New Roman"/>
              </a:rPr>
              <a:t>$1.000 parecen tanto cuando se los damos a la Iglesia, pero tan poco cuando vamos de comp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40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28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a1a1"/>
                </a:solidFill>
                <a:latin typeface="Times New Roman"/>
              </a:rPr>
              <a:t>Una hora es tán larga cuando servimos a Di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a1a1"/>
                </a:solidFill>
                <a:latin typeface="Times New Roman"/>
              </a:rPr>
              <a:t>pero tan corta cuando vemos una película o un partido de fút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181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a1a1"/>
                </a:solidFill>
                <a:latin typeface="Times New Roman"/>
              </a:rPr>
              <a:t>No encontramos palabras para orar, pero que fác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a1a1"/>
                </a:solidFill>
                <a:latin typeface="Times New Roman"/>
              </a:rPr>
              <a:t>nos salen cuando charlamos con algún ami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079960" cy="327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304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6699"/>
                </a:solidFill>
                <a:latin typeface="Times New Roman"/>
              </a:rPr>
              <a:t>Nos da sueño leer un capítulo de la Bíblia, pero que fácil nos resulta leer revistas con lo último del Jet-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181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6699"/>
                </a:solidFill>
                <a:latin typeface="Times New Roman"/>
              </a:rPr>
              <a:t>Buscamos siempre la primera fila de butacas en el teatro, pero cuando vamos a la Iglesia, siempre nos ubicamos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8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c000"/>
                </a:solidFill>
                <a:latin typeface="Times New Roman"/>
              </a:rPr>
              <a:t>Exigimos saber con anticipación cualquier compromi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c000"/>
                </a:solidFill>
                <a:latin typeface="Times New Roman"/>
              </a:rPr>
              <a:t>con la Iglesia, pero para otros eventos, estamos siempre atentos y dispue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76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c000"/>
                </a:solidFill>
                <a:latin typeface="Times New Roman"/>
              </a:rPr>
              <a:t>Tenemos dificultades para aprender a or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c000"/>
                </a:solidFill>
                <a:latin typeface="Times New Roman"/>
              </a:rPr>
              <a:t>pero que fácil nos resulta aprendernos el último chi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7462" t="12198" r="7462" b="12198"/>
          <a:stretch/>
        </p:blipFill>
        <p:spPr>
          <a:xfrm>
            <a:off x="2362320" y="2209680"/>
            <a:ext cx="434340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04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cc"/>
                </a:solidFill>
                <a:latin typeface="Times New Roman"/>
              </a:rPr>
              <a:t>Creémos todo lo que dicen los periódic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cc"/>
                </a:solidFill>
                <a:latin typeface="Times New Roman"/>
              </a:rPr>
              <a:t>pero cuestionamos lo que dice la Bíb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34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cc"/>
                </a:solidFill>
                <a:latin typeface="Palatino Linotype"/>
              </a:rPr>
              <a:t>Todos quieren la salvación, sin necesidad de cre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cc"/>
                </a:solidFill>
                <a:latin typeface="Palatino Linotype"/>
              </a:rPr>
              <a:t> </a:t>
            </a:r>
            <a:r>
              <a:rPr b="1" i="1" lang="pt-BR" sz="2800" spc="-1" strike="noStrike">
                <a:solidFill>
                  <a:srgbClr val="ffcccc"/>
                </a:solidFill>
                <a:latin typeface="Palatino Linotype"/>
              </a:rPr>
              <a:t>decir, o hacer nada para consegui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04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5050"/>
                </a:solidFill>
                <a:latin typeface="Times New Roman"/>
              </a:rPr>
              <a:t>Mandamos miles de bromas por e-mai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5050"/>
                </a:solidFill>
                <a:latin typeface="Times New Roman"/>
              </a:rPr>
              <a:t>que se  propagan como un incendio,</a:t>
            </a:r>
            <a:r>
              <a:rPr b="0" i="1" lang="pt-BR" sz="28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34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5050"/>
                </a:solidFill>
                <a:latin typeface="Palatino Linotype"/>
              </a:rPr>
              <a:t>pero cuando recibimos mensajes sobre D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5050"/>
                </a:solidFill>
                <a:latin typeface="Palatino Linotype"/>
              </a:rPr>
              <a:t>o la Iglesia, no se los re-enviamos a nad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562720" cy="3581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04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5050"/>
                </a:solidFill>
                <a:latin typeface="Palatino Linotype"/>
              </a:rPr>
              <a:t>Estoy seguro qu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5050"/>
                </a:solidFill>
                <a:latin typeface="Palatino Linotype"/>
              </a:rPr>
              <a:t>cuando leas este mensaj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54100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5050"/>
                </a:solidFill>
                <a:latin typeface="Palatino Linotype"/>
              </a:rPr>
              <a:t>no se lo mandarás a muchos de tus amigos o conocidos, porque supones que no creen en 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562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75ba"/>
                </a:solidFill>
                <a:latin typeface="Palatino Linotype"/>
              </a:rPr>
              <a:t>Es tris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75ba"/>
                </a:solidFill>
                <a:latin typeface="Palatino Linotype"/>
              </a:rPr>
              <a:t>porque necesitamos acercarnos a Dio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876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6699"/>
                </a:solidFill>
                <a:latin typeface="Palatino Linotype"/>
              </a:rPr>
              <a:t>Si no sientes vergüen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6699"/>
                </a:solidFill>
                <a:latin typeface="Palatino Linotype"/>
              </a:rPr>
              <a:t>¡</a:t>
            </a:r>
            <a:r>
              <a:rPr b="1" i="1" lang="pt-BR" sz="2800" spc="-1" strike="noStrike">
                <a:solidFill>
                  <a:srgbClr val="ff6699"/>
                </a:solidFill>
                <a:latin typeface="Times New Roman"/>
              </a:rPr>
              <a:t>Te desafío</a:t>
            </a:r>
            <a:r>
              <a:rPr b="1" i="1" lang="pt-BR" sz="2400" spc="-1" strike="noStrike">
                <a:solidFill>
                  <a:srgbClr val="ff6699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ff6699"/>
                </a:solidFill>
                <a:latin typeface="Times New Roman"/>
              </a:rPr>
              <a:t>a que</a:t>
            </a:r>
            <a:r>
              <a:rPr b="1" i="1" lang="pt-BR" sz="2400" spc="-1" strike="noStrike">
                <a:solidFill>
                  <a:srgbClr val="ff6699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ff6699"/>
                </a:solidFill>
                <a:latin typeface="Palatino Linotype"/>
              </a:rPr>
              <a:t>reenvíes este e-mail!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6699"/>
                </a:solidFill>
                <a:latin typeface="Palatino Linotype"/>
              </a:rPr>
              <a:t>pero solo si lo si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9528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03:53:19Z</dcterms:created>
  <dc:creator>Waldo Nava</dc:creator>
  <dc:description/>
  <dc:language>en-US</dc:language>
  <cp:lastModifiedBy>Yayo</cp:lastModifiedBy>
  <dcterms:modified xsi:type="dcterms:W3CDTF">2009-01-14T19:50:19Z</dcterms:modified>
  <cp:revision>10</cp:revision>
  <dc:subject/>
  <dc:title>Un desafio de Dios</dc:title>
</cp:coreProperties>
</file>