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9BA-2E8B-44CF-8DE8-4EE4C3DB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41F-E120-4AF0-939A-E94F651B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DFC-6F82-4CB5-98AF-5B439F81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914-B41C-47CC-BEEA-1209FA05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051-5634-414B-8BB4-0A2D443F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E41-6BFC-4E90-97E2-26450B4D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80C-1EAF-4873-A945-2C78D903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F2D-7489-4B12-A222-38BC20D2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B1D-E209-407F-B6B6-E6391C09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227-5C28-4B75-895B-9FFFD4B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C67-7752-4BEF-B364-BCAF5232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BDD-4014-4A2C-A438-BAD4B269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6ED7-8889-4DD6-9769-FBB2358D1655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8497800" cy="64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378000"/>
            <a:ext cx="8209080" cy="60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68360" y="620640"/>
            <a:ext cx="4281840" cy="571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5640" y="1601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elo en silencio, por favor, ES MUY CORTITO Y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ñor Jesús: "Perdona mis pecados, Te amo mucho, te necesito para siempre, estás en lo más profundo de mi corazón, cubre con tu sangre preciosa, a mi familia, mi casa, mi hogar, mi empleo, mis finanzas, mis sueños, mis proyect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s amigos“ A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esta oración a 7 personas (mínimo) excepto a mi. Recibirás un milagro mañana. No lo ignores. Yo lo envié a más de 7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20000" y="4149720"/>
            <a:ext cx="15811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21:31:51Z</dcterms:created>
  <dc:creator>Guillermo Diaz</dc:creator>
  <dc:description/>
  <dc:language>en-US</dc:language>
  <cp:lastModifiedBy>Usuario</cp:lastModifiedBy>
  <dcterms:modified xsi:type="dcterms:W3CDTF">2007-10-18T04:04:10Z</dcterms:modified>
  <cp:revision>3</cp:revision>
  <dc:subject/>
  <dc:title>Diapositiva 1</dc:title>
</cp:coreProperties>
</file>