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E5D-DCF6-44E2-87A8-D880EBC1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CFB-EED0-49FB-BDE7-8DDB844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4BC-3CDD-445C-A104-74576C1A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8C7-862A-426F-93B9-F146738F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A15-7ADF-4A2D-B8CB-CBD82995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2A9-AE42-44F1-B914-561DD2EC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D2D-A130-4AD3-B742-E8D1035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2E0-5D81-461D-8A42-2E5E9F2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DE8-D9F4-44FF-9FCE-4454407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915-DAD9-450F-A8F7-5309468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B90-9045-43E6-8514-136877E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CC6-E418-4E73-86D3-8DD9B5D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74CC-FAE9-4AB3-B124-E6A14DC066B4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497800" cy="64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78000"/>
            <a:ext cx="8209080" cy="60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68360" y="620640"/>
            <a:ext cx="4281840" cy="571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5640" y="1601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elo en silencio, por favor, ES MUY CORTITO Y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ñor Jesús: "Perdona mis pecados, Te amo mucho, te necesito para siempre, estás en lo más profundo de mi corazón, cubre con tu sangre preciosa, a mi familia, mi casa, mi hogar, mi empleo, mis finanzas, mis sueños, mis proyect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s amigos“ A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esta oración a 7 personas (mínimo) excepto a mi. Recibirás un milagro mañana. No lo ignores. Yo lo envié a más de 7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20000" y="4149720"/>
            <a:ext cx="1581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21:31:51Z</dcterms:created>
  <dc:creator>Guillermo Diaz</dc:creator>
  <dc:description/>
  <dc:language>en-US</dc:language>
  <cp:lastModifiedBy>Usuario</cp:lastModifiedBy>
  <dcterms:modified xsi:type="dcterms:W3CDTF">2007-10-18T04:04:10Z</dcterms:modified>
  <cp:revision>3</cp:revision>
  <dc:subject/>
  <dc:title>Diapositiva 1</dc:title>
</cp:coreProperties>
</file>