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4.jpeg" ContentType="image/jpeg"/>
  <Override PartName="/ppt/media/image1.jpeg" ContentType="image/jpeg"/>
  <Override PartName="/ppt/media/image8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0.gif" ContentType="image/gif"/>
  <Override PartName="/ppt/media/image12.gif" ContentType="image/gif"/>
  <Override PartName="/ppt/media/deRosyChopinNocturneinEbm.wav" ContentType="audio/x-wav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508-37E0-419C-9494-7F53F376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A0EE-C190-469A-8EE5-20987BE8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8993-2EA8-430E-93D9-08F36AEA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F21-6258-4B05-BF38-A505F0D0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5A79-A744-48B7-84B2-E7424331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850C-9897-4018-9082-EB6986D9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C5A2-3409-4551-BB54-F49D1222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7BE-2CDD-45DE-9047-6507A578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FC11-ECC4-425C-8235-E5E032FA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CEDE-BA42-448B-8A7C-F64A774F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E40-7C28-456D-9C58-E9801A56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E55F-A286-4D5D-882A-BC146668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56B8-7FE0-4A56-BC81-51605FC4D51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eRosyChopinNocturneinEbm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f19"/>
          <p:cNvPicPr/>
          <p:nvPr/>
        </p:nvPicPr>
        <p:blipFill>
          <a:blip r:embed="rId1"/>
          <a:stretch/>
        </p:blipFill>
        <p:spPr>
          <a:xfrm>
            <a:off x="2050920" y="981000"/>
            <a:ext cx="5288040" cy="39639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42" name="Rectangle 5"/>
          <p:cNvSpPr/>
          <p:nvPr/>
        </p:nvSpPr>
        <p:spPr>
          <a:xfrm>
            <a:off x="914400" y="269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5013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Times New Roman"/>
              </a:rPr>
              <a:t>Mi amiga que está leyendo es hermosa, dulce, calida,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914400" y="0"/>
            <a:ext cx="73152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0" spc="-1" strike="noStrike">
                <a:solidFill>
                  <a:srgbClr val="000000"/>
                </a:solidFill>
                <a:latin typeface="Times New Roman"/>
              </a:rPr>
              <a:t>¡</a:t>
            </a:r>
            <a:r>
              <a:rPr b="1" lang="es-CO" sz="8000" spc="-1" strike="noStrike">
                <a:solidFill>
                  <a:srgbClr val="000000"/>
                </a:solidFill>
                <a:latin typeface="Times New Roman"/>
              </a:rPr>
              <a:t>Querido Dios!</a:t>
            </a:r>
            <a:r>
              <a:rPr b="1" i="1" lang="es-E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200"/>
                            </p:stCondLst>
                            <p:childTnLst>
                              <p:par>
                                <p:cTn id="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5943600" y="5181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2133720" y="4038480"/>
            <a:ext cx="6095880" cy="19814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fff00">
                  <a:alpha val="2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209680" y="43434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nb-NO" sz="2400" spc="-1" strike="noStrike">
                <a:solidFill>
                  <a:srgbClr val="000000"/>
                </a:solidFill>
                <a:latin typeface="Times New Roman"/>
              </a:rPr>
              <a:t>SI TE GUSTO POR FAVOR PASALO A OTROS , </a:t>
            </a:r>
            <a:r>
              <a:rPr b="1" i="1" lang="nb-NO" sz="3200" spc="-1" strike="noStrike">
                <a:solidFill>
                  <a:srgbClr val="000000"/>
                </a:solidFill>
                <a:latin typeface="Times New Roman"/>
              </a:rPr>
              <a:t>DIOS TE BENDI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0" descr="Hand-03-june[1]"/>
          <p:cNvPicPr/>
          <p:nvPr/>
        </p:nvPicPr>
        <p:blipFill>
          <a:blip r:embed="rId2"/>
          <a:stretch/>
        </p:blipFill>
        <p:spPr>
          <a:xfrm>
            <a:off x="2819520" y="533520"/>
            <a:ext cx="1592280" cy="1225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1"/>
          <p:cNvSpPr/>
          <p:nvPr/>
        </p:nvSpPr>
        <p:spPr>
          <a:xfrm>
            <a:off x="2590920" y="5257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7C44-169D-469F-B59F-E58CB024A8FC}" type="datetime2">
              <a:rPr b="1" lang="es-UY" sz="2400" spc="-1" strike="noStrike">
                <a:solidFill>
                  <a:srgbClr val="000000"/>
                </a:solidFill>
                <a:latin typeface="Times New Roman"/>
              </a:rPr>
              <a:t>jueves, 30 de julio de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2438280" y="3581280"/>
            <a:ext cx="4038840" cy="4597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0000"/>
                </a:solidFill>
                <a:latin typeface="Times New Roman"/>
              </a:rPr>
              <a:t>Son las  </a:t>
            </a:r>
            <a:fld id="{462057F1-352C-4630-95A4-FB03BD56A252}" type="datetime13">
              <a:rPr b="1" lang="es-UY" sz="2400" spc="-1" strike="noStrike">
                <a:solidFill>
                  <a:srgbClr val="000000"/>
                </a:solidFill>
                <a:latin typeface="Times New Roman"/>
              </a:rPr>
              <a:t>05:44:44 p.m.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3" descr="PALOMAS VOLANDO2.gif"/>
          <p:cNvPicPr/>
          <p:nvPr/>
        </p:nvPicPr>
        <p:blipFill>
          <a:blip r:embed="rId3"/>
          <a:stretch/>
        </p:blipFill>
        <p:spPr>
          <a:xfrm>
            <a:off x="2286000" y="106668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PALOMAS VOLANDO2.gif"/>
          <p:cNvPicPr/>
          <p:nvPr/>
        </p:nvPicPr>
        <p:blipFill>
          <a:blip r:embed="rId4"/>
          <a:stretch/>
        </p:blipFill>
        <p:spPr>
          <a:xfrm flipH="1">
            <a:off x="3657240" y="990720"/>
            <a:ext cx="1314360" cy="94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50601E-006 C 0.03698 0.0666 0.07396 0.13321 0.07222 0.16397 C 0.07049 0.19473 0.03663 0.18339 -0.01076 0.18432 C -0.05816 0.18524 -0.16667 0.11008 -0.21233 0.16998 C -0.25798 0.22988 -0.27135 0.38645 -0.28472 0.54301 E">
                                      <p:cBhvr>
                                        <p:cTn id="158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pf26"/>
          <p:cNvPicPr/>
          <p:nvPr/>
        </p:nvPicPr>
        <p:blipFill>
          <a:blip r:embed="rId1"/>
          <a:stretch/>
        </p:blipFill>
        <p:spPr>
          <a:xfrm>
            <a:off x="2286000" y="1660680"/>
            <a:ext cx="5170320" cy="38750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47" name="Rectangle 6"/>
          <p:cNvSpPr/>
          <p:nvPr/>
        </p:nvSpPr>
        <p:spPr>
          <a:xfrm>
            <a:off x="91440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52280" y="152280"/>
            <a:ext cx="8915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Times New Roman"/>
              </a:rPr>
              <a:t>en ocasiones elegante en otras mas descomplicada, pero maravillosamente human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91440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228600" y="5661000"/>
            <a:ext cx="8686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Times New Roman"/>
              </a:rPr>
              <a:t>con muchisimos aciertos y grandes cualidades  e igualmente con algunos desaciertos </a:t>
            </a: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600"/>
                            </p:stCondLst>
                            <p:childTnLst>
                              <p:par>
                                <p:cTn id="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pf20"/>
          <p:cNvPicPr/>
          <p:nvPr/>
        </p:nvPicPr>
        <p:blipFill>
          <a:blip r:embed="rId1"/>
          <a:stretch/>
        </p:blipFill>
        <p:spPr>
          <a:xfrm>
            <a:off x="1400040" y="1271520"/>
            <a:ext cx="5693040" cy="42674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52" name="Text Box 4"/>
          <p:cNvSpPr/>
          <p:nvPr/>
        </p:nvSpPr>
        <p:spPr>
          <a:xfrm>
            <a:off x="152280" y="0"/>
            <a:ext cx="883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Times New Roman"/>
              </a:rPr>
              <a:t>pequeños defectos (tu bien sabes amado Dios que lo perfecto es inhumano),   </a:t>
            </a:r>
            <a:br>
              <a:rPr sz="3600"/>
            </a:b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762120" y="5445000"/>
            <a:ext cx="81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Además, es amorosa, inteligente, respetuosa, fuerte e inmensamente valiosa. </a:t>
            </a: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800"/>
                            </p:stCondLst>
                            <p:childTnLst>
                              <p:par>
                                <p:cTn id="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pf13"/>
          <p:cNvPicPr/>
          <p:nvPr/>
        </p:nvPicPr>
        <p:blipFill>
          <a:blip r:embed="rId1"/>
          <a:stretch/>
        </p:blipFill>
        <p:spPr>
          <a:xfrm>
            <a:off x="1476360" y="1197000"/>
            <a:ext cx="5932440" cy="437832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55" name="Text Box 5"/>
          <p:cNvSpPr/>
          <p:nvPr/>
        </p:nvSpPr>
        <p:spPr>
          <a:xfrm>
            <a:off x="1981080" y="25416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Times New Roman"/>
              </a:rPr>
              <a:t>sabes?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042920" y="551664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0000"/>
                </a:solidFill>
                <a:latin typeface="Times New Roman"/>
              </a:rPr>
              <a:t>La Quiero un montón</a:t>
            </a:r>
            <a:r>
              <a:rPr b="0" lang="es-CO" sz="32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1" lang="es-CO" sz="3200" spc="-1" strike="noStrike">
                <a:solidFill>
                  <a:srgbClr val="ff0000"/>
                </a:solidFill>
                <a:latin typeface="Times New Roman"/>
              </a:rPr>
              <a:t>Amado Padre Celestial</a:t>
            </a:r>
            <a:r>
              <a:rPr b="0" lang="es-CO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i="1" lang="es-E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"/>
                            </p:stCondLst>
                            <p:childTnLst>
                              <p:par>
                                <p:cTn id="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pf11"/>
          <p:cNvPicPr/>
          <p:nvPr/>
        </p:nvPicPr>
        <p:blipFill>
          <a:blip r:embed="rId1"/>
          <a:stretch/>
        </p:blipFill>
        <p:spPr>
          <a:xfrm>
            <a:off x="2124000" y="981000"/>
            <a:ext cx="4926240" cy="423252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58" name="Text Box 6"/>
          <p:cNvSpPr/>
          <p:nvPr/>
        </p:nvSpPr>
        <p:spPr>
          <a:xfrm>
            <a:off x="228600" y="2602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Times New Roman"/>
              </a:rPr>
              <a:t>te pido que la Ayudes a vivir su vida al máxim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09480" y="522936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Por favor promuévela y también sus objetivos para que excedan sus expect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600"/>
                            </p:stCondLst>
                            <p:childTnLst>
                              <p:par>
                                <p:cTn id="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pf18"/>
          <p:cNvPicPr/>
          <p:nvPr/>
        </p:nvPicPr>
        <p:blipFill>
          <a:blip r:embed="rId1"/>
          <a:stretch/>
        </p:blipFill>
        <p:spPr>
          <a:xfrm>
            <a:off x="2057400" y="1268280"/>
            <a:ext cx="5254560" cy="39369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61" name="Text Box 4"/>
          <p:cNvSpPr/>
          <p:nvPr/>
        </p:nvSpPr>
        <p:spPr>
          <a:xfrm>
            <a:off x="457200" y="856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Ayúdala a brillar en los lugares más oscuros donde es imposible Amar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80880" y="50292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Times New Roman"/>
              </a:rPr>
              <a:t>Protégela siempre. Levántala cuando más te necesite y haz que sepa que cuando camina a tu lado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200"/>
                            </p:stCondLst>
                            <p:childTnLst>
                              <p:par>
                                <p:cTn id="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pf27"/>
          <p:cNvPicPr/>
          <p:nvPr/>
        </p:nvPicPr>
        <p:blipFill>
          <a:blip r:embed="rId1"/>
          <a:stretch/>
        </p:blipFill>
        <p:spPr>
          <a:xfrm>
            <a:off x="2438280" y="1371600"/>
            <a:ext cx="4419720" cy="33116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64" name="Text Box 5"/>
          <p:cNvSpPr/>
          <p:nvPr/>
        </p:nvSpPr>
        <p:spPr>
          <a:xfrm>
            <a:off x="1258920" y="85680"/>
            <a:ext cx="6361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09480" y="4495680"/>
            <a:ext cx="8382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Times New Roman"/>
              </a:rPr>
              <a:t>Ahora estas bajo tiempo! en 9 minutos algo te hará </a:t>
            </a:r>
            <a:r>
              <a:rPr b="1" lang="es-CO" sz="4000" spc="-1" strike="noStrike">
                <a:solidFill>
                  <a:srgbClr val="22228b"/>
                </a:solidFill>
                <a:latin typeface="Times New Roman"/>
              </a:rPr>
              <a:t>feliz</a:t>
            </a:r>
            <a:r>
              <a:rPr b="0" lang="es-CO" sz="4000" spc="-1" strike="noStrike">
                <a:solidFill>
                  <a:srgbClr val="22228b"/>
                </a:solidFill>
                <a:latin typeface="Times New Roman"/>
              </a:rPr>
              <a:t>,</a:t>
            </a:r>
            <a:r>
              <a:rPr b="0" lang="es-CO" sz="4000" spc="-1" strike="noStrike">
                <a:solidFill>
                  <a:srgbClr val="000000"/>
                </a:solidFill>
                <a:latin typeface="Times New Roman"/>
              </a:rPr>
              <a:t> pero deberás decirle a 9 amig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4 Rectángulo"/>
          <p:cNvSpPr/>
          <p:nvPr/>
        </p:nvSpPr>
        <p:spPr>
          <a:xfrm>
            <a:off x="685800" y="1522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Times New Roman"/>
              </a:rPr>
              <a:t>Ella estará a salvo siempre. Gracias Padre por escucharme. Amén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"/>
                            </p:stCondLst>
                            <p:childTnLst>
                              <p:par>
                                <p:cTn id="1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pf25"/>
          <p:cNvPicPr/>
          <p:nvPr/>
        </p:nvPicPr>
        <p:blipFill>
          <a:blip r:embed="rId1"/>
          <a:stretch/>
        </p:blipFill>
        <p:spPr>
          <a:xfrm>
            <a:off x="1600200" y="762120"/>
            <a:ext cx="5718240" cy="4079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CO" sz="3600" spc="-1" strike="noStrike">
                <a:solidFill>
                  <a:srgbClr val="000000"/>
                </a:solidFill>
                <a:latin typeface="Times New Roman"/>
              </a:rPr>
              <a:t>(o mas, si lo deseas) que </a:t>
            </a:r>
            <a:r>
              <a:rPr b="1" lang="es-CO" sz="3600" spc="-1" strike="noStrike">
                <a:solidFill>
                  <a:srgbClr val="000000"/>
                </a:solidFill>
                <a:latin typeface="Times New Roman"/>
              </a:rPr>
              <a:t>las Quieres</a:t>
            </a:r>
            <a:r>
              <a:rPr b="0" lang="es-CO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838080" y="5029200"/>
            <a:ext cx="74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Times New Roman"/>
              </a:rPr>
              <a:t>incluyéndome, si en verdad te nace hacer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900"/>
                            </p:stCondLst>
                            <p:childTnLst>
                              <p:par>
                                <p:cTn id="1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USUARIO\Pictures\fondos\ws_Rainbow_1024x768.jpg"/>
          <p:cNvPicPr/>
          <p:nvPr/>
        </p:nvPicPr>
        <p:blipFill>
          <a:blip r:embed="rId1"/>
          <a:stretch/>
        </p:blipFill>
        <p:spPr>
          <a:xfrm>
            <a:off x="685800" y="1905120"/>
            <a:ext cx="6324480" cy="4267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4" descr="rainy"/>
          <p:cNvPicPr/>
          <p:nvPr/>
        </p:nvPicPr>
        <p:blipFill>
          <a:blip r:embed="rId2"/>
          <a:stretch/>
        </p:blipFill>
        <p:spPr>
          <a:xfrm>
            <a:off x="3962520" y="1905120"/>
            <a:ext cx="1028520" cy="788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4" descr="rainy"/>
          <p:cNvPicPr/>
          <p:nvPr/>
        </p:nvPicPr>
        <p:blipFill>
          <a:blip r:embed="rId3"/>
          <a:stretch/>
        </p:blipFill>
        <p:spPr>
          <a:xfrm>
            <a:off x="4952880" y="1828800"/>
            <a:ext cx="1028880" cy="789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4" descr="rainy"/>
          <p:cNvPicPr/>
          <p:nvPr/>
        </p:nvPicPr>
        <p:blipFill>
          <a:blip r:embed="rId4"/>
          <a:stretch/>
        </p:blipFill>
        <p:spPr>
          <a:xfrm>
            <a:off x="5905440" y="1981080"/>
            <a:ext cx="1028880" cy="789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4" descr="rainy"/>
          <p:cNvPicPr/>
          <p:nvPr/>
        </p:nvPicPr>
        <p:blipFill>
          <a:blip r:embed="rId5"/>
          <a:stretch/>
        </p:blipFill>
        <p:spPr>
          <a:xfrm>
            <a:off x="838080" y="2057400"/>
            <a:ext cx="1028880" cy="789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4" descr="rainy"/>
          <p:cNvPicPr/>
          <p:nvPr/>
        </p:nvPicPr>
        <p:blipFill>
          <a:blip r:embed="rId6"/>
          <a:stretch/>
        </p:blipFill>
        <p:spPr>
          <a:xfrm>
            <a:off x="1600200" y="2057400"/>
            <a:ext cx="1028880" cy="789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4" descr="rainy"/>
          <p:cNvPicPr/>
          <p:nvPr/>
        </p:nvPicPr>
        <p:blipFill>
          <a:blip r:embed="rId7"/>
          <a:stretch/>
        </p:blipFill>
        <p:spPr>
          <a:xfrm>
            <a:off x="2743200" y="2057400"/>
            <a:ext cx="1028880" cy="789120"/>
          </a:xfrm>
          <a:prstGeom prst="rect">
            <a:avLst/>
          </a:prstGeom>
          <a:ln w="0">
            <a:noFill/>
          </a:ln>
        </p:spPr>
      </p:pic>
      <p:sp>
        <p:nvSpPr>
          <p:cNvPr id="77" name="8 Rectángulo"/>
          <p:cNvSpPr/>
          <p:nvPr/>
        </p:nvSpPr>
        <p:spPr>
          <a:xfrm>
            <a:off x="228600" y="22860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Times New Roman"/>
              </a:rPr>
              <a:t>Te deseo tanta Salud como gotas tiene la lluvia,</a:t>
            </a: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es-CO" sz="2400" spc="-1" strike="noStrike">
                <a:solidFill>
                  <a:srgbClr val="000000"/>
                </a:solidFill>
                <a:latin typeface="Times New Roman"/>
              </a:rPr>
              <a:t>tanto Amor como rayos de luz tiene el sol</a:t>
            </a: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es-CO" sz="2400" spc="-1" strike="noStrike">
                <a:solidFill>
                  <a:srgbClr val="000000"/>
                </a:solidFill>
                <a:latin typeface="Times New Roman"/>
              </a:rPr>
              <a:t> y tantas bendiciones como arena tiene el mar.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21:38:22Z</dcterms:created>
  <dc:creator>RLIMA</dc:creator>
  <dc:description/>
  <dc:language>en-US</dc:language>
  <cp:lastModifiedBy>USUARIO</cp:lastModifiedBy>
  <dcterms:modified xsi:type="dcterms:W3CDTF">2009-08-31T02:05:50Z</dcterms:modified>
  <cp:revision>6</cp:revision>
  <dc:subject>REFLEXION</dc:subject>
  <dc:title>Slide 1</dc:title>
</cp:coreProperties>
</file>