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Ave%20Mar%C3%ADa_2.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91BF-3DDE-4085-A8C4-FF1AECB4D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1D76D-BBBC-4895-8779-8156AEE9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648F5-A110-4539-B721-26A6C23BA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65448-7B56-4A06-B422-AC22B5671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476D1-45C8-42CF-8D86-2950220D6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88136-E004-46CC-8D8E-604BC1CF0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C189-9E1C-4F6E-A400-078C9A76F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C3100-7D5B-4CF5-8C5D-88317D29D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97B28-AF02-4344-87C6-14ABE30B4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DEFD-CF04-4675-9607-6D7461F63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FE997-7389-44DD-A3E5-0E12E392F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458A0-9EE4-4070-9A58-0152F59D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68D2-6088-4ACD-A443-25218C44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DC7A-9783-4D02-ABDD-B0035D656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B1019-CA1F-44F4-B388-C7420BAF0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82CE9-54E9-4946-9BF6-C42B18BB5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2BFCB-51B3-47D1-8536-5BDAF2713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BA3C-73D7-47E7-B544-C63626DE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9B821-D1B6-418C-BAA6-84E98036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604B-E1ED-4708-8A8B-CFA986EE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45B1D-C3A8-4578-992C-213C9F20C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A45D-A358-4E6A-9307-6F2AE5AA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2CFC-431C-4C5E-8E80-A48583D7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09BB-1259-4856-ABC5-DE65595A8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0A03-A083-4D2E-9D91-10DC4D55E26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397E-D1CB-42A8-8942-34478D43A5A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ve%20Mar&#237;a_2.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9640" y="909360"/>
            <a:ext cx="741708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a:t>
            </a:r>
            <a:r>
              <a:rPr b="1" lang="es-ES" sz="3200" spc="-1" strike="noStrike">
                <a:solidFill>
                  <a:srgbClr val="333399"/>
                </a:solidFill>
                <a:latin typeface="Georgia"/>
              </a:rPr>
              <a:t>EL PODER DE LA ORACIÓN</a:t>
            </a:r>
            <a:r>
              <a:rPr b="1" lang="es-ES" sz="3200" spc="-1" strike="noStrike">
                <a:solidFill>
                  <a:srgbClr val="000000"/>
                </a:solidFill>
                <a:latin typeface="Georgia"/>
              </a:rPr>
              <a:t>*</a:t>
            </a:r>
            <a:br>
              <a:rPr sz="3200"/>
            </a:br>
            <a:endParaRPr b="0" lang="en-US" sz="3200" spc="-1" strike="noStrike">
              <a:solidFill>
                <a:srgbClr val="000000"/>
              </a:solidFill>
              <a:latin typeface="Verdana"/>
            </a:endParaRPr>
          </a:p>
        </p:txBody>
      </p:sp>
      <p:sp>
        <p:nvSpPr>
          <p:cNvPr id="83" name="PlaceHolder 2"/>
          <p:cNvSpPr>
            <a:spLocks noGrp="1"/>
          </p:cNvSpPr>
          <p:nvPr>
            <p:ph type="subTitle"/>
          </p:nvPr>
        </p:nvSpPr>
        <p:spPr>
          <a:xfrm>
            <a:off x="323640" y="980640"/>
            <a:ext cx="8280360" cy="5327640"/>
          </a:xfrm>
          <a:prstGeom prst="rect">
            <a:avLst/>
          </a:prstGeom>
          <a:noFill/>
          <a:ln w="0">
            <a:noFill/>
          </a:ln>
        </p:spPr>
        <p:txBody>
          <a:bodyPr lIns="90000" rIns="90000" tIns="46800" bIns="46800" anchor="t">
            <a:noAutofit/>
          </a:bodyPr>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       </a:t>
            </a:r>
            <a:endParaRPr b="0" lang="en-US" sz="2400" spc="-1" strike="noStrike">
              <a:solidFill>
                <a:srgbClr val="000000"/>
              </a:solidFill>
              <a:latin typeface="Verdana"/>
            </a:endParaRPr>
          </a:p>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Dios solo da tres respuestas a las oraciones:</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Podrás estar pasando por momentos difíciles ahorita pero Dios, se está preparando para bendecirte de una forma que tú ni siquiera puedes empezar a imaginar.</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      </a:t>
            </a: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1258920" y="2548080"/>
            <a:ext cx="6696000" cy="2214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Sí”</a:t>
            </a:r>
            <a:endParaRPr b="0" lang="en-US" sz="2400" spc="-1" strike="noStrike">
              <a:solidFill>
                <a:srgbClr val="000000"/>
              </a:solidFill>
              <a:latin typeface="Arial"/>
            </a:endParaRPr>
          </a:p>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Todavía no”</a:t>
            </a:r>
            <a:endParaRPr b="0" lang="en-US" sz="2400" spc="-1" strike="noStrike">
              <a:solidFill>
                <a:srgbClr val="000000"/>
              </a:solidFill>
              <a:latin typeface="Arial"/>
            </a:endParaRPr>
          </a:p>
          <a:p>
            <a:pPr marL="343080" indent="-343080">
              <a:lnSpc>
                <a:spcPct val="100000"/>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eorgia"/>
              </a:rPr>
              <a:t>“</a:t>
            </a:r>
            <a:r>
              <a:rPr b="1" lang="es-ES" sz="2400" spc="-1" strike="noStrike">
                <a:solidFill>
                  <a:srgbClr val="333399"/>
                </a:solidFill>
                <a:latin typeface="Georgia"/>
              </a:rPr>
              <a:t>Yo he pensado en algo mejor para ti”.</a:t>
            </a:r>
            <a:endParaRPr b="0" lang="en-US" sz="2400" spc="-1" strike="noStrike">
              <a:solidFill>
                <a:srgbClr val="000000"/>
              </a:solidFill>
              <a:latin typeface="Arial"/>
            </a:endParaRPr>
          </a:p>
          <a:p>
            <a:pPr marL="343080" indent="-343080">
              <a:lnSpc>
                <a:spcPct val="100000"/>
              </a:lnSpc>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sndAc>
      <p:stSnd>
        <p:snd r:embed="rId2" name="Ave%20Mar%C3%ADa_2.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826920" y="1196640"/>
            <a:ext cx="7345440" cy="47530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Mis instrucciones fueron que escogiera a cuatro personas a las que yo quisiera que Dios bendiga, y yo te he escogido a ti.</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Por  favor pásale este mensaje a cuatro personas que te gustaría que Dios bendijera y una copia para mí.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    </a:t>
            </a:r>
            <a:r>
              <a:rPr b="0" lang="es-ES" sz="2400" spc="-1" strike="noStrike">
                <a:solidFill>
                  <a:srgbClr val="333399"/>
                </a:solidFill>
                <a:latin typeface="Georgia"/>
              </a:rPr>
              <a:t>El poder de la oración es increíble, y la oración es uno de los mejores regalos que podemos recibir. No tiene ningún costo, pero sí muchas recompensas.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eorgia"/>
              </a:rPr>
              <a:t>¡¡¡Continuemos orando los unos por los otros!!!</a:t>
            </a:r>
            <a:endParaRPr b="0" lang="en-US" sz="2400" spc="-1" strike="noStrike">
              <a:solidFill>
                <a:srgbClr val="000000"/>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764640"/>
            <a:ext cx="8353440" cy="5688360"/>
          </a:xfrm>
          <a:prstGeom prst="rect">
            <a:avLst/>
          </a:prstGeom>
          <a:noFill/>
          <a:ln w="0">
            <a:noFill/>
          </a:ln>
        </p:spPr>
        <p:txBody>
          <a:bodyPr lIns="90000" rIns="90000" tIns="46800" bIns="46800" anchor="t">
            <a:normAutofit fontScale="98000"/>
          </a:bodyPr>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Georgia"/>
              </a:rPr>
              <a:t>                       </a:t>
            </a:r>
            <a:r>
              <a:rPr b="1" lang="es-ES" sz="2000" spc="-1" strike="noStrike">
                <a:solidFill>
                  <a:srgbClr val="333399"/>
                </a:solidFill>
                <a:latin typeface="Georgia"/>
              </a:rPr>
              <a:t>Aquí tienes una oración: </a:t>
            </a:r>
            <a:endParaRPr b="0" lang="en-US" sz="2000" spc="-1" strike="noStrike">
              <a:solidFill>
                <a:srgbClr val="000000"/>
              </a:solidFill>
              <a:latin typeface="Verdana"/>
            </a:endParaRPr>
          </a:p>
          <a:p>
            <a:pPr marL="5227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eorgia"/>
              </a:rPr>
              <a:t>         </a:t>
            </a:r>
            <a:r>
              <a:rPr b="0" lang="es-ES" sz="1800" spc="-1" strike="noStrike">
                <a:solidFill>
                  <a:srgbClr val="333399"/>
                </a:solidFill>
                <a:latin typeface="Georgia"/>
              </a:rPr>
              <a:t>Señor y Padre Celestial, hoy por la mañana mi cama estaba calentita y no me quería despertar, no me quería levantar, me quería quedar ahí, sin tener que preocuparme por nada, pero, entonces recordé que no debería hacerlo, porque existen millones de personas, que quisieran estar en mi lugar. Levantarse y tener a donde ir, esas personas que están sin tener que comer, sin tener que vestir.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0" lang="es-ES" sz="1800" spc="-1" strike="noStrike">
                <a:solidFill>
                  <a:srgbClr val="333399"/>
                </a:solidFill>
                <a:latin typeface="Georgia"/>
              </a:rPr>
              <a:t>Hoy Padre mío, agradezco por la noche maravillosa, por el que cobertor que me calienta, por mi alimento, por un día mas de trabajo y principalmente por un día más de vida.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0" lang="es-ES" sz="1800" spc="-1" strike="noStrike">
                <a:solidFill>
                  <a:srgbClr val="333399"/>
                </a:solidFill>
                <a:latin typeface="Georgia"/>
              </a:rPr>
              <a:t>Bendice Señor Jesús a mis amigos y mis enemigos, porque también ellos necesitan de ti. Bendice señor a mi amigo (a) que está leyendo este mensaje ahora. Yo bendigo a aquel que me lo envió. </a:t>
            </a:r>
            <a:endParaRPr b="0" lang="en-US" sz="1800" spc="-1" strike="noStrike">
              <a:solidFill>
                <a:srgbClr val="000000"/>
              </a:solidFill>
              <a:latin typeface="Verdana"/>
            </a:endParaRPr>
          </a:p>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        </a:t>
            </a:r>
            <a:r>
              <a:rPr b="0" lang="es-ES" sz="2000" spc="-1" strike="noStrike">
                <a:solidFill>
                  <a:srgbClr val="333399"/>
                </a:solidFill>
                <a:latin typeface="Georgia"/>
              </a:rPr>
              <a:t>Padre, yo te ruego que bendigas a mis amigos, parientes y contactos por correo electrónico ahorita. Muéstrales una revelación de tu poder y amor. </a:t>
            </a:r>
            <a:r>
              <a:rPr b="0" lang="es-ES" sz="1800" spc="-1" strike="noStrike">
                <a:solidFill>
                  <a:srgbClr val="333399"/>
                </a:solidFill>
                <a:latin typeface="Georgia"/>
              </a:rPr>
              <a:t>En el nombre de Jesús.  </a:t>
            </a:r>
            <a:r>
              <a:rPr b="1" lang="es-ES" sz="1800" spc="-1" strike="noStrike">
                <a:solidFill>
                  <a:srgbClr val="333399"/>
                </a:solidFill>
                <a:latin typeface="Georgia"/>
              </a:rPr>
              <a:t>Amén.</a:t>
            </a:r>
            <a:r>
              <a:rPr b="0" lang="es-ES" sz="1800" spc="-1" strike="noStrike">
                <a:solidFill>
                  <a:srgbClr val="333399"/>
                </a:solidFill>
                <a:latin typeface="Georgia"/>
              </a:rPr>
              <a:t> </a:t>
            </a:r>
            <a:endParaRPr b="0" lang="en-US" sz="1800" spc="-1" strike="noStrike">
              <a:solidFill>
                <a:srgbClr val="000000"/>
              </a:solidFill>
              <a:latin typeface="Verdana"/>
            </a:endParaRPr>
          </a:p>
          <a:p>
            <a:pPr marL="522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                                                                                                </a:t>
            </a:r>
            <a:r>
              <a:rPr b="1" lang="es-ES" sz="2000" spc="-1" strike="noStrike">
                <a:solidFill>
                  <a:srgbClr val="333399"/>
                </a:solidFill>
                <a:latin typeface="Georgia"/>
              </a:rPr>
              <a:t>Así sea.</a:t>
            </a:r>
            <a:endParaRPr b="0" lang="en-US" sz="2000" spc="-1" strike="noStrike">
              <a:solidFill>
                <a:srgbClr val="000000"/>
              </a:solidFill>
              <a:latin typeface="Verdana"/>
            </a:endParaRPr>
          </a:p>
          <a:p>
            <a:pPr marL="522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258560" y="1523880"/>
            <a:ext cx="7056360" cy="51451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Yo se que envié este mensaje a más de cuatro personas,</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puedes tú hacer lo mismo?. Porque siempre es bueno dar</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Gracias y quejarse menos.</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Un abrazo y que dios te bendiga rica y abundantemente!.</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Pasa este mensaje bien rápido a los que más puedas y en</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Georgia"/>
              </a:rPr>
              <a:t>un instante, muchas personas estarán orando por ti.</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Georgia"/>
              </a:rPr>
              <a:t>¡Que Dios te bendiga!</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22:08:22Z</dcterms:created>
  <dc:creator>IRMA DEL SOCORRO SANCHEZ RAMIREZ</dc:creator>
  <dc:description/>
  <cp:keywords/>
  <dc:language>en-US</dc:language>
  <cp:lastModifiedBy>WinuE</cp:lastModifiedBy>
  <dcterms:modified xsi:type="dcterms:W3CDTF">2008-01-31T02:41:08Z</dcterms:modified>
  <cp:revision>12</cp:revision>
  <dc:subject/>
  <dc:title>DIOS PROVEERA A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