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yanni%20-%20in%20the%20morning%20light%20178%201.31.wav" ContentType="audio/x-wav"/>
  <Override PartName="/ppt/media/image7.png" ContentType="image/png"/>
  <Override PartName="/ppt/media/image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7EB-E7CF-49A2-B034-AE9331C3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E8C-3F58-4357-85F1-614FC2FB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A1B-8AD4-452E-B996-19E3833C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D10-C3C8-472E-B567-673AD97D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EF58-34B0-44B2-9E07-B077BCDD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CC22-5378-4233-ABC5-D95B5BA9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841F-F50E-415B-8621-9F4C086A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6D83-1D28-4FB6-AFDA-913E6C5C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A845-32CD-4F6C-9D29-5EFD53D5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BA67-869F-4AC0-9D29-3742E8A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27A1-976C-4C87-BB2A-0F32A98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796-C153-44BF-A39F-021EDF83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6574-92F4-492D-8F5C-EBB56380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0E73-DA1D-4149-8C47-B664D5C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B4A6-F2B3-4A18-9F12-66723D88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E0C5-546C-4ACB-B71C-39C34CE3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ADBC-413C-4AFB-AC78-060ECF1A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301B-4DB6-4239-906E-53E3BA93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CAC9-4D83-4C53-856B-D3360114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A9F6-DE5E-4ACE-8E43-FE417CC9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8F0CD-1CC5-407D-9F0E-770D532F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63F0-CFA2-4D59-A722-BEC62BB4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571-CE2B-44A2-A136-CDF32354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064E-2573-40D4-925E-1763A601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DB40-1406-4586-AFAF-791C0F3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757F-320C-42A4-AF9F-98770B6E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8AE1-D0F9-4E5C-B9E3-C59261F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4F3F-F26B-4FAB-B18E-B429D0A2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D34A-F4AA-4DE4-8E0C-C298C4F8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1132C-59A6-4011-AA2C-0E17C5B6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79F-6A51-4C76-8298-BFCB8784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011-A84A-498C-A732-17781B0D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93C-62B4-40EB-A78B-480E1640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9F3-6152-4247-9BD5-210620E7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C69-7F00-483D-A57A-EC1B588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321-3659-40D6-AA28-898A6184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6D54-B5EC-4244-A92B-FFAAD8E1D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7F1E-55FA-404C-8F98-B988DE503387}" type="slidenum">
              <a:rPr b="0" lang="es-G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9958-DE0C-44AC-BF78-3080D0DB3A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yanni%20-%20in%20the%20morning%20light%20178%201.31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5634" t="16538" r="8660" b="1751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225720" y="333360"/>
            <a:ext cx="349992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Maiandra GD"/>
              </a:rPr>
              <a:t>Cuando dices: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Maiandra GD"/>
              </a:rPr>
              <a:t>“</a:t>
            </a:r>
            <a:r>
              <a:rPr b="1" lang="es-MX" sz="2600" spc="-1" strike="noStrike">
                <a:solidFill>
                  <a:srgbClr val="ffffff"/>
                </a:solidFill>
                <a:latin typeface="Maiandra GD"/>
              </a:rPr>
              <a:t>No pue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Maiandra GD"/>
              </a:rPr>
              <a:t>resolver las cosas..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3160" y="5157720"/>
            <a:ext cx="524808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Maiandra GD"/>
              </a:rPr>
              <a:t>Dios te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Maiandra GD"/>
              </a:rPr>
              <a:t>“</a:t>
            </a:r>
            <a:r>
              <a:rPr b="1" lang="es-MX" sz="4000" spc="-1" strike="noStrike">
                <a:solidFill>
                  <a:srgbClr val="ffffff"/>
                </a:solidFill>
                <a:latin typeface="Maiandra GD"/>
              </a:rPr>
              <a:t>Yo dirijo tus paso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ffff"/>
                </a:solidFill>
                <a:latin typeface="Maiandra GD"/>
              </a:rPr>
              <a:t>(Proverbios 3:5-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2" name="yanni%20-%20in%20the%20morning%20light%20178%201.3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29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6360" y="804600"/>
            <a:ext cx="442764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Todo es tan sencillo como....PONERSE EN MANOS DE DIO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¿Piensas que este mensaje te fue enviado accidentalmente?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cc99ff"/>
                </a:solidFill>
                <a:latin typeface="Arial Black"/>
              </a:rPr>
              <a:t> </a:t>
            </a:r>
            <a:r>
              <a:rPr b="0" lang="es-GT" sz="2800" spc="-1" strike="noStrike">
                <a:solidFill>
                  <a:srgbClr val="cc99ff"/>
                </a:solidFill>
                <a:latin typeface="Arial Black"/>
              </a:rPr>
              <a:t>Es porque DIOS...</a:t>
            </a: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 me recordó que estas ahí,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</a:rPr>
              <a:t>eres mi amigo(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942480"/>
            <a:ext cx="88200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Jesucristo dijo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  </a:t>
            </a: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"Si te avergüenzas de mí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yo me avergonzaré de ti ante mi Padr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Si no tienes vergüenza, envía este mensaj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sólo si crees en ello. Sí, amo a D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Él es mi fuente de existencia y mi Salvad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Él me mantiene funcionando día y noch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Sin Él, nada soy, pero con Él todo lo pue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en Cristo que me da fuer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Arial Black"/>
              </a:rPr>
              <a:t>Filipenses 4: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11640" y="444960"/>
            <a:ext cx="468144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te has sentado por allí y de repente sientes deseos de hacer algo agradable por alguien a quien le tienes cariño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e habla a través del Espíritu Santo. 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3602160"/>
          <a:ext cx="4522680" cy="51732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716360" y="541800"/>
            <a:ext cx="410364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te has sentido tan cansado de todo, al grado de querer morir y de pronto un </a:t>
            </a: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día sientes que tienes la suficient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fuerza para continuar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e cargó en sus brazos para darte descanso. </a:t>
            </a:r>
            <a:r>
              <a:rPr b="0" lang="es-GT" sz="28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760" y="3710160"/>
          <a:ext cx="4522680" cy="51732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27640" y="536760"/>
            <a:ext cx="410184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6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</a:t>
            </a:r>
            <a:r>
              <a:rPr b="0" lang="es-GT" sz="37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vez te has sentido derrotado y nadie parece estar alrededor tuyo para hablarte?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7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37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37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Él quiere hablar contigo</a:t>
            </a:r>
            <a:r>
              <a:rPr b="0" lang="es-GT" sz="17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4520" y="3511440"/>
          <a:ext cx="4522680" cy="5176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284720" y="771840"/>
            <a:ext cx="4859280" cy="48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vez has estado pensando en alguien a quién amas y no has visto por largo tiempo y la próxima cosa que pasa es verlo o recibir una llamada de esa persona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..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511440"/>
          <a:ext cx="4522680" cy="5176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788000" y="594360"/>
            <a:ext cx="388764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</a:t>
            </a:r>
            <a:r>
              <a:rPr b="0" lang="es-GT" sz="8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 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vez has recibido algo maravilloso que ni siquiera pediste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conoce los secretos de tu corazón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20600" y="3511440"/>
          <a:ext cx="4522680" cy="5176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822960"/>
            <a:ext cx="48258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has estado en una situación problemática y no tenías indicios de cómo se iba a resolver y de pronto todo queda resuelto sin darte cuenta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oma nuestros problemas en sus manos les da solución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3511440"/>
          <a:ext cx="4522680" cy="5176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716360" y="895680"/>
            <a:ext cx="4427640" cy="48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has sentido una inmensa tristeza en el alma y al día siguiente la tristeza ha pasado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</a:t>
            </a:r>
            <a:r>
              <a:rPr b="0" lang="es-GT" sz="33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...</a:t>
            </a: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e dio un abrazo de consuelo y te dij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3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palabras dulce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6720" y="3328920"/>
          <a:ext cx="4522680" cy="108108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6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 </a:t>
                      </a:r>
                      <a:r>
                        <a:rPr b="0" lang="es-G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40320" y="332640"/>
            <a:ext cx="4603680" cy="55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0000" tIns="23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Alguna vez has sentido que tienes tantos problemas y la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cosas ya se están saliendo de su cauce y de pronto un día todo está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resuelto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cc99ff"/>
                </a:solidFill>
                <a:latin typeface="Arial Black"/>
                <a:ea typeface="Times New Roman"/>
              </a:rPr>
              <a:t>ESE ES DIOS...</a:t>
            </a: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que tomó todas las cosas y las puso en su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9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lugar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660066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70160" y="3900600"/>
          <a:ext cx="4522680" cy="517320"/>
        </p:xfrm>
        <a:graphic>
          <a:graphicData uri="http://schemas.openxmlformats.org/drawingml/2006/table">
            <a:tbl>
              <a:tblPr/>
              <a:tblGrid>
                <a:gridCol w="452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3:06:28Z</dcterms:created>
  <dc:creator>Walz</dc:creator>
  <dc:description>Retocado por TELLAIM</dc:description>
  <dc:language>en-US</dc:language>
  <cp:lastModifiedBy>Fam Villalobos</cp:lastModifiedBy>
  <dcterms:modified xsi:type="dcterms:W3CDTF">2007-09-01T01:35:38Z</dcterms:modified>
  <cp:revision>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LLAIM">
    <vt:bool>1</vt:bool>
  </property>
  <property fmtid="{D5CDD505-2E9C-101B-9397-08002B2CF9AE}" pid="3" name="retocado por TELLAIM">
    <vt:bool>1</vt:bool>
  </property>
</Properties>
</file>