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yanni%20-%20in%20the%20morning%20light%20178%201.31.wav" ContentType="audio/x-wav"/>
  <Override PartName="/ppt/media/image7.png" ContentType="image/png"/>
  <Override PartName="/ppt/media/image2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D298-79B2-4E52-851A-86470D74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0FFA-14A1-4884-BE12-81FF9A77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A2B9-B05A-45CF-BDB0-038D55F29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66EA-C255-45DA-8607-09377B32B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D9DD-F09E-4098-A273-79CAAD7C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3DAF-E35B-4344-85FD-A4382A53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888B-707B-4D3A-B697-0E2650CD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8D59-8715-4128-98CF-7F0CCA43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51BA-670D-4EF8-AA73-70E68D5E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5321-FA0D-4F53-A022-D84A26A4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849D-19DE-4597-987F-0AADC578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126C-5ACF-4F72-B3C6-486A0CE8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9AED-CA5B-468E-BC21-FC1D93DD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C984-EB7A-4BF7-B89A-71389C0C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2AE6-2C51-4740-965E-3D901C8B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ABF2-E7AF-46B6-856B-555BCCF3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6EA7-225B-402F-B9D1-678D8D121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EDD43-D619-4FE0-B9CE-BBA85EDB3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93466-A092-4D19-9837-62B3DE47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C1782-4F36-4D09-BCF2-E6E1E820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94650-2165-4C6B-99B8-F8CBDDCE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4EF4F-A358-46EC-9430-8FB1F640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2FAD-13D0-4452-A314-E97AD6F9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E0CDF-FCBB-46A3-890E-6477B8D2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6C984-7DAF-412F-AEA6-415AEE21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66B97-5C58-4816-A1C8-A1CB985A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1A3DC-30B8-4608-96CC-72A2B354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D6B66-B888-4A75-92B1-248AEA53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9F6B7-25F7-49EA-A5A0-0425BA13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E83CF-8F18-4688-BED6-540890782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2618-5439-4E72-A28A-A5F209AF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8098-7EFA-4B55-A548-9B5BB199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A70C-72F7-478D-8EA6-E15256CA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84B0-324C-4FC3-BC49-69FFCD2E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CB4E-CC83-41B6-9E70-479AC163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6C14-6C04-405F-A744-DAB7BBD7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852F-183C-49C1-B765-C387893D00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G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G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G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1D53-CE84-4C29-A0AA-5BA239BD9C86}" type="slidenum">
              <a:rPr b="0" lang="es-G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221D-BB88-4E42-8716-DEE26F25977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yanni%20-%20in%20the%20morning%20light%20178%201.31.wav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25634" t="16538" r="8660" b="1751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-225720" y="333360"/>
            <a:ext cx="3499920" cy="13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Maiandra GD"/>
              </a:rPr>
              <a:t>Cuando dices: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ff"/>
                </a:solidFill>
                <a:latin typeface="Maiandra GD"/>
              </a:rPr>
              <a:t>“</a:t>
            </a:r>
            <a:r>
              <a:rPr b="1" lang="es-MX" sz="2600" spc="-1" strike="noStrike">
                <a:solidFill>
                  <a:srgbClr val="ffffff"/>
                </a:solidFill>
                <a:latin typeface="Maiandra GD"/>
              </a:rPr>
              <a:t>No pued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ff"/>
                </a:solidFill>
                <a:latin typeface="Maiandra GD"/>
              </a:rPr>
              <a:t>resolver las cosas..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3160" y="5157720"/>
            <a:ext cx="5248080" cy="15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Maiandra GD"/>
              </a:rPr>
              <a:t>Dios te 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Maiandra GD"/>
              </a:rPr>
              <a:t>“</a:t>
            </a:r>
            <a:r>
              <a:rPr b="1" lang="es-MX" sz="4000" spc="-1" strike="noStrike">
                <a:solidFill>
                  <a:srgbClr val="ffffff"/>
                </a:solidFill>
                <a:latin typeface="Maiandra GD"/>
              </a:rPr>
              <a:t>Yo dirijo tus paso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ffffff"/>
                </a:solidFill>
                <a:latin typeface="Maiandra GD"/>
              </a:rPr>
              <a:t>(Proverbios 3:5-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2" name="yanni%20-%20in%20the%20morning%20light%20178%201.3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2292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16360" y="804600"/>
            <a:ext cx="4427640" cy="52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0000" tIns="23796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660066"/>
                </a:solidFill>
                <a:latin typeface="Arial Black"/>
              </a:rPr>
              <a:t>Todo es tan sencillo como....PONERSE EN MANOS DE DIOS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660066"/>
                </a:solidFill>
                <a:latin typeface="Arial Black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660066"/>
                </a:solidFill>
                <a:latin typeface="Arial Black"/>
              </a:rPr>
              <a:t>¿Piensas que este mensaje te fue enviado accidentalmente?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cc99ff"/>
                </a:solidFill>
                <a:latin typeface="Arial Black"/>
              </a:rPr>
              <a:t> </a:t>
            </a:r>
            <a:r>
              <a:rPr b="0" lang="es-GT" sz="2800" spc="-1" strike="noStrike">
                <a:solidFill>
                  <a:srgbClr val="cc99ff"/>
                </a:solidFill>
                <a:latin typeface="Arial Black"/>
              </a:rPr>
              <a:t>Es porque DIOS...</a:t>
            </a:r>
            <a:r>
              <a:rPr b="0" lang="es-GT" sz="2800" spc="-1" strike="noStrike">
                <a:solidFill>
                  <a:srgbClr val="660066"/>
                </a:solidFill>
                <a:latin typeface="Arial Black"/>
              </a:rPr>
              <a:t> me recordó que estas ahí, 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660066"/>
                </a:solidFill>
                <a:latin typeface="Arial Black"/>
              </a:rPr>
              <a:t>eres mi amigo(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4000" y="942480"/>
            <a:ext cx="882000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0000" tIns="2379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ffffff"/>
                </a:solidFill>
                <a:latin typeface="Arial Black"/>
              </a:rPr>
              <a:t>Jesucristo dijo,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ffffff"/>
                </a:solidFill>
                <a:latin typeface="Arial Black"/>
              </a:rPr>
              <a:t>  </a:t>
            </a:r>
            <a:r>
              <a:rPr b="0" lang="es-GT" sz="2800" spc="-1" strike="noStrike">
                <a:solidFill>
                  <a:srgbClr val="ffffff"/>
                </a:solidFill>
                <a:latin typeface="Arial Black"/>
              </a:rPr>
              <a:t>"Si te avergüenzas de mí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ffffff"/>
                </a:solidFill>
                <a:latin typeface="Arial Black"/>
              </a:rPr>
              <a:t>yo me avergonzaré de ti ante mi Padre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ffffff"/>
                </a:solidFill>
                <a:latin typeface="Arial Black"/>
              </a:rPr>
              <a:t>Si no tienes vergüenza, envía este mensaje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ffffff"/>
                </a:solidFill>
                <a:latin typeface="Arial Black"/>
              </a:rPr>
              <a:t>sólo si crees en ello. Sí, amo a Di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ffffff"/>
                </a:solidFill>
                <a:latin typeface="Arial Black"/>
              </a:rPr>
              <a:t>Él es mi fuente de existencia y mi Salvad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ffffff"/>
                </a:solidFill>
                <a:latin typeface="Arial Black"/>
              </a:rPr>
              <a:t>Él me mantiene funcionando día y noch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ffffff"/>
                </a:solidFill>
                <a:latin typeface="Arial Black"/>
              </a:rPr>
              <a:t>Sin Él, nada soy, pero con Él todo lo pue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ffffff"/>
                </a:solidFill>
                <a:latin typeface="Arial Black"/>
              </a:rPr>
              <a:t>en Cristo que me da fuerz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ffffff"/>
                </a:solidFill>
                <a:latin typeface="Arial Black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ffffff"/>
                </a:solidFill>
                <a:latin typeface="Arial Black"/>
              </a:rPr>
              <a:t>Filipenses 4:1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2436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211640" y="444960"/>
            <a:ext cx="4681440" cy="57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0000" tIns="2379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3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Alguna vez te has sentado por allí y de repente sientes deseos de hacer algo agradable por alguien a quien le tienes cariño?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300" spc="-1" strike="noStrike">
                <a:solidFill>
                  <a:srgbClr val="cc99ff"/>
                </a:solidFill>
                <a:latin typeface="Arial Black"/>
                <a:ea typeface="Times New Roman"/>
              </a:rPr>
              <a:t>ESE ES DIOS</a:t>
            </a:r>
            <a:r>
              <a:rPr b="0" lang="es-GT" sz="3300" spc="-1" strike="noStrike">
                <a:solidFill>
                  <a:srgbClr val="cc99ff"/>
                </a:solidFill>
                <a:latin typeface="Arial Black"/>
                <a:ea typeface="Times New Roman"/>
              </a:rPr>
              <a:t>...</a:t>
            </a:r>
            <a:r>
              <a:rPr b="0" lang="es-GT" sz="33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que te habla a través del Espíritu Santo. 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3602160"/>
          <a:ext cx="4522680" cy="517320"/>
        </p:xfrm>
        <a:graphic>
          <a:graphicData uri="http://schemas.openxmlformats.org/drawingml/2006/table">
            <a:tbl>
              <a:tblPr/>
              <a:tblGrid>
                <a:gridCol w="45226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716360" y="541800"/>
            <a:ext cx="4103640" cy="55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0000" tIns="2379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9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Alguna vez te has sentido tan cansado de todo, al grado de querer morir y de pronto un </a:t>
            </a:r>
            <a:r>
              <a:rPr b="0" lang="es-GT" sz="29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día sientes que tienes la suficient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9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fuerza para continuar?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900" spc="-1" strike="noStrike">
                <a:solidFill>
                  <a:srgbClr val="cc99ff"/>
                </a:solidFill>
                <a:latin typeface="Arial Black"/>
                <a:ea typeface="Times New Roman"/>
              </a:rPr>
              <a:t>ESE ES DIOS</a:t>
            </a:r>
            <a:r>
              <a:rPr b="0" lang="es-GT" sz="2900" spc="-1" strike="noStrike">
                <a:solidFill>
                  <a:srgbClr val="cc99ff"/>
                </a:solidFill>
                <a:latin typeface="Arial Black"/>
                <a:ea typeface="Times New Roman"/>
              </a:rPr>
              <a:t>...</a:t>
            </a:r>
            <a:r>
              <a:rPr b="0" lang="es-GT" sz="29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9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que te cargó en sus brazos para darte descanso. </a:t>
            </a:r>
            <a:r>
              <a:rPr b="0" lang="es-GT" sz="28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0760" y="3710160"/>
          <a:ext cx="4522680" cy="517320"/>
        </p:xfrm>
        <a:graphic>
          <a:graphicData uri="http://schemas.openxmlformats.org/drawingml/2006/table">
            <a:tbl>
              <a:tblPr/>
              <a:tblGrid>
                <a:gridCol w="45226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427640" y="536760"/>
            <a:ext cx="4101840" cy="59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0000" tIns="2379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6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Alguna</a:t>
            </a:r>
            <a:r>
              <a:rPr b="0" lang="es-GT" sz="37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 vez te has sentido derrotado y nadie parece estar alrededor tuyo para hablarte?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700" spc="-1" strike="noStrike">
                <a:solidFill>
                  <a:srgbClr val="cc99ff"/>
                </a:solidFill>
                <a:latin typeface="Arial Black"/>
                <a:ea typeface="Times New Roman"/>
              </a:rPr>
              <a:t>ESE ES DIOS</a:t>
            </a:r>
            <a:r>
              <a:rPr b="0" lang="es-GT" sz="3700" spc="-1" strike="noStrike">
                <a:solidFill>
                  <a:srgbClr val="cc99ff"/>
                </a:solidFill>
                <a:latin typeface="Arial Black"/>
                <a:ea typeface="Times New Roman"/>
              </a:rPr>
              <a:t>...</a:t>
            </a:r>
            <a:r>
              <a:rPr b="0" lang="es-GT" sz="37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 Él quiere hablar contigo</a:t>
            </a:r>
            <a:r>
              <a:rPr b="0" lang="es-GT" sz="17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14520" y="3511440"/>
          <a:ext cx="4522680" cy="517680"/>
        </p:xfrm>
        <a:graphic>
          <a:graphicData uri="http://schemas.openxmlformats.org/drawingml/2006/table">
            <a:tbl>
              <a:tblPr/>
              <a:tblGrid>
                <a:gridCol w="45226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284720" y="771840"/>
            <a:ext cx="4859280" cy="48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0000" tIns="2379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Alguna</a:t>
            </a:r>
            <a:r>
              <a:rPr b="0" lang="es-GT" sz="33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 vez has estado pensando en alguien a quién amas y no has visto por largo tiempo y la próxima cosa que pasa es verlo o recibir una llamada de esa persona?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300" spc="-1" strike="noStrike">
                <a:solidFill>
                  <a:srgbClr val="cc99ff"/>
                </a:solidFill>
                <a:latin typeface="Arial Black"/>
                <a:ea typeface="Times New Roman"/>
              </a:rPr>
              <a:t>ESE ES DIOS..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3511440"/>
          <a:ext cx="4522680" cy="517680"/>
        </p:xfrm>
        <a:graphic>
          <a:graphicData uri="http://schemas.openxmlformats.org/drawingml/2006/table">
            <a:tbl>
              <a:tblPr/>
              <a:tblGrid>
                <a:gridCol w="45226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18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788000" y="594360"/>
            <a:ext cx="3887640" cy="51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0000" tIns="2379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44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Alguna</a:t>
            </a:r>
            <a:r>
              <a:rPr b="0" lang="es-GT" sz="89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 </a:t>
            </a:r>
            <a:r>
              <a:rPr b="0" lang="es-GT" sz="33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vez has recibido algo maravilloso que ni siquiera pediste?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300" spc="-1" strike="noStrike">
                <a:solidFill>
                  <a:srgbClr val="cc99ff"/>
                </a:solidFill>
                <a:latin typeface="Arial Black"/>
                <a:ea typeface="Times New Roman"/>
              </a:rPr>
              <a:t>ESE ES DIOS</a:t>
            </a:r>
            <a:r>
              <a:rPr b="0" lang="es-GT" sz="3300" spc="-1" strike="noStrike">
                <a:solidFill>
                  <a:srgbClr val="cc99ff"/>
                </a:solidFill>
                <a:latin typeface="Arial Black"/>
                <a:ea typeface="Times New Roman"/>
              </a:rPr>
              <a:t>...</a:t>
            </a:r>
            <a:r>
              <a:rPr b="0" lang="es-GT" sz="33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que conoce los secretos de tu corazón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020600" y="3511440"/>
          <a:ext cx="4522680" cy="517680"/>
        </p:xfrm>
        <a:graphic>
          <a:graphicData uri="http://schemas.openxmlformats.org/drawingml/2006/table">
            <a:tbl>
              <a:tblPr/>
              <a:tblGrid>
                <a:gridCol w="45226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6728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067280" y="822960"/>
            <a:ext cx="48258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0000" tIns="2379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9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Alguna vez has estado en una situación problemática y no tenías indicios de cómo se iba a resolver y de pronto todo queda resuelto sin darte cuenta?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900" spc="-1" strike="noStrike">
                <a:solidFill>
                  <a:srgbClr val="cc99ff"/>
                </a:solidFill>
                <a:latin typeface="Arial Black"/>
                <a:ea typeface="Times New Roman"/>
              </a:rPr>
              <a:t>ESE ES DIOS</a:t>
            </a:r>
            <a:r>
              <a:rPr b="0" lang="es-GT" sz="2900" spc="-1" strike="noStrike">
                <a:solidFill>
                  <a:srgbClr val="cc99ff"/>
                </a:solidFill>
                <a:latin typeface="Arial Black"/>
                <a:ea typeface="Times New Roman"/>
              </a:rPr>
              <a:t>...</a:t>
            </a:r>
            <a:r>
              <a:rPr b="0" lang="es-GT" sz="29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que toma nuestros problemas en sus manos les da solución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3511440"/>
          <a:ext cx="4522680" cy="517680"/>
        </p:xfrm>
        <a:graphic>
          <a:graphicData uri="http://schemas.openxmlformats.org/drawingml/2006/table">
            <a:tbl>
              <a:tblPr/>
              <a:tblGrid>
                <a:gridCol w="45226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716360" y="895680"/>
            <a:ext cx="4427640" cy="48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0000" tIns="2379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3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Alguna vez has sentido una inmensa tristeza en el alma y al día siguiente la tristeza ha pasado?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300" spc="-1" strike="noStrike">
                <a:solidFill>
                  <a:srgbClr val="cc99ff"/>
                </a:solidFill>
                <a:latin typeface="Arial Black"/>
                <a:ea typeface="Times New Roman"/>
              </a:rPr>
              <a:t>ESE ES DIOS</a:t>
            </a:r>
            <a:r>
              <a:rPr b="0" lang="es-GT" sz="3300" spc="-1" strike="noStrike">
                <a:solidFill>
                  <a:srgbClr val="cc99ff"/>
                </a:solidFill>
                <a:latin typeface="Arial Black"/>
                <a:ea typeface="Times New Roman"/>
              </a:rPr>
              <a:t>...</a:t>
            </a:r>
            <a:r>
              <a:rPr b="0" lang="es-GT" sz="33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que te dio un abrazo de consuelo y te dijo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3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palabras dulces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66720" y="3328920"/>
          <a:ext cx="4522680" cy="1081080"/>
        </p:xfrm>
        <a:graphic>
          <a:graphicData uri="http://schemas.openxmlformats.org/drawingml/2006/table">
            <a:tbl>
              <a:tblPr/>
              <a:tblGrid>
                <a:gridCol w="4522680"/>
              </a:tblGrid>
              <a:tr h="56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 </a:t>
                      </a:r>
                      <a:r>
                        <a:rPr b="0" lang="es-G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40320" y="332640"/>
            <a:ext cx="4603680" cy="55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0000" tIns="23796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9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Alguna vez has sentido que tienes tantos problemas y la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9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cosas ya se están saliendo de su cauce y de pronto un día todo está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9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resuelto?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900" spc="-1" strike="noStrike">
                <a:solidFill>
                  <a:srgbClr val="cc99ff"/>
                </a:solidFill>
                <a:latin typeface="Arial Black"/>
                <a:ea typeface="Times New Roman"/>
              </a:rPr>
              <a:t>ESE ES DIOS...</a:t>
            </a:r>
            <a:r>
              <a:rPr b="0" lang="es-GT" sz="29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que tomó todas las cosas y las puso en su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9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lugar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270160" y="3900600"/>
          <a:ext cx="4522680" cy="517320"/>
        </p:xfrm>
        <a:graphic>
          <a:graphicData uri="http://schemas.openxmlformats.org/drawingml/2006/table">
            <a:tbl>
              <a:tblPr/>
              <a:tblGrid>
                <a:gridCol w="45226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03:06:28Z</dcterms:created>
  <dc:creator>Walz</dc:creator>
  <dc:description>Retocado por TELLAIM</dc:description>
  <dc:language>en-US</dc:language>
  <cp:lastModifiedBy>Fam Villalobos</cp:lastModifiedBy>
  <dcterms:modified xsi:type="dcterms:W3CDTF">2007-09-01T01:35:38Z</dcterms:modified>
  <cp:revision>3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LLAIM">
    <vt:bool>1</vt:bool>
  </property>
  <property fmtid="{D5CDD505-2E9C-101B-9397-08002B2CF9AE}" pid="3" name="retocado por TELLAIM">
    <vt:bool>1</vt:bool>
  </property>
</Properties>
</file>