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Quietude_04.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12B748-316C-4977-9B80-B203CBB465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CC84FD-9EC7-488A-B278-CFFCFABF50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D353F1-0EE8-4C39-92E5-9072FF5ABE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D381AC-9FC7-43B5-9FAF-7A73AED594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66153A-3905-48D0-814E-DCE2854492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5C6D9B-5191-4858-99C7-4A6009DB2A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54488D-6DA6-4C8D-B716-1DF870E70A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4F045D-9E45-454E-9F9B-61B43DAEB6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CE0F0C-74E5-4702-B8A9-88180D67E8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EFE20-418D-4CA4-A14A-79A870136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8612C-FD01-4706-85DD-F3C405FAE2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F5711-2DFD-4CB1-B9E3-342721E138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496BA-FF51-4485-BDEE-A892955AC2B2}" type="slidenum">
              <a:rPr b="0" lang="pt-B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Quietude_04.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Quietude_04.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Quietude_04.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Quietude_04.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Quietude_04.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Quietude_04.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2195640" y="2924280"/>
            <a:ext cx="5054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ea typeface="Times New Roman"/>
              </a:rPr>
              <a:t>¡</a:t>
            </a:r>
            <a:r>
              <a:rPr b="1" lang="pt-BR" sz="4000" spc="-1" strike="noStrike">
                <a:solidFill>
                  <a:srgbClr val="000000"/>
                </a:solidFill>
                <a:latin typeface="Comic Sans MS"/>
              </a:rPr>
              <a:t>Hola ... soy Jesús!</a:t>
            </a:r>
            <a:endParaRPr b="0" lang="en-US" sz="4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2000"/>
                                  </p:stCondLst>
                                  <p:iterate type="lt">
                                    <p:tmAbs val="75"/>
                                  </p:iterate>
                                  <p:childTnLst>
                                    <p:set>
                                      <p:cBhvr>
                                        <p:cTn id="6" dur="1" fill="hold">
                                          <p:stCondLst>
                                            <p:cond delay="0"/>
                                          </p:stCondLst>
                                        </p:cTn>
                                        <p:tgtEl>
                                          <p:spTgt spid="41"/>
                                        </p:tgtEl>
                                        <p:attrNameLst>
                                          <p:attrName>style.visibility</p:attrName>
                                        </p:attrNameLst>
                                      </p:cBhvr>
                                      <p:to>
                                        <p:strVal val="visible"/>
                                      </p:to>
                                    </p:set>
                                    <p:anim calcmode="lin" valueType="num">
                                      <p:cBhvr additive="repl">
                                        <p:cTn id="7" dur="75" fill="hold"/>
                                        <p:tgtEl>
                                          <p:spTgt spid="41"/>
                                        </p:tgtEl>
                                        <p:attrNameLst>
                                          <p:attrName>ppt_w</p:attrName>
                                        </p:attrNameLst>
                                      </p:cBhvr>
                                      <p:tavLst>
                                        <p:tav tm="0">
                                          <p:val>
                                            <p:fltVal val="0"/>
                                          </p:val>
                                        </p:tav>
                                        <p:tav tm="100000">
                                          <p:val>
                                            <p:strVal val="#ppt_w"/>
                                          </p:val>
                                        </p:tav>
                                      </p:tavLst>
                                    </p:anim>
                                    <p:anim calcmode="lin" valueType="num">
                                      <p:cBhvr additive="repl">
                                        <p:cTn id="8" dur="75" fill="hold"/>
                                        <p:tgtEl>
                                          <p:spTgt spid="4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457200" y="692280"/>
            <a:ext cx="830592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omic Sans MS"/>
              </a:rPr>
              <a:t>Ora, alaba, agradece, Yo estoy aquí contigo, oyéndote:</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omic Sans MS"/>
              </a:rPr>
              <a:t>"Santo Dios, Señor mío, celoso guardador, si a mí se me confió el conocerte, rige mi vida, guárdame e ilumíname. Amén!"</a:t>
            </a:r>
            <a:endParaRPr b="0" lang="en-US" sz="3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609480" y="914400"/>
            <a:ext cx="8153640" cy="531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Comic Sans MS"/>
              </a:rPr>
              <a:t>Si sientes en tu corazón, manda este mensaje a tus amigos.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Comic Sans MS"/>
              </a:rPr>
              <a:t>Muchos olvidan que tienen un amigo fiel a su lado: </a:t>
            </a:r>
            <a:r>
              <a:rPr b="1" lang="en-US" sz="3600" spc="-1" strike="noStrike">
                <a:solidFill>
                  <a:srgbClr val="000000"/>
                </a:solidFill>
                <a:latin typeface="Comic Sans MS"/>
                <a:ea typeface="Times New Roman"/>
              </a:rPr>
              <a:t>¡¡¡</a:t>
            </a:r>
            <a:r>
              <a:rPr b="1" lang="pt-BR" sz="3600" spc="-1" strike="noStrike">
                <a:solidFill>
                  <a:srgbClr val="000000"/>
                </a:solidFill>
                <a:latin typeface="Comic Sans MS"/>
              </a:rPr>
              <a:t>JESÚS es el mejor amigo !!!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Comic Sans MS"/>
              </a:rPr>
              <a:t>¡Que tengas un lindo día, lleno de PAZ!</a:t>
            </a:r>
            <a:endParaRPr b="0" lang="en-US" sz="3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
          <p:cNvSpPr/>
          <p:nvPr/>
        </p:nvSpPr>
        <p:spPr>
          <a:xfrm>
            <a:off x="380880" y="1219320"/>
            <a:ext cx="818856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Comic Sans MS"/>
              </a:rPr>
              <a:t>Yo estoy a tu lado y soy aquél que nunca pierde la fe en tus sueños.</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Comic Sans MS"/>
              </a:rPr>
              <a:t>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Comic Sans MS"/>
              </a:rPr>
              <a:t>Soy yo quien a veces altero tu itinerario, y hasta atraso tus horarios para evitar accidentes o encuentros desagradables.</a:t>
            </a:r>
            <a:endParaRPr b="0" lang="en-US" sz="3600" spc="-1" strike="noStrike">
              <a:solidFill>
                <a:srgbClr val="000000"/>
              </a:solidFill>
              <a:latin typeface="Times New Roman"/>
            </a:endParaRPr>
          </a:p>
        </p:txBody>
      </p:sp>
    </p:spTree>
  </p:cSld>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23" presetSubtype="16">
                                  <p:stCondLst>
                                    <p:cond delay="0"/>
                                  </p:stCondLst>
                                  <p:iterate type="lt">
                                    <p:tmAbs val="75"/>
                                  </p:iterate>
                                  <p:childTnLst>
                                    <p:set>
                                      <p:cBhvr>
                                        <p:cTn id="14" dur="1" fill="hold">
                                          <p:stCondLst>
                                            <p:cond delay="0"/>
                                          </p:stCondLst>
                                        </p:cTn>
                                        <p:tgtEl>
                                          <p:spTgt spid="42"/>
                                        </p:tgtEl>
                                        <p:attrNameLst>
                                          <p:attrName>style.visibility</p:attrName>
                                        </p:attrNameLst>
                                      </p:cBhvr>
                                      <p:to>
                                        <p:strVal val="visible"/>
                                      </p:to>
                                    </p:set>
                                    <p:anim calcmode="lin" valueType="num">
                                      <p:cBhvr additive="repl">
                                        <p:cTn id="15" dur="75" fill="hold"/>
                                        <p:tgtEl>
                                          <p:spTgt spid="42"/>
                                        </p:tgtEl>
                                        <p:attrNameLst>
                                          <p:attrName>ppt_w</p:attrName>
                                        </p:attrNameLst>
                                      </p:cBhvr>
                                      <p:tavLst>
                                        <p:tav tm="0">
                                          <p:val>
                                            <p:fltVal val="0"/>
                                          </p:val>
                                        </p:tav>
                                        <p:tav tm="100000">
                                          <p:val>
                                            <p:strVal val="#ppt_w"/>
                                          </p:val>
                                        </p:tav>
                                      </p:tavLst>
                                    </p:anim>
                                    <p:anim calcmode="lin" valueType="num">
                                      <p:cBhvr additive="repl">
                                        <p:cTn id="16" dur="75" fill="hold"/>
                                        <p:tgtEl>
                                          <p:spTgt spid="4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533520" y="914400"/>
            <a:ext cx="806436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Comic Sans MS"/>
              </a:rPr>
              <a:t>Sí, soy Yo quien habla a tu oido aquellas "inspiraciones" que tú crees que acabaste de tener como "gran idea".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Comic Sans MS"/>
              </a:rPr>
              <a:t>Soy Yo quien te causa aquel temor, cuando te aproximas a lugares o situaciones que te van a colocar en peligro.</a:t>
            </a:r>
            <a:endParaRPr b="0" lang="en-US" sz="3600" spc="-1" strike="noStrike">
              <a:solidFill>
                <a:srgbClr val="000000"/>
              </a:solidFill>
              <a:latin typeface="Times New Roman"/>
            </a:endParaRPr>
          </a:p>
        </p:txBody>
      </p:sp>
    </p:spTree>
  </p:cSld>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23" presetSubtype="16">
                                  <p:stCondLst>
                                    <p:cond delay="0"/>
                                  </p:stCondLst>
                                  <p:iterate type="lt">
                                    <p:tmAbs val="75"/>
                                  </p:iterate>
                                  <p:childTnLst>
                                    <p:set>
                                      <p:cBhvr>
                                        <p:cTn id="22" dur="1" fill="hold">
                                          <p:stCondLst>
                                            <p:cond delay="0"/>
                                          </p:stCondLst>
                                        </p:cTn>
                                        <p:tgtEl>
                                          <p:spTgt spid="43"/>
                                        </p:tgtEl>
                                        <p:attrNameLst>
                                          <p:attrName>style.visibility</p:attrName>
                                        </p:attrNameLst>
                                      </p:cBhvr>
                                      <p:to>
                                        <p:strVal val="visible"/>
                                      </p:to>
                                    </p:set>
                                    <p:anim calcmode="lin" valueType="num">
                                      <p:cBhvr additive="repl">
                                        <p:cTn id="23" dur="75" fill="hold"/>
                                        <p:tgtEl>
                                          <p:spTgt spid="43"/>
                                        </p:tgtEl>
                                        <p:attrNameLst>
                                          <p:attrName>ppt_w</p:attrName>
                                        </p:attrNameLst>
                                      </p:cBhvr>
                                      <p:tavLst>
                                        <p:tav tm="0">
                                          <p:val>
                                            <p:fltVal val="0"/>
                                          </p:val>
                                        </p:tav>
                                        <p:tav tm="100000">
                                          <p:val>
                                            <p:strVal val="#ppt_w"/>
                                          </p:val>
                                        </p:tav>
                                      </p:tavLst>
                                    </p:anim>
                                    <p:anim calcmode="lin" valueType="num">
                                      <p:cBhvr additive="repl">
                                        <p:cTn id="24" dur="75" fill="hold"/>
                                        <p:tgtEl>
                                          <p:spTgt spid="4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569880" y="673200"/>
            <a:ext cx="8193240" cy="586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Comic Sans MS"/>
              </a:rPr>
              <a:t>Y soy Yo quien llora por ti cuando tú con tu terquedad insistes en hacer todo al contrario sólo para desafiar al mundo.</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Comic Sans MS"/>
              </a:rPr>
              <a:t>Cuantas noches pasé en la cabecera de tu cama velando por tu salud, cuidando de tu fiebre y renovando tus energías. </a:t>
            </a: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5" name=""/>
          <p:cNvSpPr/>
          <p:nvPr/>
        </p:nvSpPr>
        <p:spPr>
          <a:xfrm>
            <a:off x="539640" y="2637000"/>
            <a:ext cx="4824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468360" y="4941720"/>
            <a:ext cx="37432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23" presetSubtype="16">
                                  <p:stCondLst>
                                    <p:cond delay="0"/>
                                  </p:stCondLst>
                                  <p:iterate type="lt">
                                    <p:tmAbs val="75"/>
                                  </p:iterate>
                                  <p:childTnLst>
                                    <p:set>
                                      <p:cBhvr>
                                        <p:cTn id="30" dur="1" fill="hold">
                                          <p:stCondLst>
                                            <p:cond delay="0"/>
                                          </p:stCondLst>
                                        </p:cTn>
                                        <p:tgtEl>
                                          <p:spTgt spid="44"/>
                                        </p:tgtEl>
                                        <p:attrNameLst>
                                          <p:attrName>style.visibility</p:attrName>
                                        </p:attrNameLst>
                                      </p:cBhvr>
                                      <p:to>
                                        <p:strVal val="visible"/>
                                      </p:to>
                                    </p:set>
                                    <p:anim calcmode="lin" valueType="num">
                                      <p:cBhvr additive="repl">
                                        <p:cTn id="31" dur="75" fill="hold"/>
                                        <p:tgtEl>
                                          <p:spTgt spid="44"/>
                                        </p:tgtEl>
                                        <p:attrNameLst>
                                          <p:attrName>ppt_w</p:attrName>
                                        </p:attrNameLst>
                                      </p:cBhvr>
                                      <p:tavLst>
                                        <p:tav tm="0">
                                          <p:val>
                                            <p:fltVal val="0"/>
                                          </p:val>
                                        </p:tav>
                                        <p:tav tm="100000">
                                          <p:val>
                                            <p:strVal val="#ppt_w"/>
                                          </p:val>
                                        </p:tav>
                                      </p:tavLst>
                                    </p:anim>
                                    <p:anim calcmode="lin" valueType="num">
                                      <p:cBhvr additive="repl">
                                        <p:cTn id="32" dur="75" fill="hold"/>
                                        <p:tgtEl>
                                          <p:spTgt spid="4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539640" y="765000"/>
            <a:ext cx="8064720" cy="531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ea typeface="Times New Roman"/>
              </a:rPr>
              <a:t>¿</a:t>
            </a:r>
            <a:r>
              <a:rPr b="1" lang="pt-BR" sz="3600" spc="-1" strike="noStrike">
                <a:solidFill>
                  <a:srgbClr val="000000"/>
                </a:solidFill>
                <a:latin typeface="Comic Sans MS"/>
              </a:rPr>
              <a:t>Cuántos días Yo te sujeté para que tú no entrases en aquel bus, carro y hasta avión? </a:t>
            </a:r>
            <a:r>
              <a:rPr b="1" lang="en-US" sz="3600" spc="-1" strike="noStrike">
                <a:solidFill>
                  <a:srgbClr val="000000"/>
                </a:solidFill>
                <a:latin typeface="Comic Sans MS"/>
                <a:ea typeface="Times New Roman"/>
              </a:rPr>
              <a:t>¿por </a:t>
            </a:r>
            <a:r>
              <a:rPr b="1" lang="pt-BR" sz="3600" spc="-1" strike="noStrike">
                <a:solidFill>
                  <a:srgbClr val="000000"/>
                </a:solidFill>
                <a:latin typeface="Comic Sans MS"/>
              </a:rPr>
              <a:t>cuántas calles oscuras Yo te guié con seguridad?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Comic Sans MS"/>
              </a:rPr>
              <a:t>No sé, ya perdí la cuenta, y eso no importa. </a:t>
            </a: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23" presetSubtype="16">
                                  <p:stCondLst>
                                    <p:cond delay="0"/>
                                  </p:stCondLst>
                                  <p:iterate type="lt">
                                    <p:tmAbs val="75"/>
                                  </p:iterate>
                                  <p:childTnLst>
                                    <p:set>
                                      <p:cBhvr>
                                        <p:cTn id="38" dur="1" fill="hold">
                                          <p:stCondLst>
                                            <p:cond delay="0"/>
                                          </p:stCondLst>
                                        </p:cTn>
                                        <p:tgtEl>
                                          <p:spTgt spid="47"/>
                                        </p:tgtEl>
                                        <p:attrNameLst>
                                          <p:attrName>style.visibility</p:attrName>
                                        </p:attrNameLst>
                                      </p:cBhvr>
                                      <p:to>
                                        <p:strVal val="visible"/>
                                      </p:to>
                                    </p:set>
                                    <p:anim calcmode="lin" valueType="num">
                                      <p:cBhvr additive="repl">
                                        <p:cTn id="39" dur="75" fill="hold"/>
                                        <p:tgtEl>
                                          <p:spTgt spid="47"/>
                                        </p:tgtEl>
                                        <p:attrNameLst>
                                          <p:attrName>ppt_w</p:attrName>
                                        </p:attrNameLst>
                                      </p:cBhvr>
                                      <p:tavLst>
                                        <p:tav tm="0">
                                          <p:val>
                                            <p:fltVal val="0"/>
                                          </p:val>
                                        </p:tav>
                                        <p:tav tm="100000">
                                          <p:val>
                                            <p:strVal val="#ppt_w"/>
                                          </p:val>
                                        </p:tav>
                                      </p:tavLst>
                                    </p:anim>
                                    <p:anim calcmode="lin" valueType="num">
                                      <p:cBhvr additive="repl">
                                        <p:cTn id="40" dur="75" fill="hold"/>
                                        <p:tgtEl>
                                          <p:spTgt spid="4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533520" y="533520"/>
            <a:ext cx="799920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omic Sans MS"/>
              </a:rPr>
              <a:t>Lo que realmente importa, y lo que me deja triste y preocupado, es cuando tú asumes la postura de víctima del mundo, cuando tú no crees en tu capacidad para resolver los problemas, cuando tú aceptas las situaciones como insolubles, cuando paras de "luchar" y simplemente reclamas de todo y de todos, cuando desistes de ser feliz y culpas a otras personas de tu infelicidad, </a:t>
            </a:r>
            <a:endParaRPr b="0" lang="en-US" sz="3200" spc="-1" strike="noStrike">
              <a:solidFill>
                <a:srgbClr val="000000"/>
              </a:solidFill>
              <a:latin typeface="Times New Roman"/>
            </a:endParaRPr>
          </a:p>
        </p:txBody>
      </p:sp>
    </p:spTree>
  </p:cSld>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1">
                                  <p:stCondLst>
                                    <p:cond delay="3000"/>
                                  </p:stCondLst>
                                  <p:iterate type="lt">
                                    <p:tmAbs val="0.0562500022351742"/>
                                  </p:iterate>
                                  <p:childTnLst>
                                    <p:set>
                                      <p:cBhvr>
                                        <p:cTn id="46" dur="1" fill="hold">
                                          <p:stCondLst>
                                            <p:cond delay="74"/>
                                          </p:stCondLst>
                                        </p:cTn>
                                        <p:tgtEl>
                                          <p:spTgt spid="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457200" y="549360"/>
            <a:ext cx="8305920" cy="502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omic Sans MS"/>
              </a:rPr>
              <a:t>cuando tú dejas de sonreír y asumes que no hay motivos para reír, cuando el mundo está repleto de cosas maravillosas y hasta te olvidas de Mí.</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omic Sans MS"/>
              </a:rPr>
              <a:t>Yo soy Jesús, aquel que Mi Padre entregó para morir en tu lugar en la Cruz del Calvario, en sacrificio para que los pecados del mundo fuesen perdonados.</a:t>
            </a:r>
            <a:endParaRPr b="0" lang="en-US" sz="3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304920" y="457200"/>
            <a:ext cx="853416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omic Sans MS"/>
              </a:rPr>
              <a:t>Ya que pude hablar diretamente contigo, me gustaría recordarte, que estoy a tu lado siempre, aun cuando tú crees estar totalmente solo y abandonado.</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omic Sans MS"/>
              </a:rPr>
              <a:t>En este momento también Yo estoy agarrando tu  mano, estoy  consolando tu corazón y estoy mirándote. Por amarte  demasiado, me quedo triste con tu tristeza y alegre con tus alegrías.</a:t>
            </a: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762120" y="990720"/>
            <a:ext cx="784836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omic Sans MS"/>
              </a:rPr>
              <a:t>Pero como Yo sé que tú naciste para adorar a Mi Padre que está en los Cielos, le agradezco a Él la oportunidad bendita de conocerte y cuidar de ti, porque tú eres realmente muy especial para Mí.</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omic Sans MS"/>
              </a:rPr>
              <a:t>Soy Jesús, Yo creo en ti! </a:t>
            </a:r>
            <a:endParaRPr b="0" lang="en-US" sz="3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1T11:57:08Z</dcterms:created>
  <dc:creator>Rosana F.Carniel</dc:creator>
  <dc:description/>
  <dc:language>en-US</dc:language>
  <cp:lastModifiedBy>Diego Pacheco</cp:lastModifiedBy>
  <dcterms:modified xsi:type="dcterms:W3CDTF">2006-10-29T19:21:17Z</dcterms:modified>
  <cp:revision>48</cp:revision>
  <dc:subject>www.misericordia.com.br</dc:subject>
  <dc:title>Quero falar contigo...</dc:title>
</cp:coreProperties>
</file>