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Quietude_04.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5854D-8723-4912-A369-F3CD6C57F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970BB-7DAF-4EB8-AB07-1B2E3C59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ABE89-4CBE-45D0-8408-5CA5A3BE6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9DEA7-7BD8-47E8-8D25-BBD0F7BF4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3325-3236-4BE2-BCC0-C78B11F5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7AF4-A1A4-4F9E-A7AD-A8099774C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1957-A273-4EDA-8A8F-D56D93B4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C4C3-AE20-4279-8D55-B03BC29B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2E24D-4E0E-4CA7-87F9-0FE621037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6801F-F040-4AFC-8DEF-1604BF977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F5D3-6002-4FB5-A5A9-05F48C3D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1852-8913-4D60-88E6-F1E960EBA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241B-23E1-4C15-B4E5-5F46FCBDEC9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195640" y="2924280"/>
            <a:ext cx="505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a:t>
            </a:r>
            <a:r>
              <a:rPr b="1" lang="pt-BR" sz="4000" spc="-1" strike="noStrike">
                <a:solidFill>
                  <a:srgbClr val="000000"/>
                </a:solidFill>
                <a:latin typeface="Comic Sans MS"/>
              </a:rPr>
              <a:t>Hola ... soy Jesús!</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2000"/>
                                  </p:stCondLst>
                                  <p:iterate type="lt">
                                    <p:tmAbs val="75"/>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75" fill="hold"/>
                                        <p:tgtEl>
                                          <p:spTgt spid="41"/>
                                        </p:tgtEl>
                                        <p:attrNameLst>
                                          <p:attrName>ppt_w</p:attrName>
                                        </p:attrNameLst>
                                      </p:cBhvr>
                                      <p:tavLst>
                                        <p:tav tm="0">
                                          <p:val>
                                            <p:fltVal val="0"/>
                                          </p:val>
                                        </p:tav>
                                        <p:tav tm="100000">
                                          <p:val>
                                            <p:strVal val="#ppt_w"/>
                                          </p:val>
                                        </p:tav>
                                      </p:tavLst>
                                    </p:anim>
                                    <p:anim calcmode="lin" valueType="num">
                                      <p:cBhvr additive="repl">
                                        <p:cTn id="8" dur="75"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57200" y="6922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Ora, alaba, agradece, Yo estoy aquí contigo, oyéndot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Santo Dios, Señor mío, celoso guardador, si a mí se me confió el conocerte, rige mi vida, guárdame e ilumíname. Amén!"</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09480" y="914400"/>
            <a:ext cx="8153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i sientes en tu corazón, manda este mensaje a tus amigo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Muchos olvidan que tienen un amigo fiel a su lado: </a:t>
            </a:r>
            <a:r>
              <a:rPr b="1" lang="en-US" sz="3600" spc="-1" strike="noStrike">
                <a:solidFill>
                  <a:srgbClr val="000000"/>
                </a:solidFill>
                <a:latin typeface="Comic Sans MS"/>
                <a:ea typeface="Times New Roman"/>
              </a:rPr>
              <a:t>¡¡¡</a:t>
            </a:r>
            <a:r>
              <a:rPr b="1" lang="pt-BR" sz="3600" spc="-1" strike="noStrike">
                <a:solidFill>
                  <a:srgbClr val="000000"/>
                </a:solidFill>
                <a:latin typeface="Comic Sans MS"/>
              </a:rPr>
              <a:t>JESÚS es el mejor amigo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Que tengas un lindo día, lleno de PAZ!</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80880" y="1219320"/>
            <a:ext cx="81885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Yo estoy a tu lado y soy aquél que nunca pierde la fe en tus sueño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oy yo quien a veces altero tu itinerario, y hasta atraso tus horarios para evitar accidentes o encuentros desagradables.</a:t>
            </a:r>
            <a:endParaRPr b="0" lang="en-US" sz="36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iterate type="lt">
                                    <p:tmAbs val="75"/>
                                  </p:iterate>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75" fill="hold"/>
                                        <p:tgtEl>
                                          <p:spTgt spid="42"/>
                                        </p:tgtEl>
                                        <p:attrNameLst>
                                          <p:attrName>ppt_w</p:attrName>
                                        </p:attrNameLst>
                                      </p:cBhvr>
                                      <p:tavLst>
                                        <p:tav tm="0">
                                          <p:val>
                                            <p:fltVal val="0"/>
                                          </p:val>
                                        </p:tav>
                                        <p:tav tm="100000">
                                          <p:val>
                                            <p:strVal val="#ppt_w"/>
                                          </p:val>
                                        </p:tav>
                                      </p:tavLst>
                                    </p:anim>
                                    <p:anim calcmode="lin" valueType="num">
                                      <p:cBhvr additive="repl">
                                        <p:cTn id="16" dur="75"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533520" y="914400"/>
            <a:ext cx="8064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í, soy Yo quien habla a tu oido aquellas "inspiraciones" que tú crees que acabaste de tener como "gran ide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oy Yo quien te causa aquel temor, cuando te aproximas a lugares o situaciones que te van a colocar en peligro.</a:t>
            </a:r>
            <a:endParaRPr b="0" lang="en-US" sz="36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iterate type="lt">
                                    <p:tmAbs val="75"/>
                                  </p:iterate>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75" fill="hold"/>
                                        <p:tgtEl>
                                          <p:spTgt spid="43"/>
                                        </p:tgtEl>
                                        <p:attrNameLst>
                                          <p:attrName>ppt_w</p:attrName>
                                        </p:attrNameLst>
                                      </p:cBhvr>
                                      <p:tavLst>
                                        <p:tav tm="0">
                                          <p:val>
                                            <p:fltVal val="0"/>
                                          </p:val>
                                        </p:tav>
                                        <p:tav tm="100000">
                                          <p:val>
                                            <p:strVal val="#ppt_w"/>
                                          </p:val>
                                        </p:tav>
                                      </p:tavLst>
                                    </p:anim>
                                    <p:anim calcmode="lin" valueType="num">
                                      <p:cBhvr additive="repl">
                                        <p:cTn id="24" dur="75"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569880" y="673200"/>
            <a:ext cx="8193240" cy="58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Y soy Yo quien llora por ti cuando tú con tu terquedad insistes en hacer todo al contrario sólo para desafiar al mund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Cuantas noches pasé en la cabecera de tu cama velando por tu salud, cuidando de tu fiebre y renovando tus energías.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539640" y="2637000"/>
            <a:ext cx="482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68360" y="4941720"/>
            <a:ext cx="3743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iterate type="lt">
                                    <p:tmAbs val="75"/>
                                  </p:iterate>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75" fill="hold"/>
                                        <p:tgtEl>
                                          <p:spTgt spid="44"/>
                                        </p:tgtEl>
                                        <p:attrNameLst>
                                          <p:attrName>ppt_w</p:attrName>
                                        </p:attrNameLst>
                                      </p:cBhvr>
                                      <p:tavLst>
                                        <p:tav tm="0">
                                          <p:val>
                                            <p:fltVal val="0"/>
                                          </p:val>
                                        </p:tav>
                                        <p:tav tm="100000">
                                          <p:val>
                                            <p:strVal val="#ppt_w"/>
                                          </p:val>
                                        </p:tav>
                                      </p:tavLst>
                                    </p:anim>
                                    <p:anim calcmode="lin" valueType="num">
                                      <p:cBhvr additive="repl">
                                        <p:cTn id="32" dur="75"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765000"/>
            <a:ext cx="806472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a:t>
            </a:r>
            <a:r>
              <a:rPr b="1" lang="pt-BR" sz="3600" spc="-1" strike="noStrike">
                <a:solidFill>
                  <a:srgbClr val="000000"/>
                </a:solidFill>
                <a:latin typeface="Comic Sans MS"/>
              </a:rPr>
              <a:t>Cuántos días Yo te sujeté para que tú no entrases en aquel bus, carro y hasta avión? </a:t>
            </a:r>
            <a:r>
              <a:rPr b="1" lang="en-US" sz="3600" spc="-1" strike="noStrike">
                <a:solidFill>
                  <a:srgbClr val="000000"/>
                </a:solidFill>
                <a:latin typeface="Comic Sans MS"/>
                <a:ea typeface="Times New Roman"/>
              </a:rPr>
              <a:t>¿por </a:t>
            </a:r>
            <a:r>
              <a:rPr b="1" lang="pt-BR" sz="3600" spc="-1" strike="noStrike">
                <a:solidFill>
                  <a:srgbClr val="000000"/>
                </a:solidFill>
                <a:latin typeface="Comic Sans MS"/>
              </a:rPr>
              <a:t>cuántas calles oscuras Yo te guié con seguridad?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No sé, ya perdí la cuenta, y eso no importa.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3" presetSubtype="16">
                                  <p:stCondLst>
                                    <p:cond delay="0"/>
                                  </p:stCondLst>
                                  <p:iterate type="lt">
                                    <p:tmAbs val="75"/>
                                  </p:iterate>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75" fill="hold"/>
                                        <p:tgtEl>
                                          <p:spTgt spid="47"/>
                                        </p:tgtEl>
                                        <p:attrNameLst>
                                          <p:attrName>ppt_w</p:attrName>
                                        </p:attrNameLst>
                                      </p:cBhvr>
                                      <p:tavLst>
                                        <p:tav tm="0">
                                          <p:val>
                                            <p:fltVal val="0"/>
                                          </p:val>
                                        </p:tav>
                                        <p:tav tm="100000">
                                          <p:val>
                                            <p:strVal val="#ppt_w"/>
                                          </p:val>
                                        </p:tav>
                                      </p:tavLst>
                                    </p:anim>
                                    <p:anim calcmode="lin" valueType="num">
                                      <p:cBhvr additive="repl">
                                        <p:cTn id="40" dur="75"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33520" y="533520"/>
            <a:ext cx="79992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Lo que realmente importa, y lo que me deja triste y preocupado, es cuando tú asumes la postura de víctima del mundo, cuando tú no crees en tu capacidad para resolver los problemas, cuando tú aceptas las situaciones como insolubles, cuando paras de "luchar" y simplemente reclamas de todo y de todos, cuando desistes de ser feliz y culpas a otras personas de tu infelicidad, </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3000"/>
                                  </p:stCondLst>
                                  <p:iterate type="lt">
                                    <p:tmAbs val="0.0562500022351742"/>
                                  </p:iterate>
                                  <p:childTnLst>
                                    <p:set>
                                      <p:cBhvr>
                                        <p:cTn id="46" dur="1" fill="hold">
                                          <p:stCondLst>
                                            <p:cond delay="74"/>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549360"/>
            <a:ext cx="830592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cuando tú dejas de sonreír y asumes que no hay motivos para reír, cuando el mundo está repleto de cosas maravillosas y hasta te olvidas de M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Yo soy Jesús, aquel que Mi Padre entregó para morir en tu lugar en la Cruz del Calvario, en sacrificio para que los pecados del mundo fuesen perdonado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04920" y="457200"/>
            <a:ext cx="8534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Ya que pude hablar diretamente contigo, me gustaría recordarte, que estoy a tu lado siempre, aun cuando tú crees estar totalmente solo y abandonad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En este momento también Yo estoy agarrando tu  mano, estoy  consolando tu corazón y estoy mirándote. Por amarte  demasiado, me quedo triste con tu tristeza y alegre con tus alegría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62120" y="990720"/>
            <a:ext cx="7848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Pero como Yo sé que tú naciste para adorar a Mi Padre que está en los Cielos, le agradezco a Él la oportunidad bendita de conocerte y cuidar de ti, porque tú eres realmente muy especial para M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Soy Jesús, Yo creo en ti!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11:57:08Z</dcterms:created>
  <dc:creator>Rosana F.Carniel</dc:creator>
  <dc:description/>
  <dc:language>en-US</dc:language>
  <cp:lastModifiedBy>Diego Pacheco</cp:lastModifiedBy>
  <dcterms:modified xsi:type="dcterms:W3CDTF">2006-10-29T19:21:17Z</dcterms:modified>
  <cp:revision>48</cp:revision>
  <dc:subject>www.misericordia.com.br</dc:subject>
  <dc:title>Quero falar contigo...</dc:title>
</cp:coreProperties>
</file>