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45019-FD5A-47B7-90CA-DB6F42F5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69565-DD15-4EC0-87AF-3982A3DA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D674-13EA-48A3-BFB9-CE013E4F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44653-C329-418B-8996-A3186C48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AC24F-E183-41CD-97EA-08D71AEF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E4754-755E-45BF-BF05-37ABEE0D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3A2EB-EE7F-4922-9176-05D561F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223F6-28EF-4E3F-B899-8DEE4B1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B1FDD-85AB-4729-B5B3-A2CBA99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C50AC-6CA4-4171-9DF4-6BA0A1C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44C45-D5A2-491D-AC4F-43269392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58A39-60A1-4002-B876-FF216337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42670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lunawat@yaho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3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3A5-768B-42EC-9BA2-76C73826C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80280" y="611280"/>
            <a:ext cx="226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am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Am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0600" y="412920"/>
            <a:ext cx="83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cooked your favorite breakfas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your first day to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YOU became independen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40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47920" y="2286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waited at the do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your first Salary da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ly to seek God’s bless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ahoma"/>
              </a:rPr>
              <a:t>YOU already celebrated with your friend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30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3640" y="152280"/>
            <a:ext cx="74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blessed your love marriag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you came home marri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666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YOU shared your love with your spo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1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70000" y="228600"/>
            <a:ext cx="665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’s now old and lonel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ill thinking of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member! All that she ha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gave it to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971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how your love before you feel it is too 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94960" y="228600"/>
            <a:ext cx="713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, for a mo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she sacrificed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gony &amp; pain she went throu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for YOU, only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657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Give her your time, a bit of your l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for that is all she des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8006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ell her that you love her and care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he’s with YOU, no matter where u 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7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67480" y="3581280"/>
            <a:ext cx="1295640" cy="1712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6094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to minimum 10 friends. So those friends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682000">
            <a:off x="698040" y="3645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00ff00"/>
                </a:solidFill>
                <a:latin typeface="Book Antiqua"/>
                <a:ea typeface="Times New Roman"/>
              </a:rPr>
              <a:t>I hope you have 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0560" y="304920"/>
            <a:ext cx="79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was there every time you cri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a bab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752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YOU started growin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4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3960" y="152280"/>
            <a:ext cx="518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jumped with jo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you first stood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your tender fee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YOU grew confiden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3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77200" y="304920"/>
            <a:ext cx="72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celebrated with happine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your first birth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YOU ate the cak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81200" y="304920"/>
            <a:ext cx="58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gave you sweet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your first day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286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YOU enjoyed the who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8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37400" y="228600"/>
            <a:ext cx="68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bought YOU new cloth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stead of sari for her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ahoma"/>
              </a:rPr>
              <a:t>YOU showed off to your friend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1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7440" y="38088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took you to the doct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you were si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438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YOU recovered your health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35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41920" y="533520"/>
            <a:ext cx="94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quarreled with her frien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you fought with her friend’s kid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 prove you innoc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gave up her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76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YOU cared less for her los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838080"/>
            <a:ext cx="61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gave you her saving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buy your bicy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8195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Tahoma"/>
              </a:rPr>
              <a:t>YOU rode with prid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80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03:23:32Z</dcterms:created>
  <dc:creator>Rajesh Lunawat (r_lunawat@yahoo.com)</dc:creator>
  <dc:description/>
  <cp:keywords>Mother</cp:keywords>
  <dc:language>en-US</dc:language>
  <cp:lastModifiedBy>geenana</cp:lastModifiedBy>
  <dcterms:modified xsi:type="dcterms:W3CDTF">2008-11-10T11:53:47Z</dcterms:modified>
  <cp:revision>30</cp:revision>
  <dc:subject>Mother</dc:subject>
  <dc:title>PowerPoint Presentation</dc:title>
</cp:coreProperties>
</file>