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gif" ContentType="image/gif"/>
  <Override PartName="/ppt/media/image16.gif" ContentType="image/gif"/>
  <Override PartName="/ppt/media/image20.png" ContentType="image/png"/>
  <Override PartName="/ppt/media/image26.gif" ContentType="image/gif"/>
  <Override PartName="/ppt/media/image6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9.png" ContentType="image/png"/>
  <Override PartName="/ppt/media/image29.gif" ContentType="image/gif"/>
  <Override PartName="/ppt/media/image31.gif" ContentType="image/gif"/>
  <Override PartName="/ppt/media/image11.gif" ContentType="image/gif"/>
  <Override PartName="/ppt/media/image12.gif" ContentType="image/gif"/>
  <Override PartName="/ppt/media/image10.png" ContentType="image/png"/>
  <Override PartName="/ppt/media/image7.png" ContentType="image/png"/>
  <Override PartName="/ppt/media/image32.gif" ContentType="image/gif"/>
  <Override PartName="/ppt/media/image5.png" ContentType="image/png"/>
  <Override PartName="/ppt/media/image18.png" ContentType="image/png"/>
  <Override PartName="/ppt/media/image25.gif" ContentType="image/gif"/>
  <Override PartName="/ppt/media/image27.gif" ContentType="image/gif"/>
  <Override PartName="/ppt/media/el%20tamborilero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gif" ContentType="image/gif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ECE-4F68-47F2-9A19-397F3B05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B88-9703-451D-8E62-11C4576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418-8155-4E59-8B7D-49D79DF9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490-AC04-411D-AB38-BD7364F3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954-1EB4-4325-BB13-2B98F8E7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4AD-322B-4061-B9AB-2E099681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292-6391-4D3E-BD7E-D743CC5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683-5A0A-4592-80A3-FE7F3DA2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137-C04A-4B58-9582-8D01913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AA6-E4C8-4E0B-BB2A-7C2A0F9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017-DB45-4690-9D4C-86A735D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3A3-727E-4D79-9CE2-8FCB614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1D8E-30F1-4274-B7E2-86AAD2DC61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23.gif"/><Relationship Id="rId60" Type="http://schemas.openxmlformats.org/officeDocument/2006/relationships/image" Target="../media/image24.gif"/><Relationship Id="rId61" Type="http://schemas.openxmlformats.org/officeDocument/2006/relationships/image" Target="../media/image25.gif"/><Relationship Id="rId62" Type="http://schemas.openxmlformats.org/officeDocument/2006/relationships/image" Target="../media/image26.gif"/><Relationship Id="rId63" Type="http://schemas.openxmlformats.org/officeDocument/2006/relationships/image" Target="../media/image27.gif"/><Relationship Id="rId64" Type="http://schemas.openxmlformats.org/officeDocument/2006/relationships/image" Target="../media/image28.gif"/><Relationship Id="rId65" Type="http://schemas.openxmlformats.org/officeDocument/2006/relationships/image" Target="../media/image29.gif"/><Relationship Id="rId66" Type="http://schemas.openxmlformats.org/officeDocument/2006/relationships/image" Target="../media/image30.gif"/><Relationship Id="rId67" Type="http://schemas.openxmlformats.org/officeDocument/2006/relationships/image" Target="../media/image26.gif"/><Relationship Id="rId68" Type="http://schemas.openxmlformats.org/officeDocument/2006/relationships/image" Target="../media/image31.gif"/><Relationship Id="rId69" Type="http://schemas.openxmlformats.org/officeDocument/2006/relationships/image" Target="../media/image29.gif"/><Relationship Id="rId70" Type="http://schemas.openxmlformats.org/officeDocument/2006/relationships/image" Target="../media/image31.gif"/><Relationship Id="rId71" Type="http://schemas.openxmlformats.org/officeDocument/2006/relationships/image" Target="../media/image12.gif"/><Relationship Id="rId72" Type="http://schemas.openxmlformats.org/officeDocument/2006/relationships/image" Target="../media/image12.gif"/><Relationship Id="rId7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3520" y="1082520"/>
            <a:ext cx="8356680" cy="357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Shall we make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a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Christmas Card?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Click here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323040" y="352440"/>
            <a:ext cx="2259000" cy="2184480"/>
          </a:xfrm>
          <a:custGeom>
            <a:avLst/>
            <a:gdLst>
              <a:gd name="textAreaLeft" fmla="*/ 0 w 2259000"/>
              <a:gd name="textAreaRight" fmla="*/ 2259360 w 2259000"/>
              <a:gd name="textAreaTop" fmla="*/ 342720 h 2184480"/>
              <a:gd name="textAreaBottom" fmla="*/ 184176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1695"/>
                </a:moveTo>
                <a:cubicBezTo>
                  <a:pt x="7200" y="-4310"/>
                  <a:pt x="14400" y="7700"/>
                  <a:pt x="21600" y="1695"/>
                </a:cubicBezTo>
                <a:lnTo>
                  <a:pt x="21600" y="19905"/>
                </a:lnTo>
                <a:cubicBezTo>
                  <a:pt x="14400" y="25910"/>
                  <a:pt x="7200" y="13900"/>
                  <a:pt x="0" y="1990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48400" y="81288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Christmas without snow is not Christm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056280" y="260280"/>
            <a:ext cx="1951200" cy="1722600"/>
          </a:xfrm>
          <a:custGeom>
            <a:avLst/>
            <a:gdLst>
              <a:gd name="textAreaLeft" fmla="*/ 33480 w 1951200"/>
              <a:gd name="textAreaRight" fmla="*/ 1917720 w 1951200"/>
              <a:gd name="textAreaTop" fmla="*/ 206280 h 1722600"/>
              <a:gd name="textAreaBottom" fmla="*/ 1516320 h 1722600"/>
            </a:gdLst>
            <a:ahLst/>
            <a:rect l="textAreaLeft" t="textAreaTop" r="textAreaRight" b="textAreaBottom"/>
            <a:pathLst>
              <a:path w="21600" h="21600">
                <a:moveTo>
                  <a:pt x="0" y="1294"/>
                </a:moveTo>
                <a:cubicBezTo>
                  <a:pt x="7013" y="-3290"/>
                  <a:pt x="14213" y="5878"/>
                  <a:pt x="21226" y="1294"/>
                </a:cubicBezTo>
                <a:lnTo>
                  <a:pt x="21600" y="20306"/>
                </a:lnTo>
                <a:cubicBezTo>
                  <a:pt x="14587" y="24890"/>
                  <a:pt x="7387" y="15722"/>
                  <a:pt x="374" y="2030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4280" y="577800"/>
            <a:ext cx="1671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w let’s add a few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9"/>
          <a:stretch/>
        </p:blipFill>
        <p:spPr>
          <a:xfrm>
            <a:off x="55728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0"/>
          <a:stretch/>
        </p:blipFill>
        <p:spPr>
          <a:xfrm>
            <a:off x="1263600" y="563580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1"/>
          <a:stretch/>
        </p:blipFill>
        <p:spPr>
          <a:xfrm>
            <a:off x="1946160" y="5634000"/>
            <a:ext cx="61920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2"/>
          <a:stretch/>
        </p:blipFill>
        <p:spPr>
          <a:xfrm>
            <a:off x="2558880" y="5646600"/>
            <a:ext cx="400320" cy="952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3"/>
          <a:stretch/>
        </p:blipFill>
        <p:spPr>
          <a:xfrm>
            <a:off x="294804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4"/>
          <a:stretch/>
        </p:blipFill>
        <p:spPr>
          <a:xfrm>
            <a:off x="4019400" y="563580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5"/>
          <a:stretch/>
        </p:blipFill>
        <p:spPr>
          <a:xfrm>
            <a:off x="4697280" y="5634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6"/>
          <a:stretch/>
        </p:blipFill>
        <p:spPr>
          <a:xfrm>
            <a:off x="535320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7"/>
          <a:stretch/>
        </p:blipFill>
        <p:spPr>
          <a:xfrm>
            <a:off x="6046920" y="5634000"/>
            <a:ext cx="399960" cy="952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8"/>
          <a:stretch/>
        </p:blipFill>
        <p:spPr>
          <a:xfrm>
            <a:off x="6431040" y="5635800"/>
            <a:ext cx="676080" cy="95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9"/>
          <a:stretch/>
        </p:blipFill>
        <p:spPr>
          <a:xfrm>
            <a:off x="7105680" y="56340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0"/>
          <a:stretch/>
        </p:blipFill>
        <p:spPr>
          <a:xfrm>
            <a:off x="7764480" y="56275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1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2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46200" y="3684600"/>
            <a:ext cx="54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Franklin Gothic Medium"/>
              </a:rPr>
              <a:t>Peace, Love and Happ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65360" y="1927080"/>
            <a:ext cx="61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Happy Christm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16120" y="2724120"/>
            <a:ext cx="5503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t’s place a card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13400" y="0"/>
            <a:ext cx="2846520" cy="2184480"/>
          </a:xfrm>
          <a:custGeom>
            <a:avLst/>
            <a:gdLst>
              <a:gd name="textAreaLeft" fmla="*/ 0 w 2846520"/>
              <a:gd name="textAreaRight" fmla="*/ 2846880 w 2846520"/>
              <a:gd name="textAreaTop" fmla="*/ 282960 h 2184480"/>
              <a:gd name="textAreaBottom" fmla="*/ 190152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493200">
            <a:off x="5555880" y="426960"/>
            <a:ext cx="2730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t’s play a Christmas Carol whilst we are designing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here to light the chim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2800" y="392040"/>
            <a:ext cx="2611440" cy="1081080"/>
          </a:xfrm>
          <a:custGeom>
            <a:avLst/>
            <a:gdLst>
              <a:gd name="textAreaLeft" fmla="*/ 0 w 2611440"/>
              <a:gd name="textAreaRight" fmla="*/ 2611800 w 261144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50040" y="61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on the river to make the wate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0960" y="101592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on the tree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light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86280" y="650880"/>
            <a:ext cx="2014560" cy="1089000"/>
          </a:xfrm>
          <a:custGeom>
            <a:avLst/>
            <a:gdLst>
              <a:gd name="textAreaLeft" fmla="*/ 0 w 2014560"/>
              <a:gd name="textAreaRight" fmla="*/ 2014920 w 201456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8016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on the roo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illuminate th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72320" y="7333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snowman is too still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on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272880"/>
            <a:ext cx="1803240" cy="1743120"/>
          </a:xfrm>
          <a:custGeom>
            <a:avLst/>
            <a:gdLst>
              <a:gd name="textAreaLeft" fmla="*/ 0 w 1803240"/>
              <a:gd name="textAreaRight" fmla="*/ 1803600 w 1803240"/>
              <a:gd name="textAreaTop" fmla="*/ 225720 h 1743120"/>
              <a:gd name="textAreaBottom" fmla="*/ 1517400 h 1743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83400" y="65232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t’s illuminate the bridge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43:47Z</dcterms:created>
  <dc:creator>Tolo</dc:creator>
  <dc:description>Navidad_2009</dc:description>
  <dc:language>en-US</dc:language>
  <cp:lastModifiedBy> </cp:lastModifiedBy>
  <dcterms:modified xsi:type="dcterms:W3CDTF">2009-12-08T18:12:33Z</dcterms:modified>
  <cp:revision>35</cp:revision>
  <dc:subject/>
  <dc:title>Christmas Card</dc:title>
</cp:coreProperties>
</file>