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2788-9A94-458C-AF63-A2807BEC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45D2-0EA0-4BE9-BA4C-1D78C33A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79B7-1E8E-43B2-B274-4D347DC8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C7F7-E4E1-4364-A9F3-B0143970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C396A-47F9-4133-82FC-5ED9CA27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A2D0C-A7E6-47F3-A494-25D61619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E0BF9-329D-4454-93A4-0815DB81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2EDD1-6373-49AA-90C1-943258E1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76718-9477-435C-BC92-292F35B2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4F3A4-D437-4365-90FB-399EE819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926B6-52A9-4C8B-AA70-6E649534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B100-7184-475A-827A-23888D4B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C13C0-A296-4AFF-9CEA-039A94E6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DE918-E5F3-4030-8CBA-A13EF162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9B852-6738-4486-AB42-A21BA1A7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61247-F060-48AE-9D99-1A542109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9C1E7-5BB2-4B7F-84FE-4F648837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B568-1AD8-4B6D-98ED-2A0F27D0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51B4-669B-4491-955D-8B4C6097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FE8D-F6EB-41FD-96C5-151611C7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B851-A054-47DB-B378-1175C1ED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DBF-B4B7-4EDB-AC5C-E655F5BE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F1E0-6CF2-4AF8-9C99-C8C190EF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78CC-ACEE-4619-8AFD-46DACC4F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1F5B-CE4B-461F-83C4-2A6CCD29BA2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A4C2-1394-4D50-9AF7-7E9C55DB575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nternetadictos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11280" y="476280"/>
            <a:ext cx="7921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staba Jesús en el cielo, reunido con todos sus discípulos, y estaban analizando la problemática de la droga en el mundo y como esta destruía a muchas personas y familias. Pero como ellos nunca han probado, no sabían realmente lo que producía, de modo que Jesús decidió mandar a todos sus discípulos a distintas partes del mundo para que trajeran distintas clases de drogas y analizarlas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1"/>
          </p:cNvPr>
          <p:cNvSpPr/>
          <p:nvPr/>
        </p:nvSpPr>
        <p:spPr>
          <a:xfrm>
            <a:off x="6840360" y="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rnetadicto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0920" y="476280"/>
            <a:ext cx="84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Jesús paso cinco días esperando hasta que por fin y por primera vez tocaron la puerta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314172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Toc-toc-to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0360" y="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rnetadicto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4360" y="260280"/>
            <a:ext cx="784836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Quien es????? – Pregunto Jesú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oy Ju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Jesús abre la puerta rápidamente y le di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Que trajiste Juan????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caína de Colombia, Maest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uy bien, pasa déjalo ah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0360" y="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rnetadicto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765000"/>
            <a:ext cx="82072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l rato…. Toc-toc-t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Quien es?????- Pregunta Jesú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Soy Ped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Jesús abre la puerta y le di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Que trajiste Pedro??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arihuana de Jamaica, Maest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uy bien Pedro, pasa y déjalo ahí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0360" y="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rnetadicto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9640" y="765000"/>
            <a:ext cx="799308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Toc-toc-t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Quien es????? – Pregunta Jesú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Soy Mat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Jesús abre la puerta y le di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Que trajiste mateo??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rack de New York, Maes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uy bien, pasa y déjalo ahí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0360" y="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rnetadicto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26920" y="549360"/>
            <a:ext cx="76327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Y así sucesivamente iban llegando los discípulos y trajeron: Heroína, Anfetamina, LSD, Hachis, Pasta, Base, etc., etc., solo faltaba un discípulo. En eso se oyó la puer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oc-toc-to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0360" y="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rnetadicto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11280" y="404640"/>
            <a:ext cx="799128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ffffff"/>
                </a:solidFill>
                <a:latin typeface="Arial"/>
              </a:rPr>
              <a:t>Quien es????????? – Pregunta Jesú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ffffff"/>
                </a:solidFill>
                <a:latin typeface="Arial"/>
              </a:rPr>
              <a:t>Soy yo, JUDA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ffffff"/>
                </a:solidFill>
                <a:latin typeface="Arial"/>
              </a:rPr>
              <a:t>Que trajiste Judas?????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100" spc="-1" strike="noStrike">
                <a:solidFill>
                  <a:srgbClr val="ffffff"/>
                </a:solidFill>
                <a:latin typeface="Arial"/>
              </a:rPr>
              <a:t>Al FBI Cabrones….. ¡¡¡¡¡¡¡¡TODOS CONTRA LA PARED!!!!!!!!!!. Ese de Barba es el Jefe……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0360" y="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rnetadicto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20:38:27Z</dcterms:created>
  <dc:creator>Maria Jose</dc:creator>
  <dc:description/>
  <dc:language>en-US</dc:language>
  <cp:lastModifiedBy>panzher</cp:lastModifiedBy>
  <dcterms:modified xsi:type="dcterms:W3CDTF">2004-03-18T20:36:17Z</dcterms:modified>
  <cp:revision>4</cp:revision>
  <dc:subject/>
  <dc:title>Diapositiva 1</dc:title>
</cp:coreProperties>
</file>