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EB1-8AA1-41CF-B3D1-51436EA0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5AE-7473-4169-A753-A58D970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79B-263A-4BE2-8A0C-1730702F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6BE-C3EE-4677-89F8-FD076DF0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84610-CD79-47C8-831F-D2A9E916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4DAF8-3A29-4344-8535-825FE559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969E9-C516-46E6-A6D8-139E76B0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6C5E5-6898-45CF-8556-E2C98285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0814-ED34-4577-A190-EAC290FA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BE074-8F14-4D2E-B0AF-E7908CDD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6F611-E235-48E1-B5D4-6899BFA6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4A5-5A82-4163-9316-68920DD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ED6B8-5DFF-462F-814B-A667F0C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42AAA-19FA-405D-AD9E-CCA682A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726AF-04B6-4D5B-8189-E77508BF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15182-19CF-43EC-8D17-ADA038A7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DC03-5272-431A-859F-56A4BAB2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8C2-4E2A-496D-A9AB-07670F68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B44-34A6-4950-B09D-06F16887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921-CFA3-45A2-98BD-40742C36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ED6-2BD1-40C5-9536-D76EE1F5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093-C352-4C76-8FF8-DD864BA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D21-F952-4ADF-A44E-2A69C95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E15-D41F-4BF7-9AFD-0A9D803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74D4-2E42-47B7-B7A4-0A19E63C8F9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4139-A065-42F5-8E20-CE6623D11BF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rnetadictos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476280"/>
            <a:ext cx="792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staba Jesús en el cielo, reunido con todos sus discípulos, y estaban analizando la problemática de la droga en el mundo y como esta destruía a muchas personas y familias. Pero como ellos nunca han probado, no sabían realmente lo que producía, de modo que Jesús decidió mandar a todos sus discípulos a distintas partes del mundo para que trajeran distintas clases de drogas y analizarlas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/>
          </p:cNvPr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476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Jesús paso cinco días esperando hasta que por fin y por primera vez tocaron la puert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31417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Toc-toc-t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26028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Quien es????? – Pregunto Jesú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oy 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esús abre la puerta rápidamente y le d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Que trajiste Juan???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caína de Colombia,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uy bien, pasa déjalo ah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765000"/>
            <a:ext cx="8207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l rato…. Toc-toc-t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ien es?????- Pregunta Jesú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y Pe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Jesús abre la puerta y le d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trajiste Pedro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rihuana de Jamaica, Maes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y bien Pedro, pasa y déjalo ahí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765000"/>
            <a:ext cx="7993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c-toc-t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ien es????? – Pregunta Jesú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y Mat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Jesús abre la puerta y le d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trajiste mateo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rack de New York, Mae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y bien, pasa y déjalo ahí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549360"/>
            <a:ext cx="76327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Y así sucesivamente iban llegando los discípulos y trajeron: Heroína, Anfetamina, LSD, Hachis, Pasta, Base, etc., etc., solo faltaba un discípulo. En eso se oyó la puer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oc-toc-t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404640"/>
            <a:ext cx="799128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Quien es????????? – Pregunta Jesú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Soy yo, JUD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Que trajiste Judas?????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100" spc="-1" strike="noStrike">
                <a:solidFill>
                  <a:srgbClr val="ffffff"/>
                </a:solidFill>
                <a:latin typeface="Arial"/>
              </a:rPr>
              <a:t>Al FBI Cabrones….. ¡¡¡¡¡¡¡¡TODOS CONTRA LA PARED!!!!!!!!!!. Ese de Barba es el Jefe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0360" y="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rnetadicto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20:38:27Z</dcterms:created>
  <dc:creator>Maria Jose</dc:creator>
  <dc:description/>
  <dc:language>en-US</dc:language>
  <cp:lastModifiedBy>panzher</cp:lastModifiedBy>
  <dcterms:modified xsi:type="dcterms:W3CDTF">2004-03-18T20:36:17Z</dcterms:modified>
  <cp:revision>4</cp:revision>
  <dc:subject/>
  <dc:title>Diapositiva 1</dc:title>
</cp:coreProperties>
</file>