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Kung%20Fu.wav" ContentType="audio/x-wav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899-7452-4949-9E56-2CA64F38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3396-0817-45DF-9520-780D1BFF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52E-2D6C-421F-80EF-AE17E07D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1BC2-AC1B-4732-8684-CBEAB7AA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73D3-C4DD-4C6F-8FE9-EAB35537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C6F-8B6E-47CD-B2CD-EA276EA9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4DBA-5169-4B2D-A1C1-EA8F0497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0A0-8C4B-4B53-9B62-D5B42DDE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2DC-0134-4E1D-AA54-C5FFB9C7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F68-AE62-4592-9790-47E6CA07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B122-A0E5-4210-AA64-630F115A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160-0406-4C56-8A70-7849323A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1CEB-7864-437B-A061-98EB69E45DE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Kung%20Fu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84200" y="617220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© 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</a:rPr>
              <a:t>JMascaró</a:t>
            </a: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533520"/>
            <a:ext cx="5334120" cy="21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Bookman Old Style"/>
              </a:rPr>
              <a:t>La plaza vacante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43" name="T3271" descr=""/>
          <p:cNvPicPr/>
          <p:nvPr/>
        </p:nvPicPr>
        <p:blipFill>
          <a:blip r:embed="rId1"/>
          <a:stretch/>
        </p:blipFill>
        <p:spPr>
          <a:xfrm>
            <a:off x="4267080" y="2819520"/>
            <a:ext cx="44532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18360" y="228600"/>
            <a:ext cx="30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.. masacre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4840" y="457200"/>
            <a:ext cx="340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.. terrorism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.. soledad y abandon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8880" y="5943600"/>
            <a:ext cx="486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.. fanatismo radical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escanear0019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162216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9360" y="609480"/>
            <a:ext cx="29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.. violenci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oto62afe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3967200" y="304920"/>
            <a:ext cx="50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.. hambre y pobrez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foto96afe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488920" y="152280"/>
            <a:ext cx="329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.. explotació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 menore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escanear0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90720" y="3809880"/>
            <a:ext cx="78483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..y otras cosas peore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ero yo nunca hice nada”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..responde asustad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escanear0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90720" y="3809880"/>
            <a:ext cx="78483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El demonio le vuelve a preguntar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Pero... ¿de verdad usted vi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todo lo que cuenta y no hizo nada?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escanear0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2743200"/>
            <a:ext cx="79246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i es así,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el puesto es suyo!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escanear0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15228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o quedaba sitio en el infierno y aú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abía una fila de personas esperan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ara entrar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escanear0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609480"/>
            <a:ext cx="6705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hora, el diabl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nos pregunta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Y tú...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¿quieres e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puesto vacante?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4267080"/>
            <a:ext cx="59436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Hay un poema de Bertold Bretch que nos habla de e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“</a:t>
            </a:r>
            <a:r>
              <a:rPr b="1" lang="es-E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no hacer o decir nada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T3348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3353040" cy="33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5334120"/>
            <a:ext cx="8915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Primero cogieron a los comunistas, y y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no dije nada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 porqu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yo no era un comunista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escanear0008" descr=""/>
          <p:cNvPicPr/>
          <p:nvPr/>
        </p:nvPicPr>
        <p:blipFill>
          <a:blip r:embed="rId1"/>
          <a:stretch/>
        </p:blipFill>
        <p:spPr>
          <a:xfrm>
            <a:off x="1874880" y="479520"/>
            <a:ext cx="4983120" cy="47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162920" cy="5029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5334120"/>
            <a:ext cx="79246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Luego se llevaron a los judí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y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no dije nada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 porqu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yo no era un judío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4876920"/>
            <a:ext cx="883944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Luego vinieron por los obreros, y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no dije nada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porqu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no era ni obrero ni sindicalista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rgentina-miseria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705360" cy="40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5105520"/>
            <a:ext cx="86104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Luego se llevaron a unos sacerdot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y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no dije nada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 porqu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yo no era religioso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sacerdote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67057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5334120"/>
            <a:ext cx="6858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Y cuando finalmente vinieron por mí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no quedaba nadie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para protest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24816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tre las frases célebres de Mahatma Gandh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e encuentra la siguien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“</a:t>
            </a:r>
            <a:r>
              <a:rPr b="1" i="1" lang="es-E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Lo más atroz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de las cosas ma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i="1" lang="es-E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de la gente mala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i="1" lang="es-E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es el silencio de la gente buena”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escanear0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228600"/>
            <a:ext cx="8077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le el demonio y di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stá todo lleno, queda un solo sitio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2819520"/>
            <a:ext cx="2666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¿Quién 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l pe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 todo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os qu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speran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scanear0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457200"/>
            <a:ext cx="8686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mo nadie contestaba, se dirigió a un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y le preguntó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Vd.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¿qué ha hecho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scanear0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45720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¿Yoooo?...  “Nada”......, respondió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53341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¿Cómo, nada?”, preguntó el demon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escanear0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76520" y="228600"/>
            <a:ext cx="53337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Sí, nada”...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La verdad es qu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a lo largo de mi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he asistido a much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barbaridade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251460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.. guerra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4572000" cy="3733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062080" y="990720"/>
            <a:ext cx="520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... desastres naturale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3124080"/>
            <a:ext cx="4572000" cy="3733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041360" y="533520"/>
            <a:ext cx="33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.. genocidio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8:56:03Z</dcterms:created>
  <dc:creator>Mascaro</dc:creator>
  <dc:description/>
  <dc:language>en-US</dc:language>
  <cp:lastModifiedBy>DOI</cp:lastModifiedBy>
  <dcterms:modified xsi:type="dcterms:W3CDTF">2007-03-30T14:09:00Z</dcterms:modified>
  <cp:revision>34</cp:revision>
  <dc:subject/>
  <dc:title>Presentación de PowerPoint</dc:title>
</cp:coreProperties>
</file>