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Kung%20Fu.wav" ContentType="audio/x-wav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2FD-CD8E-4D17-B960-E47989FB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6C8-5738-4D0F-A2A6-E0B47C02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B83-BF3F-4269-B3D7-B19FEA2E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7DC-C011-413B-8535-85698749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BCC-804C-4685-A49B-71B523F8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7DF-A417-4FB9-A10C-737A735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D77-525D-4876-A689-0B2A166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794-0158-40CB-81AB-7B41F6BE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744-02B6-485E-86B4-C8B081CD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7FE-C27C-4ABB-AC25-DDCA9DDE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B92-1A28-4C8F-961D-DDC7F661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41F-43FE-45B0-8396-6DE621A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0897-114A-435F-B4C5-06E75ED8C7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Kung%20F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4200" y="617220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© 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</a:rPr>
              <a:t>JMascaró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533520"/>
            <a:ext cx="5334120" cy="21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Bookman Old Style"/>
              </a:rPr>
              <a:t>La plaza vacante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3" name="T3271" descr=""/>
          <p:cNvPicPr/>
          <p:nvPr/>
        </p:nvPicPr>
        <p:blipFill>
          <a:blip r:embed="rId1"/>
          <a:stretch/>
        </p:blipFill>
        <p:spPr>
          <a:xfrm>
            <a:off x="4267080" y="2819520"/>
            <a:ext cx="44532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18360" y="228600"/>
            <a:ext cx="30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masacr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4840" y="457200"/>
            <a:ext cx="340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terrorism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soledad y abandon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8880" y="5943600"/>
            <a:ext cx="486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fanatismo radical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scanear0019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162216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9360" y="609480"/>
            <a:ext cx="29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violenci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oto62af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967200" y="304920"/>
            <a:ext cx="50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hambre y pobrez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oto96af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88920" y="152280"/>
            <a:ext cx="329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explota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 menor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3809880"/>
            <a:ext cx="7848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y otras cosas peore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ero yo nunca hice nada”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responde asusta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3809880"/>
            <a:ext cx="7848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El demonio le vuelve a preguntar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Pero... ¿de verdad usted vi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todo lo que cuenta y no hizo nada?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2743200"/>
            <a:ext cx="7924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i es así,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l puesto es suyo!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1522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 quedaba sitio en el infierno y aú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abía una fila de personas espera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ara entra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609480"/>
            <a:ext cx="6705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hora, el diabl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nos pregunta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 tú...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¿quieres e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uesto vacante?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4267080"/>
            <a:ext cx="5943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Hay un poema de Bertold Bretch que nos habla de 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“</a:t>
            </a:r>
            <a:r>
              <a:rPr b="1" lang="es-E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no hacer o decir nad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3348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35304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5334120"/>
            <a:ext cx="8915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Primero cogieron a los comunistas, y 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no dije nad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porqu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yo no era un comunist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escanear0008" descr=""/>
          <p:cNvPicPr/>
          <p:nvPr/>
        </p:nvPicPr>
        <p:blipFill>
          <a:blip r:embed="rId1"/>
          <a:stretch/>
        </p:blipFill>
        <p:spPr>
          <a:xfrm>
            <a:off x="1874880" y="479520"/>
            <a:ext cx="498312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16292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5334120"/>
            <a:ext cx="79246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Luego se llevaron a los judí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y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no dije nad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porqu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yo no era un judío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4876920"/>
            <a:ext cx="883944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Luego vinieron por los obreros, y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no dije nad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porqu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 era ni obrero ni sindicalist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rgentina-miseria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0536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5105520"/>
            <a:ext cx="86104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Luego se llevaron a unos sacerdot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y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no dije nada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porqu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yo no era religioso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acerdote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7057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5334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Y cuando finalmente vinieron por mí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no quedaba nadi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para prote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las frases célebres de Mahatma Gandh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e encuentra la siguien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“</a:t>
            </a: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Lo más atroz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de las cosas ma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de la gente mal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i="1" lang="es-E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es el silencio de la gente buena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228600"/>
            <a:ext cx="8077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le el demonio y di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stá todo lleno, queda un solo siti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81952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¿Quién 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l pe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 tod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s qu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esperan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5720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mo nadie contestaba, se dirigió a u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y le preguntó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d.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¿qué ha hecho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¿Yoooo?...  “Nada”......, respondi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53341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¿Cómo, nada?”, preguntó el demon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scanear0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228600"/>
            <a:ext cx="53337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í, nada”...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La verdad es qu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a lo largo de mi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he asistido a much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</a:rPr>
              <a:t>barbaridad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251460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guerra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572000" cy="3733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62080" y="990720"/>
            <a:ext cx="52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... desastres natural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124080"/>
            <a:ext cx="4572000" cy="373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41360" y="533520"/>
            <a:ext cx="33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.. genocidi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8:56:03Z</dcterms:created>
  <dc:creator>Mascaro</dc:creator>
  <dc:description/>
  <dc:language>en-US</dc:language>
  <cp:lastModifiedBy>DOI</cp:lastModifiedBy>
  <dcterms:modified xsi:type="dcterms:W3CDTF">2007-03-30T14:09:00Z</dcterms:modified>
  <cp:revision>34</cp:revision>
  <dc:subject/>
  <dc:title>Presentación de PowerPoint</dc:title>
</cp:coreProperties>
</file>