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suite%20bergamasque%20-%20debussy%20-%20opera%20chillout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342-A643-4BCC-AA65-CFD303B5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4B4-1077-42BD-BE8E-158EBCEF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9A1EF-EB2B-4412-B5CC-B9245F70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DEA3A-B1DB-4CF6-A5A4-1517C81F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F82E1-499D-4550-84EA-1F23AEB3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0DF38-8C80-4F4B-A0E3-02D960C3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CBEF5-C06D-4371-85F6-211CDF6C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B552A-DA9E-4CF5-AB59-0D041E19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BDA49-FD6B-417E-A973-9E284589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A9B62-F9F1-47CF-8FD1-E6C6B5D2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F5E46-DA1F-4AA5-8452-DC57DF66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383DB-B59F-4660-9187-95B10FCA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7123-63C7-475E-9325-BFA16D2E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819D9-AEBC-4EB0-91FA-BC9E2705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BF096-F7BB-483F-B656-01DFDBD5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A9953-4F60-4991-90BB-FE522AE7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E18F9-A804-458C-9D20-EB12C8BF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1F172-B1DB-4884-A30E-152EDF18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4C102-FEFD-48C8-AFD5-7BCE328F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FBCFD-4876-48E4-9AF8-D933C376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82843-08EF-48F0-A626-F6EF7C56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C6A73-5155-4781-9A60-F63223A9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D43AB-B226-4E94-91AD-423E14C2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EEB7-1CF5-4CD9-BB87-6C216C9B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A345D-299B-4806-951E-8C89B3AA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C947D-4F07-46C8-918E-B6948026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30AF1-6E64-404E-A207-067D8A8E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94A97-21D7-4F94-AF4B-2E3279C2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A928A-14AF-44FA-9985-9F086897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493E7-EAC3-495E-AC26-A9933A01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FCE2E-7759-4D20-9AC1-2ECF9206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B68B7-0D65-4838-98C0-027553D3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6A9CA-EC83-4590-B512-51463867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E5987-9626-4C4B-A02E-77429E46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CBEC-EE1D-47B4-9CF6-1843D414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DC0A5-EB84-4A92-A498-18649345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71070-B937-4135-8C7C-17B1720B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1ECB4-6C04-4775-8566-439B093C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06429-9B75-4218-BD03-83E4A3E3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5F142-D38E-4A82-BEE0-848D704C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994D2-5AC3-4B25-805D-9B03F5B3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EFFDE-C6D2-4E1B-BD99-B0C9DC44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EE714-EE87-43CF-B719-D6A5122F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9DE46-6B51-4763-87E2-A7627B96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1A833-252A-4C97-9CE1-591FB719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CD59-05D2-4C6B-B63B-40525744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54469-5B88-4BA7-8749-76EF29D1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63F30-071B-470E-B99E-53476993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26531-674F-43E5-BE26-CEABD6ED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FAFCD-5D9A-4622-AE5E-BDB9C292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D49C8-0881-466A-82D9-3A3C0039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2292-683D-484A-A1FB-83C19193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CB19-C3D3-491C-A621-9DEEDE6F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4C4F-0A03-4C3B-BB6B-A035ED91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BDE7-350E-4DCC-B8E3-F2D14E1C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30F4-33BA-43F3-BB94-319EFCC3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969-10D6-484C-87E7-626F0702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6F93-744C-468B-91D7-9DF6D93D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30A2-878A-48C7-B1A5-77FD98D4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677E-94C0-47E5-916A-A89C4EBC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9B90-FB6D-4401-BB42-ACF1B3B3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A68C-A850-4D49-AFA8-4CA87C31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53F04-622F-476B-8D59-687F2763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3E1D7-E908-42A8-93AF-6DAD5835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ED3EC-FAC1-4E9A-9314-2C775AE4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3B6BA-8D6E-47B1-B857-6945A8B1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F4417-625A-4745-9135-D1B4A1D7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AB23-B3BE-47E4-A560-F1B8AB46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646AD-F63F-4AF7-BC64-5A258788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1A039-6E33-4DD1-BB4B-BE55FBDA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6794B-BFE8-4F65-870A-44B7BDB4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CC9FB-1534-4E69-A821-FBD49655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311BC-C410-4341-90B4-4D95FC86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4C97F-BCF2-4F5B-AABD-D5681903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7C930-9FC5-40A6-8D8E-5CFEC789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121EB-4A64-45F9-B2F8-B537A960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5D7C8-DD72-4378-A8C7-B5B7D35A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ED9E1-63FE-4DBA-B0D1-51B99E5F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84E-33E6-430F-A9A1-1032BCCD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6D986-EDF5-4D76-AFBE-F6E8A5D4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D79FF-1587-41CA-AE58-899A23CB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F40AA-9DC8-4610-AC6A-3A751202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8C8CD-91E1-4C1D-A3FC-5F860AE8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97CC1-7D8D-4CD4-9CA7-6A0E1954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654F5-D9A3-4EE7-BE8B-DD84AE80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2DDB4-ACD3-46DA-AFBC-7EEE855F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8A7CE-08CE-4A88-BF5C-DF676B68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339DD-B503-45AE-BEB0-86C14E96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CF6BB-EAFA-4095-9E49-D3337FD5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6996-AF25-4686-8DAF-A0E8FB5D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04589-8601-4577-8D55-F7358C28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1D07B-B536-484E-8D55-187B68AC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F8C3A-5A02-41C1-AA20-DFFFBA03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AE0EE-55A3-4713-AFE2-267FA9DD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34C09-9B95-4F10-B91C-51C0922B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4FAD6-EA30-4AA4-8D87-A08353D2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754EE-5B32-492B-B492-5608D52F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73486-8C16-4B5B-A62D-9F6D8681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C70CA-170D-4DD8-BD3B-0259A61C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2650B-05D9-4729-B689-7BC184F7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581-2B98-41B5-B073-DC5DDE33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9D41E-8308-4069-BC13-3BB0409C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923A7-B51F-4CC4-9DD9-F685F9AE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16329-58FB-48DE-BBF2-12A42C8D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CCB5E-D2B0-422A-8C5A-F9B51E4A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FB54B-BA4F-4C2B-96DD-B3E2D4D8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A53B4-6268-4EBD-A1C1-BAE99180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75CDA-A379-4FAA-8BF0-3817A9F4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6129C-EA64-4212-8EF1-8A5F9461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21C3A-56D4-4AAA-A879-0091C5DB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07D06-27BA-48BD-86CE-E2F25928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16D-9053-4515-8134-60529571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C4140-B28E-44B2-98EF-78DC59F2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FB6BB-4D4E-48A3-9700-51022011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B34F3-0D11-4F48-9E5B-8EE5CB16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26552-9D91-4E38-8644-75E5A584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09FD2-42AC-4E99-9DF0-A035E35F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A35E0-E874-42A9-A83A-275FB82F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D0700-0465-4478-8823-17BEDF46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710F2-C0FB-41C5-8CC5-63AF0BB5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D8E71-45AE-4A62-98AA-26EE6EDE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4B09C-2CE9-430A-BDBF-20EAE674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57A0-DC46-4EBF-9AFC-94692DAA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B3EF0-24D4-4E7C-B43F-10C281E5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C9953-23A0-4272-8CD4-E2C9E3B9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F3463-26CF-4302-BDA5-71F83247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2DB30-5CCE-4CDC-AD92-AE90128C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78CD1-0BB9-43E6-8A53-A6A44AAD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0D286-2ED9-45C9-A6AE-CAA4BBDC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80B69-CD19-45CF-B37B-79D70A5C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C1124-E460-4D7D-9047-27FD429A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FC248-F7BD-472A-9864-99103EA9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98799-22AB-459B-B34E-C05143DB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28A-854D-4197-A505-FC52F605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C3800-D9A5-432C-A8DE-0CF83C71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8997C-AB0D-4A43-A2A2-45737DBB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4427F-B1CE-405A-823E-6DFE92BD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07628-9133-4C21-9701-F0AE7ED5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78340-A92B-4B10-9763-D90B1E3D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823B9-241D-4B63-9FF8-F3243E95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DA953-36A0-451A-A4E6-F3FA0A7F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28F97-5446-4941-83CE-57E4D29C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5F88E-6B5A-4E4B-9BBA-986B9AC2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E8FA4-F9DA-45C3-9E39-E666516A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F279-97C9-4BE0-A1EF-B77D6E8C2632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2D79-CAC9-4199-A552-54751A2B5632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4DD0-8888-498B-B116-C1DFA2CB79CD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9847-382C-4CEA-97CC-C03D95178736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8B3C-EC5B-4D55-8DD1-7B19A1DE991D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9C9A-5771-43C5-9D15-9A5A100EEDE0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731D-1AB2-45A7-9391-D8228704C881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E752-F2C5-4DD6-B35D-1B826AC390FE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1A87-EF79-4855-BF9A-A0780BA8A5F2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F930-7677-423E-8126-BFCDD3BD4D68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2871-FF58-438B-8263-163E7BD19649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DB12-9900-4462-90FA-8BE7B8EA1FDC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suite%20bergamasque%20-%20debussy%20-%20opera%20chillout.wav"/><Relationship Id="rId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pic>
        <p:nvPicPr>
          <p:cNvPr id="493" name="2 Rectángulo" descr=""/>
          <p:cNvPicPr/>
          <p:nvPr/>
        </p:nvPicPr>
        <p:blipFill>
          <a:blip r:embed="rId2"/>
          <a:stretch/>
        </p:blipFill>
        <p:spPr>
          <a:xfrm>
            <a:off x="109440" y="938160"/>
            <a:ext cx="5029200" cy="3127320"/>
          </a:xfrm>
          <a:prstGeom prst="rect">
            <a:avLst/>
          </a:prstGeom>
          <a:ln w="0">
            <a:noFill/>
          </a:ln>
        </p:spPr>
      </p:pic>
      <p:pic>
        <p:nvPicPr>
          <p:cNvPr id="494" name="3 Rectángulo" descr=""/>
          <p:cNvPicPr/>
          <p:nvPr/>
        </p:nvPicPr>
        <p:blipFill>
          <a:blip r:embed="rId3"/>
          <a:stretch/>
        </p:blipFill>
        <p:spPr>
          <a:xfrm>
            <a:off x="420840" y="4133880"/>
            <a:ext cx="4419360" cy="1273320"/>
          </a:xfrm>
          <a:prstGeom prst="rect">
            <a:avLst/>
          </a:prstGeom>
          <a:ln w="0">
            <a:noFill/>
          </a:ln>
        </p:spPr>
      </p:pic>
      <p:sp>
        <p:nvSpPr>
          <p:cNvPr id="495" name="4 Botón de acción: Hacia delante o Siguiente">
            <a:hlinkClick r:id="" action="ppaction://hlinkshowjump?jump=nextslide"/>
          </p:cNvPr>
          <p:cNvSpPr/>
          <p:nvPr/>
        </p:nvSpPr>
        <p:spPr>
          <a:xfrm>
            <a:off x="1963800" y="6357960"/>
            <a:ext cx="1428840" cy="214200"/>
          </a:xfrm>
          <a:custGeom>
            <a:avLst/>
            <a:gdLst>
              <a:gd name="textAreaLeft" fmla="*/ 13680 w 1428840"/>
              <a:gd name="textAreaRight" fmla="*/ 1415160 w 1428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143879" h="21600">
                <a:moveTo>
                  <a:pt x="0" y="0"/>
                </a:moveTo>
                <a:lnTo>
                  <a:pt x="143879" y="0"/>
                </a:lnTo>
                <a:lnTo>
                  <a:pt x="143879" y="21600"/>
                </a:lnTo>
                <a:lnTo>
                  <a:pt x="0" y="21600"/>
                </a:lnTo>
                <a:close/>
              </a:path>
              <a:path fill="lightenLess" w="143879" h="21600">
                <a:moveTo>
                  <a:pt x="0" y="0"/>
                </a:moveTo>
                <a:lnTo>
                  <a:pt x="143879" y="0"/>
                </a:lnTo>
                <a:lnTo>
                  <a:pt x="142479" y="1400"/>
                </a:lnTo>
                <a:lnTo>
                  <a:pt x="1400" y="1400"/>
                </a:lnTo>
                <a:close/>
              </a:path>
              <a:path fill="darken" w="143879" h="21600">
                <a:moveTo>
                  <a:pt x="143879" y="0"/>
                </a:moveTo>
                <a:lnTo>
                  <a:pt x="143879" y="21600"/>
                </a:lnTo>
                <a:lnTo>
                  <a:pt x="142479" y="20200"/>
                </a:lnTo>
                <a:lnTo>
                  <a:pt x="142479" y="1400"/>
                </a:lnTo>
                <a:close/>
              </a:path>
              <a:path fill="darkenLess" w="143879" h="21600">
                <a:moveTo>
                  <a:pt x="143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479" y="20200"/>
                </a:lnTo>
                <a:close/>
              </a:path>
              <a:path fill="lighten" w="143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3879" h="21600">
                <a:moveTo>
                  <a:pt x="64933" y="3794"/>
                </a:moveTo>
                <a:lnTo>
                  <a:pt x="78946" y="10800"/>
                </a:lnTo>
                <a:lnTo>
                  <a:pt x="64933" y="17806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5 CuadroTexto"/>
          <p:cNvSpPr/>
          <p:nvPr/>
        </p:nvSpPr>
        <p:spPr>
          <a:xfrm>
            <a:off x="357120" y="6572160"/>
            <a:ext cx="464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Verdana"/>
              </a:rPr>
              <a:t>AVANZAR CON EL M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22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3 CuadroTexto"/>
          <p:cNvSpPr/>
          <p:nvPr/>
        </p:nvSpPr>
        <p:spPr>
          <a:xfrm>
            <a:off x="857160" y="2397240"/>
            <a:ext cx="2857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Si un ciego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con perro guía llegara a solicitarte ayuda, acercate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por el lado derecho,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de modo que yo quede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a la izquier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25" name="10 Llamada rectangular redondeada"/>
          <p:cNvSpPr/>
          <p:nvPr/>
        </p:nvSpPr>
        <p:spPr>
          <a:xfrm>
            <a:off x="573120" y="1571760"/>
            <a:ext cx="357192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3 CuadroTexto"/>
          <p:cNvSpPr/>
          <p:nvPr/>
        </p:nvSpPr>
        <p:spPr>
          <a:xfrm>
            <a:off x="857160" y="2286000"/>
            <a:ext cx="3000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Me ordenará entonces que te siga, o bien te pedirá que le ofrezcas tu codo izquierdo.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En tal caso me hará una seña para indicarme que estoy temporalmente fuera de servi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28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3 CuadroTexto"/>
          <p:cNvSpPr/>
          <p:nvPr/>
        </p:nvSpPr>
        <p:spPr>
          <a:xfrm>
            <a:off x="928800" y="2263680"/>
            <a:ext cx="29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Si un ciego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con perro guía te pregunta direcciones,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dale indicaciones claras del sentido en que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debe girar o seguir para ubicar el lugar al cual se diri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31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3 CuadroTexto"/>
          <p:cNvSpPr/>
          <p:nvPr/>
        </p:nvSpPr>
        <p:spPr>
          <a:xfrm>
            <a:off x="928800" y="1857240"/>
            <a:ext cx="2857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No corras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ni tomes del brazo a una persona ciega en compañía de un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perro guía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sin antes hablarle. Tampoco toques mi arnés, ya que el mismo es sólo para el amo ciego a quien acomp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34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3 CuadroTexto"/>
          <p:cNvSpPr/>
          <p:nvPr/>
        </p:nvSpPr>
        <p:spPr>
          <a:xfrm>
            <a:off x="857160" y="2500200"/>
            <a:ext cx="292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Los perros guía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tenemos lugares y horarios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predeterminados para evacuar nuestros esfínt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37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3 CuadroTexto"/>
          <p:cNvSpPr/>
          <p:nvPr/>
        </p:nvSpPr>
        <p:spPr>
          <a:xfrm>
            <a:off x="928800" y="2000160"/>
            <a:ext cx="285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Yo, como perro guía, estoy habituado para viajar en todo medio de transporte echado a los pies de mi amo ciego sin causar molestias a los pasajeros, tanto dentro como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fuera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40" name="3 Rectángulo"/>
          <p:cNvSpPr/>
          <p:nvPr/>
        </p:nvSpPr>
        <p:spPr>
          <a:xfrm>
            <a:off x="714240" y="428760"/>
            <a:ext cx="3571920" cy="6143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4 CuadroTexto"/>
          <p:cNvSpPr/>
          <p:nvPr/>
        </p:nvSpPr>
        <p:spPr>
          <a:xfrm>
            <a:off x="857160" y="789120"/>
            <a:ext cx="3143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En virtud de su riguroso entrenamiento,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los perros guía están habituados y capacitados para acceder y permanecer junto a sus respectivos amos en todo tipo de establecimientos, tanto de salud como en centros comerciales, restaurantes,  supermercados, cafeterías, cines, teatros, centros de estudio o trabajo, etc., sin causar alteración al normal funcionamiento de los mismos ni molestias al personal o al públ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43" name="3 Rectángulo"/>
          <p:cNvSpPr/>
          <p:nvPr/>
        </p:nvSpPr>
        <p:spPr>
          <a:xfrm>
            <a:off x="714240" y="428760"/>
            <a:ext cx="3571920" cy="6143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4 CuadroTexto"/>
          <p:cNvSpPr/>
          <p:nvPr/>
        </p:nvSpPr>
        <p:spPr>
          <a:xfrm>
            <a:off x="857160" y="1057320"/>
            <a:ext cx="3286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En los lugares de trabajo,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los usuarios de perros guía se encuentran capacitados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para ejercer sus funciones con ellos a su lado.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 Acorde al entrenamiento que reciben,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los perros guía nunca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vagan a su arbitrio por los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recintos, sino que permanecen echados a los pies de su amo ci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Los perros guía tienen el mismo derecho que estos para gozar de libre acceso a todos los lugares públ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46" name="4 Llamada rectangular redondeada"/>
          <p:cNvSpPr/>
          <p:nvPr/>
        </p:nvSpPr>
        <p:spPr>
          <a:xfrm>
            <a:off x="642960" y="1643040"/>
            <a:ext cx="357192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¿Me ayudas </a:t>
            </a:r>
            <a:br>
              <a:rPr sz="4000"/>
            </a:b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a difundir todo es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http://www.brisbanepowerhouse.org/generated/images/guide-images-powerkidz-guide-dogs-qld_w800_h600_fit.jpg"/>
          <p:cNvPicPr/>
          <p:nvPr/>
        </p:nvPicPr>
        <p:blipFill>
          <a:blip r:embed="rId1"/>
          <a:srcRect l="0" t="0" r="29823" b="57902"/>
          <a:stretch/>
        </p:blipFill>
        <p:spPr>
          <a:xfrm>
            <a:off x="1428840" y="0"/>
            <a:ext cx="764388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3 Llamada rectangular redondeada"/>
          <p:cNvSpPr/>
          <p:nvPr/>
        </p:nvSpPr>
        <p:spPr>
          <a:xfrm>
            <a:off x="357120" y="3571920"/>
            <a:ext cx="2786040" cy="2928960"/>
          </a:xfrm>
          <a:prstGeom prst="wedgeRoundRectCallout">
            <a:avLst>
              <a:gd name="adj1" fmla="val 67092"/>
              <a:gd name="adj2" fmla="val -18569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¡Gracias, amigo mí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498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4 CuadroTexto"/>
          <p:cNvSpPr/>
          <p:nvPr/>
        </p:nvSpPr>
        <p:spPr>
          <a:xfrm>
            <a:off x="928800" y="2397240"/>
            <a:ext cx="2714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¡Hola!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Soy un perro guía y quiero enseñarte cómo debes actuar cuando te encuentres conmigo en compañía de mi amo ci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01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3 CuadroTexto"/>
          <p:cNvSpPr/>
          <p:nvPr/>
        </p:nvSpPr>
        <p:spPr>
          <a:xfrm>
            <a:off x="857160" y="2397240"/>
            <a:ext cx="292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Antes que nada,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déjame decirte que soy un perro de trabajo,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no una mascota. 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Cuanto más me ignores, mejor será para mi amo y para m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04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3 CuadroTexto"/>
          <p:cNvSpPr/>
          <p:nvPr/>
        </p:nvSpPr>
        <p:spPr>
          <a:xfrm>
            <a:off x="714240" y="2263680"/>
            <a:ext cx="328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Mi comportamiento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y mi trato son totalmente diferentes a los de otros perros y debo ser respetado en mi doble función de guía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y fiel compañero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de mi amo ci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07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3 CuadroTexto"/>
          <p:cNvSpPr/>
          <p:nvPr/>
        </p:nvSpPr>
        <p:spPr>
          <a:xfrm>
            <a:off x="785880" y="2143080"/>
            <a:ext cx="32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Por favor,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no me toques ni me acaricies cuando me encuentre trabajando,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o sea cuando me veas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con el arnés puesto.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Si lo haces me puedo distraer y yo no debo fallar jam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10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3 CuadroTexto"/>
          <p:cNvSpPr/>
          <p:nvPr/>
        </p:nvSpPr>
        <p:spPr>
          <a:xfrm>
            <a:off x="642960" y="2263680"/>
            <a:ext cx="3357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Lo más adecuado, entonces, es ignorarme. ¡Pero no por ello vayas a sentir temor alguno!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Los perros guía estamos adiestrados y nunca seríamos capaces de hacerte daño sin mo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13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3 CuadroTexto"/>
          <p:cNvSpPr/>
          <p:nvPr/>
        </p:nvSpPr>
        <p:spPr>
          <a:xfrm>
            <a:off x="1000080" y="2128680"/>
            <a:ext cx="2786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Eso sí.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Si traes contigo a otro perro, por favor contrólalo para evitar que llegue a producirse algún accidente cuando pase a mi lado o al lado de mi amo ci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16" name="10 Llamada rectangular redondeada"/>
          <p:cNvSpPr/>
          <p:nvPr/>
        </p:nvSpPr>
        <p:spPr>
          <a:xfrm>
            <a:off x="539640" y="1557360"/>
            <a:ext cx="357192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3 CuadroTexto"/>
          <p:cNvSpPr/>
          <p:nvPr/>
        </p:nvSpPr>
        <p:spPr>
          <a:xfrm>
            <a:off x="785880" y="221472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Por favor, no me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ofrezcas golosinas ni alimentos: mi amo ciego ya se encarga de ello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con esmero.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Estoy bien alimentado y tengo un horario prefijado para ir a c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19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3 CuadroTexto"/>
          <p:cNvSpPr/>
          <p:nvPr/>
        </p:nvSpPr>
        <p:spPr>
          <a:xfrm>
            <a:off x="857160" y="2571840"/>
            <a:ext cx="307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Cuando te dirijas a una persona ciega que se acompaña por un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 perro guía como yo, háblale directamente a él y no a m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21:52:04Z</dcterms:created>
  <dc:creator>User</dc:creator>
  <dc:description/>
  <dc:language>en-US</dc:language>
  <cp:lastModifiedBy>biran</cp:lastModifiedBy>
  <dcterms:modified xsi:type="dcterms:W3CDTF">2009-05-26T11:33:00Z</dcterms:modified>
  <cp:revision>33</cp:revision>
  <dc:subject/>
  <dc:title>Diapositiva 1</dc:title>
</cp:coreProperties>
</file>