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suite%20bergamasque%20-%20debussy%20-%20opera%20chillout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09E0-C0B3-46DE-AF58-704FFC52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FBB-433A-4851-BC27-687700ED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E0ED0-FF15-4CC9-BC53-DB5497E9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0BD8F-B8BE-4FFE-B17C-E5BA88B0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7EB35-7B40-4140-B893-04EA0E38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5A8E4-109A-42E2-B673-7D73D0FB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259A2-1EA2-4153-B538-543EF3CA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62763-B3BD-4E0A-94BF-CC225349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421D3-DE9D-495D-B1B1-B2B2A2E9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CB069-842E-4C1E-96FF-F0A66449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6973A-777D-4E81-AF1F-1DD7C642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AEE72-2760-4C2A-80A0-C63B36C6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C5F-99CA-4A31-9BA2-22296A96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A1E78-C101-4592-A36F-90728F1B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4CE2F-21F6-4C36-BD3F-C2389401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D5DE3-99C0-4CB5-8947-1430847E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E1E00-6FFA-4FFA-ABE9-652B6DD2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38612-3EBD-4D6C-806C-D3333EE4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6D9E5-0A71-479B-81E3-CEFF8183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BB714-CB55-4D6D-8824-112489C0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54431-E5D0-43F8-9D8D-C66846C7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BF616-B88F-4DCC-8CEA-AB03B329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6C0AE-0B7A-4F1C-8279-1C505259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B1D-C19A-4654-B8E5-05556217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4F491-97B6-4933-99F2-2927948B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2AE77-5EF6-4B61-AFF2-7B42461C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66D50-86F5-44CD-AA0C-737A9EAE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98536-7D26-4485-8A63-18625DDA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400B4-8DE5-4136-A233-894FEBF1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6D581-23BE-4842-8B1D-998E5AE7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6A517-699A-40B3-B218-0C705928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5DDE7-4624-4E2B-9D62-6E0A988D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B9E0D-0539-4637-AAEE-FEC944A2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72D27-FBD8-419B-BEF3-68523D52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4E62-48F4-44BD-B890-8EF88E56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45C8A-9E35-4050-9D99-6CA4D59F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9398B-F089-4D4F-B07B-93F91F94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8C065-20F5-40F5-8986-AB4C5917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909C2-16E1-413D-BAFB-9D89FBE1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E6828-49A3-4DFD-ACEA-A5A4D5C1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44F7A-75D0-4488-91AA-7289BB87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E773D-1038-4B42-A5AB-2E57A516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DD678-D516-4279-8EAC-4D259D2E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30FC8-7AB0-4F84-B3A9-A2013285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60487-61A0-4C89-BED3-8E3B2164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766A-575C-4422-86C1-EC86BBE3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AEDED-EBFB-49B6-BB7A-ACAF8F65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7F411-0AD7-417B-AFAC-F4192987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1BB9C-BF96-4B57-A062-2E262125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5576E-AD1C-4BF3-8753-B40EEFA3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1AF1F-7419-4638-8AA3-B78E6154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081C-B3B7-493B-BCF7-E269D418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7537-D89E-4113-AA65-ADEF6DBB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5CEA-5BA3-403E-B515-579FC4D7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D408-68A5-4307-B534-64D8E437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4CAB-2F98-4D15-8B60-E16B4C72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3C3-64A6-4D2E-8232-98ED604F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BE01-121C-4ACB-BD2F-55DB2E5A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2C2D-5CD3-4E99-AD0B-81F214A9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3D9D-F4D8-4A9B-B13A-38DCF72F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3007-99A5-4A8B-9F2C-D1A64C7E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5370-4E27-48B1-BBD6-A46994EB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DC018-40F2-4D5C-A512-EB80B3A5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9D619-CAF8-471F-BCBE-CA694EE7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4C839-1B59-4E88-B58B-F88171D3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93BE0-66C2-408C-9853-72E01CE1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7C92C-6756-404B-8944-0988B623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FEC2-BE45-4A9D-AEE3-4D554DAA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46526-63EC-418F-B9B0-42AD5E6F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6D148-9BF5-46BF-AC8A-BF5A569A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89031-9F4B-4F8E-979A-1F01F56A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0DB91-BF52-45E5-8808-C1B8DFAD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26F99-ED71-4BCA-B3B0-4B38BD20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0D40F-0332-4B41-852C-FDF39269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B0543-7A84-449E-81AD-FB0E492E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5A509-C278-4032-AB70-9B91E0E5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7DE80-4AD7-4247-92E0-88A7B134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3D065-4F66-4999-B2FB-89A1D525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F43D-D8F3-4D1B-8F39-972FA7E1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19A49-B7F0-413C-8EF5-D55F4B4C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22341-913B-41C9-8240-6256E22B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0120C-3A9F-4F8F-8D76-57B9CCD1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FD7EB-EDF5-4A9F-B535-058593DF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1BB60-0933-47C2-B362-2C093BE1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1F377-3EFD-4C8C-BA6A-E099741F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4EB52-FB54-4A48-9082-7D189A3A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FA8EA-6E24-4EC1-85DA-D81F6708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D5D49-D3AA-43D8-AF0D-ADBF4623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CE6A2-36FF-4B33-939C-F6415E85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44F-04D5-4DC6-BEDA-BB801FCC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92E4E-814E-4949-A503-CC0856C1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48C24-2109-48C1-9EF9-FB0B4C82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6A539-231E-408C-B832-18E9CFC6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34B65-9F8A-4229-BEE4-1CFD970C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1B9CE-7240-4417-BDAF-3258E506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3939F-97B8-4FB2-932B-65C603BF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37AE0-24F9-4D0D-ADBA-41258394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B4905-AB6E-44D0-8120-2A7E305B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8B046-65EC-4630-982D-1F5D441B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8E22D-EBDF-4450-AC8D-0493CF33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713-9C60-43FF-92F1-71AC7FAB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A12A1-EFB2-4966-84C2-B3BA0076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4EAB8-A367-4CC9-ABC6-CDA4CC25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AC1FF-491C-4EF3-B00F-A3B22669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8A9FA-7B87-4034-8105-381BAB0C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6C205-854A-44A6-AA13-7B15D0DC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67C64-329E-4575-B660-717946F8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3D2CC-F3D4-4597-B219-974333B3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3D766-C98C-49DE-8568-AD83ABE4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151AA-D492-4E27-A43C-53F38908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A20BF-DC7E-4BFA-BABD-3F63BD76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9F5-E6BD-4116-997E-8E03607D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14DC5-CCAC-437A-8CB4-739C13C4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7F320-CA98-4F2D-B607-5800D3FF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725C8-6D5B-4B3B-BA8C-A86E9F47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FA7A5-5A46-43F6-8E39-96C108ED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820FD-0AD2-47BE-A6DF-DEA25346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79ED5-9E50-4293-93BC-9B3B6FA4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2FD79-DE8F-4C02-8F9B-6838778C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2947F-4002-4FB8-BCFB-049712AF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0184F-2EE3-482A-A3C9-FEDDEA45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ABECA-8171-4968-ACDB-53A76630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D62-54C6-488E-9067-C20114CB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C792B-06DB-4B48-ADDA-6F4314AE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84AEA-1575-4D2F-AA34-DCECC8CA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6BEB3-7E69-4056-81DD-450D8F44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480EE-F3D3-4A30-9C26-BC5ECB67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6C343-0FDD-42EC-8FDD-10E9E03F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97821-5BEC-4C42-84C7-6022B69B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BEC37-6E30-42EA-9461-5ECCAB6D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22E18-88A6-42F1-A957-3B6F2694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3870C-4E44-4764-B9A0-7E281182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67349-539E-4A2B-8C0B-CFE8A6FA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057E-1003-419C-AA69-43070765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0E953-E0FB-4F48-9773-6BCB8714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E5276-B3BA-46A8-8A5A-67332E41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7B0BB-B2B5-4507-B9DE-7A740C1A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A473A-B946-4433-878A-EF2926C0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647A1-0731-4511-9D92-65CD533A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E4380-CF42-461E-ACF6-07826499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78DA3-B8B1-42B6-9498-17F26E92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9D6E5-4131-49E9-B6B9-A962EF40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EB33E-97C6-489E-9E22-7383D67F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556A4-5720-4558-AEA6-761342A8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2951-9FF8-499A-A210-82B990F332CE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CF18-EE46-4DF3-8C02-13D325120AC1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5092-C629-4274-A3AE-E1FF3E213ACC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AC59-F957-43F5-8540-4E66368167C2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3EED-57EE-4AF8-BEB3-238E06CFF0F9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8934-A751-4B4D-8FD7-5C41FE97442B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9030-9848-4266-96A5-6AA8ED35FF09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47F3-11D1-4B63-9DA7-B1063A19C662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7F01-A834-4B63-977D-6F53BA3D1AA1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4C2E-0C60-4485-849E-653C732C0FB4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E4BD-4550-4BD9-BEA3-B66B2C6BCEF2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700B-D48B-4F38-966D-EFDA00B7DBC7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suite%20bergamasque%20-%20debussy%20-%20opera%20chillout.wav"/><Relationship Id="rId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pic>
        <p:nvPicPr>
          <p:cNvPr id="493" name="2 Rectángulo" descr=""/>
          <p:cNvPicPr/>
          <p:nvPr/>
        </p:nvPicPr>
        <p:blipFill>
          <a:blip r:embed="rId2"/>
          <a:stretch/>
        </p:blipFill>
        <p:spPr>
          <a:xfrm>
            <a:off x="109440" y="938160"/>
            <a:ext cx="5029200" cy="3127320"/>
          </a:xfrm>
          <a:prstGeom prst="rect">
            <a:avLst/>
          </a:prstGeom>
          <a:ln w="0">
            <a:noFill/>
          </a:ln>
        </p:spPr>
      </p:pic>
      <p:pic>
        <p:nvPicPr>
          <p:cNvPr id="494" name="3 Rectángulo" descr=""/>
          <p:cNvPicPr/>
          <p:nvPr/>
        </p:nvPicPr>
        <p:blipFill>
          <a:blip r:embed="rId3"/>
          <a:stretch/>
        </p:blipFill>
        <p:spPr>
          <a:xfrm>
            <a:off x="420840" y="4133880"/>
            <a:ext cx="4419360" cy="1273320"/>
          </a:xfrm>
          <a:prstGeom prst="rect">
            <a:avLst/>
          </a:prstGeom>
          <a:ln w="0">
            <a:noFill/>
          </a:ln>
        </p:spPr>
      </p:pic>
      <p:sp>
        <p:nvSpPr>
          <p:cNvPr id="495" name="4 Botón de acción: Hacia delante o Siguiente">
            <a:hlinkClick r:id="" action="ppaction://hlinkshowjump?jump=nextslide"/>
          </p:cNvPr>
          <p:cNvSpPr/>
          <p:nvPr/>
        </p:nvSpPr>
        <p:spPr>
          <a:xfrm>
            <a:off x="1963800" y="6357960"/>
            <a:ext cx="1428840" cy="214200"/>
          </a:xfrm>
          <a:custGeom>
            <a:avLst/>
            <a:gdLst>
              <a:gd name="textAreaLeft" fmla="*/ 13680 w 1428840"/>
              <a:gd name="textAreaRight" fmla="*/ 1415160 w 1428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143879" h="21600">
                <a:moveTo>
                  <a:pt x="0" y="0"/>
                </a:moveTo>
                <a:lnTo>
                  <a:pt x="143879" y="0"/>
                </a:lnTo>
                <a:lnTo>
                  <a:pt x="143879" y="21600"/>
                </a:lnTo>
                <a:lnTo>
                  <a:pt x="0" y="21600"/>
                </a:lnTo>
                <a:close/>
              </a:path>
              <a:path fill="lightenLess" w="143879" h="21600">
                <a:moveTo>
                  <a:pt x="0" y="0"/>
                </a:moveTo>
                <a:lnTo>
                  <a:pt x="143879" y="0"/>
                </a:lnTo>
                <a:lnTo>
                  <a:pt x="142479" y="1400"/>
                </a:lnTo>
                <a:lnTo>
                  <a:pt x="1400" y="1400"/>
                </a:lnTo>
                <a:close/>
              </a:path>
              <a:path fill="darken" w="143879" h="21600">
                <a:moveTo>
                  <a:pt x="143879" y="0"/>
                </a:moveTo>
                <a:lnTo>
                  <a:pt x="143879" y="21600"/>
                </a:lnTo>
                <a:lnTo>
                  <a:pt x="142479" y="20200"/>
                </a:lnTo>
                <a:lnTo>
                  <a:pt x="142479" y="1400"/>
                </a:lnTo>
                <a:close/>
              </a:path>
              <a:path fill="darkenLess" w="143879" h="21600">
                <a:moveTo>
                  <a:pt x="143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479" y="20200"/>
                </a:lnTo>
                <a:close/>
              </a:path>
              <a:path fill="lighten" w="143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3879" h="21600">
                <a:moveTo>
                  <a:pt x="64933" y="3794"/>
                </a:moveTo>
                <a:lnTo>
                  <a:pt x="78946" y="10800"/>
                </a:lnTo>
                <a:lnTo>
                  <a:pt x="64933" y="17806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5 CuadroTexto"/>
          <p:cNvSpPr/>
          <p:nvPr/>
        </p:nvSpPr>
        <p:spPr>
          <a:xfrm>
            <a:off x="357120" y="6572160"/>
            <a:ext cx="464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Verdana"/>
              </a:rPr>
              <a:t>AVANZAR CON EL M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22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3 CuadroTexto"/>
          <p:cNvSpPr/>
          <p:nvPr/>
        </p:nvSpPr>
        <p:spPr>
          <a:xfrm>
            <a:off x="857160" y="2397240"/>
            <a:ext cx="2857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Si un ciego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on perro guía llegara a solicitarte ayuda, acercate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por el lado derecho,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de modo que yo quede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a la izquie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25" name="10 Llamada rectangular redondeada"/>
          <p:cNvSpPr/>
          <p:nvPr/>
        </p:nvSpPr>
        <p:spPr>
          <a:xfrm>
            <a:off x="573120" y="1571760"/>
            <a:ext cx="357192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3 CuadroTexto"/>
          <p:cNvSpPr/>
          <p:nvPr/>
        </p:nvSpPr>
        <p:spPr>
          <a:xfrm>
            <a:off x="857160" y="2286000"/>
            <a:ext cx="3000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Me ordenará entonces que te siga, o bien te pedirá que le ofrezcas tu codo izquierdo.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En tal caso me hará una seña para indicarme que estoy temporalmente fuera de servi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28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3 CuadroTexto"/>
          <p:cNvSpPr/>
          <p:nvPr/>
        </p:nvSpPr>
        <p:spPr>
          <a:xfrm>
            <a:off x="928800" y="226368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Si un ciego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on perro guía te pregunta direcciones,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dale indicaciones claras del sentido en que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debe girar o seguir para ubicar el lugar al cual se diri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31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3 CuadroTexto"/>
          <p:cNvSpPr/>
          <p:nvPr/>
        </p:nvSpPr>
        <p:spPr>
          <a:xfrm>
            <a:off x="928800" y="1857240"/>
            <a:ext cx="2857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No corras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ni tomes del brazo a una persona ciega en compañía de un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perro guía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sin antes hablarle. Tampoco toques mi arnés, ya que el mismo es sólo para el amo ciego a quien acomp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34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3 CuadroTexto"/>
          <p:cNvSpPr/>
          <p:nvPr/>
        </p:nvSpPr>
        <p:spPr>
          <a:xfrm>
            <a:off x="857160" y="2500200"/>
            <a:ext cx="292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Los perros guía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tenemos lugares y horarios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predeterminados para evacuar nuestros esfínt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37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3 CuadroTexto"/>
          <p:cNvSpPr/>
          <p:nvPr/>
        </p:nvSpPr>
        <p:spPr>
          <a:xfrm>
            <a:off x="928800" y="2000160"/>
            <a:ext cx="285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Yo, como perro guía, estoy habituado para viajar en todo medio de transporte echado a los pies de mi amo ciego sin causar molestias a los pasajeros, tanto dentro como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fuera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40" name="3 Rectángulo"/>
          <p:cNvSpPr/>
          <p:nvPr/>
        </p:nvSpPr>
        <p:spPr>
          <a:xfrm>
            <a:off x="714240" y="428760"/>
            <a:ext cx="3571920" cy="6143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4 CuadroTexto"/>
          <p:cNvSpPr/>
          <p:nvPr/>
        </p:nvSpPr>
        <p:spPr>
          <a:xfrm>
            <a:off x="857160" y="789120"/>
            <a:ext cx="3143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En virtud de su riguroso entrenamiento,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los perros guía están habituados y capacitados para acceder y permanecer junto a sus respectivos amos en todo tipo de establecimientos, tanto de salud como en centros comerciales, restaurantes,  supermercados, cafeterías, cines, teatros, centros de estudio o trabajo, etc., sin causar alteración al normal funcionamiento de los mismos ni molestias al personal o al púb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43" name="3 Rectángulo"/>
          <p:cNvSpPr/>
          <p:nvPr/>
        </p:nvSpPr>
        <p:spPr>
          <a:xfrm>
            <a:off x="714240" y="428760"/>
            <a:ext cx="3571920" cy="6143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4 CuadroTexto"/>
          <p:cNvSpPr/>
          <p:nvPr/>
        </p:nvSpPr>
        <p:spPr>
          <a:xfrm>
            <a:off x="857160" y="1057320"/>
            <a:ext cx="3286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En los lugares de trabajo,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los usuarios de perros guía se encuentran capacitados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para ejercer sus funciones con ellos a su lado.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 Acorde al entrenamiento que reciben,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los perros guía nunca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vagan a su arbitrio por los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recintos, sino que permanecen echados a los pies de su amo ci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Los perros guía tienen el mismo derecho que estos para gozar de libre acceso a todos los lugares públ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46" name="4 Llamada rectangular redondeada"/>
          <p:cNvSpPr/>
          <p:nvPr/>
        </p:nvSpPr>
        <p:spPr>
          <a:xfrm>
            <a:off x="642960" y="1643040"/>
            <a:ext cx="357192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¿Me ayudas </a:t>
            </a:r>
            <a:br>
              <a:rPr sz="4000"/>
            </a:b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a difundir todo es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http://www.brisbanepowerhouse.org/generated/images/guide-images-powerkidz-guide-dogs-qld_w800_h600_fit.jpg"/>
          <p:cNvPicPr/>
          <p:nvPr/>
        </p:nvPicPr>
        <p:blipFill>
          <a:blip r:embed="rId1"/>
          <a:srcRect l="0" t="0" r="29823" b="57902"/>
          <a:stretch/>
        </p:blipFill>
        <p:spPr>
          <a:xfrm>
            <a:off x="1428840" y="0"/>
            <a:ext cx="764388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3 Llamada rectangular redondeada"/>
          <p:cNvSpPr/>
          <p:nvPr/>
        </p:nvSpPr>
        <p:spPr>
          <a:xfrm>
            <a:off x="357120" y="3571920"/>
            <a:ext cx="2786040" cy="2928960"/>
          </a:xfrm>
          <a:prstGeom prst="wedgeRoundRectCallout">
            <a:avLst>
              <a:gd name="adj1" fmla="val 67092"/>
              <a:gd name="adj2" fmla="val -18569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ahoma"/>
              </a:rPr>
              <a:t>¡Gracias, amigo mí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498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4 CuadroTexto"/>
          <p:cNvSpPr/>
          <p:nvPr/>
        </p:nvSpPr>
        <p:spPr>
          <a:xfrm>
            <a:off x="928800" y="2397240"/>
            <a:ext cx="2714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¡Hola!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Soy un perro guía y quiero enseñarte cómo debes actuar cuando te encuentres conmigo en compañía de mi amo ci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01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3 CuadroTexto"/>
          <p:cNvSpPr/>
          <p:nvPr/>
        </p:nvSpPr>
        <p:spPr>
          <a:xfrm>
            <a:off x="857160" y="2397240"/>
            <a:ext cx="292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Antes que nada,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déjame decirte que soy un perro de trabajo,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no una mascota. 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uanto más me ignores, mejor será para mi amo y para m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04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3 CuadroTexto"/>
          <p:cNvSpPr/>
          <p:nvPr/>
        </p:nvSpPr>
        <p:spPr>
          <a:xfrm>
            <a:off x="714240" y="2263680"/>
            <a:ext cx="328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Mi comportamiento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y mi trato son totalmente diferentes a los de otros perros y debo ser respetado en mi doble función de guía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y fiel compañero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de mi amo ci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07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3 CuadroTexto"/>
          <p:cNvSpPr/>
          <p:nvPr/>
        </p:nvSpPr>
        <p:spPr>
          <a:xfrm>
            <a:off x="785880" y="2143080"/>
            <a:ext cx="32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Por favor,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no me toques ni me acaricies cuando me encuentre trabajando,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o sea cuando me veas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on el arnés puesto.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Si lo haces me puedo distraer y yo no debo fallar jam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10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3 CuadroTexto"/>
          <p:cNvSpPr/>
          <p:nvPr/>
        </p:nvSpPr>
        <p:spPr>
          <a:xfrm>
            <a:off x="642960" y="2263680"/>
            <a:ext cx="335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Lo más adecuado, entonces, es ignorarme. ¡Pero no por ello vayas a sentir temor alguno!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Los perros guía estamos adiestrados y nunca seríamos capaces de hacerte daño sin mo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13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3 CuadroTexto"/>
          <p:cNvSpPr/>
          <p:nvPr/>
        </p:nvSpPr>
        <p:spPr>
          <a:xfrm>
            <a:off x="1000080" y="2128680"/>
            <a:ext cx="2786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Eso sí.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Si traes contigo a otro perro, por favor contrólalo para evitar que llegue a producirse algún accidente cuando pase a mi lado o al lado de mi amo ci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16" name="10 Llamada rectangular redondeada"/>
          <p:cNvSpPr/>
          <p:nvPr/>
        </p:nvSpPr>
        <p:spPr>
          <a:xfrm>
            <a:off x="539640" y="1557360"/>
            <a:ext cx="357192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3 CuadroTexto"/>
          <p:cNvSpPr/>
          <p:nvPr/>
        </p:nvSpPr>
        <p:spPr>
          <a:xfrm>
            <a:off x="785880" y="221472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Por favor, no me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ofrezcas golosinas ni alimentos: mi amo ciego ya se encarga de ello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on esmero.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Estoy bien alimentado y tengo un horario prefijado para ir a c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http://www.brisbanepowerhouse.org/generated/images/guide-images-powerkidz-guide-dogs-qld_w800_h600_fit.jpg"/>
          <p:cNvPicPr/>
          <p:nvPr/>
        </p:nvPicPr>
        <p:blipFill>
          <a:blip r:embed="rId1"/>
          <a:stretch/>
        </p:blipFill>
        <p:spPr>
          <a:xfrm>
            <a:off x="4405320" y="0"/>
            <a:ext cx="4714920" cy="6875640"/>
          </a:xfrm>
          <a:prstGeom prst="rect">
            <a:avLst/>
          </a:prstGeom>
          <a:ln w="0">
            <a:noFill/>
          </a:ln>
        </p:spPr>
      </p:pic>
      <p:sp>
        <p:nvSpPr>
          <p:cNvPr id="519" name="10 Llamada rectangular redondeada"/>
          <p:cNvSpPr/>
          <p:nvPr/>
        </p:nvSpPr>
        <p:spPr>
          <a:xfrm>
            <a:off x="571680" y="1571760"/>
            <a:ext cx="3571560" cy="3786120"/>
          </a:xfrm>
          <a:prstGeom prst="wedgeRoundRectCallout">
            <a:avLst>
              <a:gd name="adj1" fmla="val 80328"/>
              <a:gd name="adj2" fmla="val -40726"/>
              <a:gd name="adj3" fmla="val 16667"/>
            </a:avLst>
          </a:prstGeom>
          <a:solidFill>
            <a:srgbClr val="ff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3 CuadroTexto"/>
          <p:cNvSpPr/>
          <p:nvPr/>
        </p:nvSpPr>
        <p:spPr>
          <a:xfrm>
            <a:off x="857160" y="2571840"/>
            <a:ext cx="307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uando te dirijas a una persona ciega que se acompaña por un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 perro guía como yo, háblale directamente a él y no a m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21:52:04Z</dcterms:created>
  <dc:creator>User</dc:creator>
  <dc:description/>
  <dc:language>en-US</dc:language>
  <cp:lastModifiedBy>biran</cp:lastModifiedBy>
  <dcterms:modified xsi:type="dcterms:W3CDTF">2009-05-26T11:33:00Z</dcterms:modified>
  <cp:revision>33</cp:revision>
  <dc:subject/>
  <dc:title>Diapositiva 1</dc:title>
</cp:coreProperties>
</file>