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560-CC6E-4A8A-A752-825656BD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2DB-9078-4BC1-B36E-AB517C16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0507-8DE8-4431-8EDD-0AD7C783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C21-BA78-41C9-B665-BCA27B58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17B-E0C5-4074-9341-AE01C068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2205-275A-42E4-8B27-F3BC3F2A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EDF-3C45-4680-8303-294CCADB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10B-388B-4E4E-A47E-839AEA06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9E1-4AD1-4B24-BA7A-E2179A27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864-6871-4E1D-B26B-7F3CB3EF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6C3E-465F-440E-A22E-B19956CF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D6D-031B-4301-9965-6F99D1A5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7C8D-3635-44B8-9ABD-506DD97BA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hyperlink" Target="http://xistes.es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137514243_0"/>
          <p:cNvPicPr/>
          <p:nvPr/>
        </p:nvPicPr>
        <p:blipFill>
          <a:blip r:embed="rId2"/>
          <a:stretch/>
        </p:blipFill>
        <p:spPr>
          <a:xfrm>
            <a:off x="468360" y="1484280"/>
            <a:ext cx="4102200" cy="4896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66"/>
                </a:solidFill>
                <a:latin typeface="Comic Sans MS"/>
              </a:rPr>
              <a:t>¿ Qué  hace Yoland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58920" y="1628280"/>
            <a:ext cx="407196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Un tipo se encuentra con una "callejera” y le pregu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-”Nena, ¿cuánto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-”300 Euros”, le responde 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-”¡Te doy 600 si me haces lo que me hace Yolanda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-”¿¿!! 600 !!?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-”Sí, 600, pero solo si me haces lo que me hace Yoland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35280" y="1773360"/>
            <a:ext cx="6119640" cy="4592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33360"/>
            <a:ext cx="770400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6600"/>
                </a:solidFill>
                <a:latin typeface="Comic Sans MS"/>
              </a:rPr>
              <a:t>Ella piensa “ a puta no me gana nadi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6600"/>
                </a:solidFill>
                <a:latin typeface="Comic Sans MS"/>
              </a:rPr>
              <a:t>Así que acuerdan los 600 Euros y se van al hot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628640"/>
            <a:ext cx="3600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800080"/>
                </a:solidFill>
                <a:latin typeface="Comic Sans MS"/>
              </a:rPr>
              <a:t>Pasadas tres horas y media, y después de haberle hecho ella un trabajo completísimo, (que ni en el Kamasutra figura), ella le d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800080"/>
                </a:solidFill>
                <a:latin typeface="Comic Sans MS"/>
              </a:rPr>
              <a:t>-”Son 600 Eur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3240" y="549360"/>
            <a:ext cx="4286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858920" y="1196640"/>
            <a:ext cx="4070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Y él respo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-”¿Pero, no vas a hacerme lo que me hace Yolanda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89080" y="549360"/>
            <a:ext cx="44352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76720" y="836640"/>
            <a:ext cx="3489480" cy="424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184464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Ella toda asombrada le pregu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- “¿Qué hace Yolanda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  ”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¿Que te hace esa loca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971640" y="126828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800080"/>
                </a:solidFill>
                <a:latin typeface="Comic Sans MS"/>
              </a:rPr>
              <a:t>“</a:t>
            </a:r>
            <a:r>
              <a:rPr b="1" lang="es-ES" sz="5400" spc="-1" strike="noStrike">
                <a:solidFill>
                  <a:srgbClr val="800080"/>
                </a:solidFill>
                <a:latin typeface="Comic Sans MS"/>
              </a:rPr>
              <a:t>¡¡¡¡¡¡¡   ME FÍA   ¡¡¡¡¡¡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19640" y="292428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3213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6308640"/>
            <a:ext cx="2952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http://xistes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01080" y="623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Arial"/>
              </a:rPr>
              <a:t>Agu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85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859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8:45:23Z</dcterms:created>
  <dc:creator>Agustí</dc:creator>
  <dc:description/>
  <dc:language>en-US</dc:language>
  <cp:lastModifiedBy>mio</cp:lastModifiedBy>
  <dcterms:modified xsi:type="dcterms:W3CDTF">2008-02-14T18:22:33Z</dcterms:modified>
  <cp:revision>14</cp:revision>
  <dc:subject/>
  <dc:title>AG1- ¿Que hace Yolanda? </dc:title>
</cp:coreProperties>
</file>