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695-00EA-4FA8-9927-E343D060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228-7EE1-4213-8441-4E9F0F51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DA9-E885-4835-9958-758F33C5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BDA-80BB-4FD7-BF38-53AF1052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B7C-D2F8-45BA-A7A1-71926D05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77F-7EBB-4027-BEBE-DFC5332E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B06-4472-46BD-B115-B6E694E9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97B-A56B-48AB-A4E8-5F05772E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637-F76D-4EBA-9F24-323E4622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4C0-6A79-4180-9E4E-FDC4F07D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093-17B4-4B1B-B2E6-04C843C0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350-CFB1-4712-ADBD-7CF8333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6D33-DBC2-4E4C-AF84-7C10A8A44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hyperlink" Target="http://xistes.es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137514243_0"/>
          <p:cNvPicPr/>
          <p:nvPr/>
        </p:nvPicPr>
        <p:blipFill>
          <a:blip r:embed="rId2"/>
          <a:stretch/>
        </p:blipFill>
        <p:spPr>
          <a:xfrm>
            <a:off x="468360" y="1484280"/>
            <a:ext cx="410220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66"/>
                </a:solidFill>
                <a:latin typeface="Comic Sans MS"/>
              </a:rPr>
              <a:t>¿ Qué  hace Yoland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58920" y="1628280"/>
            <a:ext cx="40719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Un tipo se encuentra con una "callejera” y le pregu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Nena, ¿cuánt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300 Euros”, le responde 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¡Te doy 600 si me haces lo que me hace Yolanda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¿¿!! 600 !!?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Sí, 600, pero solo si me haces lo que me hace Yoland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6119640" cy="45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33360"/>
            <a:ext cx="770400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6600"/>
                </a:solidFill>
                <a:latin typeface="Comic Sans MS"/>
              </a:rPr>
              <a:t>Ella piensa “ a puta no me gana nad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6600"/>
                </a:solidFill>
                <a:latin typeface="Comic Sans MS"/>
              </a:rPr>
              <a:t>Así que acuerdan los 600 Euros y se van al h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628640"/>
            <a:ext cx="3600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800080"/>
                </a:solidFill>
                <a:latin typeface="Comic Sans MS"/>
              </a:rPr>
              <a:t>Pasadas tres horas y media, y después de haberle hecho ella un trabajo completísimo, (que ni en el Kamasutra figura), ella le d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800080"/>
                </a:solidFill>
                <a:latin typeface="Comic Sans MS"/>
              </a:rPr>
              <a:t>-”Son 600 Eur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3240" y="549360"/>
            <a:ext cx="4286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58920" y="1196640"/>
            <a:ext cx="4070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Y él resp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¿Pero, no vas a hacerme lo que me hace Yolanda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9080" y="549360"/>
            <a:ext cx="44352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489480" cy="424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184464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Ella toda asombrada le pregu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- “¿Qué hace Yolanda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  ”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¿Que te hace esa loca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971640" y="12682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800080"/>
                </a:solidFill>
                <a:latin typeface="Comic Sans MS"/>
              </a:rPr>
              <a:t>“</a:t>
            </a:r>
            <a:r>
              <a:rPr b="1" lang="es-ES" sz="5400" spc="-1" strike="noStrike">
                <a:solidFill>
                  <a:srgbClr val="800080"/>
                </a:solidFill>
                <a:latin typeface="Comic Sans MS"/>
              </a:rPr>
              <a:t>¡¡¡¡¡¡¡   ME FÍA   ¡¡¡¡¡¡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19640" y="292428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321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308640"/>
            <a:ext cx="2952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xistes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01080" y="623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"/>
              </a:rPr>
              <a:t>Agu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85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859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8:45:23Z</dcterms:created>
  <dc:creator>Agustí</dc:creator>
  <dc:description/>
  <dc:language>en-US</dc:language>
  <cp:lastModifiedBy>mio</cp:lastModifiedBy>
  <dcterms:modified xsi:type="dcterms:W3CDTF">2008-02-14T18:22:33Z</dcterms:modified>
  <cp:revision>14</cp:revision>
  <dc:subject/>
  <dc:title>AG1- ¿Que hace Yolanda? </dc:title>
</cp:coreProperties>
</file>