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01F-35E7-4636-BBDA-3FBF311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23F-6AAA-4432-B59C-2EA8CBF1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E9E-6FC0-49F6-8DD8-05D5026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7C5-78B2-4DCC-B796-8C9FFBF7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170-EDDB-4B6A-B2CC-D326797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DEA-391C-4924-8F18-AE15B94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C1A-855D-4382-9AFE-E95F0EF6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63E-E04B-456E-85AD-A6C03AC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E57-EEF1-4257-AF46-8E7C8916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7E7-953B-48AD-BD15-3FD9757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BF2-CF14-4A93-8834-0C755D5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2DC-6FB0-453A-94A9-338B867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DB4-3A92-4A49-B9E3-F19037BB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I Barça, Ni Mad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 POLLAS EN VINAGRE....... ESTO SI QUE ES FUTBO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3200"/>
            <a:ext cx="9144000" cy="6050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17:22Z</dcterms:created>
  <dc:creator>Julián Hernández</dc:creator>
  <dc:description/>
  <dc:language>en-US</dc:language>
  <cp:lastModifiedBy>Julián Hernández</cp:lastModifiedBy>
  <dcterms:modified xsi:type="dcterms:W3CDTF">2009-04-24T15:17:49Z</dcterms:modified>
  <cp:revision>1</cp:revision>
  <dc:subject/>
  <dc:title>NI Barça, Ni Madrid</dc:title>
</cp:coreProperties>
</file>