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E5B-F3A0-47E7-9E26-B383D089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3E3-D8A4-4B94-B4AC-F39EBF6C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8F4-BC00-4101-847F-A31D8A0C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4F4-E082-4919-91FC-D5799FCA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554-ABAB-4398-94D2-B1AB4BD6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8D5-60EA-4947-889C-DD1A0037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9B6-1BC7-4D46-A708-A770EEDA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9D0-382E-48F9-900F-73037C60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FB9-2D18-4A40-BB28-93294534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EBA-5F47-486B-89D3-6D972589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6D4-2DAC-4D0C-95F0-2EFDBAB8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296-77F3-4C66-8E96-A82F5154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EACD-24CA-4079-AB87-DA4FACD93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I Barça, Ni Mad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 POLLAS EN VINAGRE....... ESTO SI QUE ES FUTBO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3200"/>
            <a:ext cx="9144000" cy="6050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5:17:22Z</dcterms:created>
  <dc:creator>Julián Hernández</dc:creator>
  <dc:description/>
  <dc:language>en-US</dc:language>
  <cp:lastModifiedBy>Julián Hernández</cp:lastModifiedBy>
  <dcterms:modified xsi:type="dcterms:W3CDTF">2009-04-24T15:17:49Z</dcterms:modified>
  <cp:revision>1</cp:revision>
  <dc:subject/>
  <dc:title>NI Barça, Ni Madrid</dc:title>
</cp:coreProperties>
</file>