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Pista%2025-%206'w.wav" ContentType="audio/x-wav"/>
  <Override PartName="/ppt/media/image9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789C-EBCA-49DA-8F99-EA0293CA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31B8-8774-4E28-9FA5-28AD4DA7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9336-A518-41C8-9104-EABFFAC7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140E-A01E-4CD0-883C-D266ED1D6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27F4-DD93-4607-B57C-58B1877C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4A62-E1E2-4F87-BE13-75B84CD6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08D9-90D2-4C4B-B902-7D478A8D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8219-DFB1-4AEB-B932-DE663FE0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80ED-F75F-4D2F-8FF0-39B24746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8210-5648-428E-8168-B81E4622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6F22-18B9-4133-BA42-EE9522A9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9A3E-6D15-4508-ABE3-D2C06B45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A72D-B602-44C6-8386-4390A6782A9B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ista%2025-%206&apos;w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&#9;0846w.jpg                                                      00027EC4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7162920" y="152280"/>
            <a:ext cx="1861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7511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ff7511"/>
                </a:solidFill>
                <a:latin typeface="Comic Sans MS"/>
              </a:rPr>
              <a:t>Ciclo </a:t>
            </a:r>
            <a:r>
              <a:rPr b="1" lang="ca-ES" sz="3200" spc="-1" strike="noStrike">
                <a:solidFill>
                  <a:srgbClr val="ff7511"/>
                </a:solidFill>
                <a:latin typeface="Comic Sans MS"/>
              </a:rPr>
              <a:t>C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0" y="1219320"/>
            <a:ext cx="8839080" cy="19227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6000" spc="-1" strike="noStrike">
                <a:solidFill>
                  <a:srgbClr val="ff7511"/>
                </a:solidFill>
                <a:latin typeface="Comic Sans MS"/>
              </a:rPr>
              <a:t>XVIII Domingo</a:t>
            </a:r>
            <a:br>
              <a:rPr sz="6000"/>
            </a:br>
            <a:r>
              <a:rPr b="1" i="1" lang="ca-ES" sz="6000" spc="-1" strike="noStrike">
                <a:solidFill>
                  <a:srgbClr val="ff7511"/>
                </a:solidFill>
                <a:latin typeface="Comic Sans MS"/>
              </a:rPr>
              <a:t>Tiempo Ordinari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889640" y="4114800"/>
            <a:ext cx="60314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800" spc="-1" strike="noStrike">
                <a:solidFill>
                  <a:srgbClr val="ff7511"/>
                </a:solidFill>
                <a:latin typeface="Comic Sans MS"/>
              </a:rPr>
              <a:t>1 de agosto de 2010</a:t>
            </a:r>
            <a:r>
              <a:rPr b="0" i="1" lang="ca-ES" sz="4800" spc="-1" strike="noStrike">
                <a:solidFill>
                  <a:srgbClr val="ff7511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304920" y="5562720"/>
            <a:ext cx="5124240" cy="94716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ff7511"/>
                </a:solidFill>
                <a:latin typeface="Comic Sans MS"/>
              </a:rPr>
              <a:t>Música de la antigua</a:t>
            </a:r>
            <a:br>
              <a:rPr sz="2800"/>
            </a:br>
            <a:r>
              <a:rPr b="1" i="1" lang="ca-ES" sz="2800" spc="-1" strike="noStrike">
                <a:solidFill>
                  <a:srgbClr val="ff7511"/>
                </a:solidFill>
                <a:latin typeface="Comic Sans MS"/>
              </a:rPr>
              <a:t>Liturgia de las Galias 6’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Pista%2025-%206'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Documents and Settings\st benet\Mis documentos\Mis imágenes\símbols\resized_conduintw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"/>
          <p:cNvSpPr/>
          <p:nvPr/>
        </p:nvSpPr>
        <p:spPr>
          <a:xfrm>
            <a:off x="304920" y="685800"/>
            <a:ext cx="8610480" cy="4117320"/>
          </a:xfrm>
          <a:prstGeom prst="rect">
            <a:avLst/>
          </a:prstGeom>
          <a:solidFill>
            <a:srgbClr val="9dc2d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cle 1,2; 2,21-23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alabras de Qohélet, hijo de David, rey de Jerusalén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Vanidad de vanidades, dice Qohélet, vanidad de vanidades; todo es vanidad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orque hay quien trabaja con sabiduría, ciencia y acierto, y tiene que dejar su heredad a quien no la ha trabajado. También esto es vanidad y grave daño. Pues, ¿qué le queda al hombre de todos los trabajos y afanes que persiguió bajo el sol? Todos sus días son sufrimiento, disgusto sus fatigas, y ni de noche descansa. También esto es van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228600" y="6248520"/>
            <a:ext cx="3505320" cy="368280"/>
          </a:xfrm>
          <a:prstGeom prst="rect">
            <a:avLst/>
          </a:prstGeom>
          <a:solidFill>
            <a:srgbClr val="9dc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asamos los días en desaz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&#9;0819w.jpg                                                      00027EC4_x000c_Macintosh HD                   B9BE4824: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319680" y="0"/>
            <a:ext cx="3096000" cy="1099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6600" spc="-1" strike="noStrike">
                <a:solidFill>
                  <a:srgbClr val="0aab12"/>
                </a:solidFill>
                <a:latin typeface="Comic Sans MS"/>
              </a:rPr>
              <a:t> </a:t>
            </a:r>
            <a:r>
              <a:rPr b="1" i="1" lang="ca-ES" sz="4800" spc="-1" strike="noStrike">
                <a:solidFill>
                  <a:srgbClr val="0aab12"/>
                </a:solidFill>
                <a:latin typeface="Comic Sans MS"/>
              </a:rPr>
              <a:t>Salmo 89</a:t>
            </a:r>
            <a:r>
              <a:rPr b="1" i="1" lang="ca-ES" sz="2800" spc="-1" strike="noStrike">
                <a:solidFill>
                  <a:srgbClr val="ff7511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785520" y="1652760"/>
            <a:ext cx="6683760" cy="10688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1b0fff"/>
                </a:solidFill>
                <a:latin typeface="Comic Sans MS"/>
              </a:rPr>
              <a:t>Señor, tú has sido nuestro refugio</a:t>
            </a:r>
            <a:br>
              <a:rPr sz="3200"/>
            </a:br>
            <a:r>
              <a:rPr b="1" i="1" lang="ca-ES" sz="3200" spc="-1" strike="noStrike">
                <a:solidFill>
                  <a:srgbClr val="1b0fff"/>
                </a:solidFill>
                <a:latin typeface="Comic Sans MS"/>
              </a:rPr>
              <a:t>de generación en gene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609480" y="4648320"/>
            <a:ext cx="6400800" cy="19227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Tú haces que el hombre vuelva al polvo,</a:t>
            </a:r>
            <a:br>
              <a:rPr sz="2400"/>
            </a:br>
            <a:r>
              <a:rPr b="0" lang="es-ES" sz="2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diciendo: «¡Retornad, hijos de Adán!»</a:t>
            </a:r>
            <a:br>
              <a:rPr sz="2400"/>
            </a:br>
            <a:r>
              <a:rPr b="0" lang="es-ES" sz="2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Porque mil años son para ti como un día,</a:t>
            </a:r>
            <a:br>
              <a:rPr sz="2400"/>
            </a:br>
            <a:r>
              <a:rPr b="0" lang="es-ES" sz="2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un ayer que ya pasó, una vigilia de la noche.</a:t>
            </a:r>
            <a:r>
              <a:rPr b="0" lang="es-E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&#9;0923w.jpg                                                      00027EC4_x000c_Macintosh HD                   B9BE4824: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861840" y="838080"/>
            <a:ext cx="6683760" cy="106884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Señor, tú has sido nuestro refugio</a:t>
            </a:r>
            <a:br>
              <a:rPr sz="3200"/>
            </a:b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de generación en gene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523880" y="4648320"/>
            <a:ext cx="6934320" cy="1557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s arrebatas, son como un sueño,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o la hierba que brota por la mañana: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rota y florece por la mañana,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por la tarde ya está marchita y seca.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&#9;0826w.jpg                                                      00027EC4_x000c_Macintosh HD                   B9BE4824: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861840" y="838080"/>
            <a:ext cx="6683760" cy="1068840"/>
          </a:xfrm>
          <a:prstGeom prst="rect">
            <a:avLst/>
          </a:pr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fdda9b"/>
                </a:solidFill>
                <a:latin typeface="Comic Sans MS"/>
              </a:rPr>
              <a:t>Señor, tú has sido nuestro refugio</a:t>
            </a:r>
            <a:br>
              <a:rPr sz="3200"/>
            </a:br>
            <a:r>
              <a:rPr b="1" i="1" lang="ca-ES" sz="3200" spc="-1" strike="noStrike">
                <a:solidFill>
                  <a:srgbClr val="fdda9b"/>
                </a:solidFill>
                <a:latin typeface="Comic Sans MS"/>
              </a:rPr>
              <a:t>de generación en gene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762120" y="4648320"/>
            <a:ext cx="8229600" cy="15570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séñanos a calcular nuestros días,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 que adquiramos un corazón sabio.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o tardarás, Señor, en volverte hacia nosotros?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n compasión de tus sier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&#9;0816w.jpg                                                      00027EC4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1166760" y="380880"/>
            <a:ext cx="6683760" cy="1068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fdda9b"/>
                </a:solidFill>
                <a:latin typeface="Comic Sans MS"/>
              </a:rPr>
              <a:t>Señor, tú has sido nuestro refugio</a:t>
            </a:r>
            <a:br>
              <a:rPr sz="3200"/>
            </a:br>
            <a:r>
              <a:rPr b="1" i="1" lang="ca-ES" sz="3200" spc="-1" strike="noStrike">
                <a:solidFill>
                  <a:srgbClr val="fdda9b"/>
                </a:solidFill>
                <a:latin typeface="Comic Sans MS"/>
              </a:rPr>
              <a:t>de generación en gene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600200" y="2133720"/>
            <a:ext cx="6553080" cy="22885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ácianos de tu amor por la mañana,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 que vivamos con alegría y júbilo.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ue descienda sobre nosotros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bondad del Señor, nuestro Dios.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a éxito a todo cuanto hagamos.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í, da éxito a todo cuanto haga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C:\Documents and Settings\st benet\Mis documentos\Mis imágenes\símbols\Diner\euro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76320" y="533520"/>
            <a:ext cx="8940600" cy="4423680"/>
          </a:xfrm>
          <a:prstGeom prst="rect">
            <a:avLst/>
          </a:prstGeom>
          <a:solidFill>
            <a:srgbClr val="fdda9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l 3,1-5, 9-11 </a:t>
            </a:r>
            <a:br>
              <a:rPr sz="24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sí pues, ya que habéis resucitado con Cristo, buscad las cosas de arriba, donde está Cristo sentado a la derecha de Dios. Pensad en las cosas de arriba, no en las de la tierra. Habéis muerto, y vuestra vida está escondida con Cristo en Dios; cuando aparezca Cristo, vuestra vida, entonces también vosotros apareceréis gloriosos con él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struid, pues, lo que hay de terreno en vosotros: fornicación, impureza, liviandad, malos deseos y codicia, que es una especie de idolatría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No os engañéis unos a otros; despojaos del hombre viejo y de sus acciones, y revestios del hombre nuevo que, en busca de un conocimiento cada vez más profundo, se va renovando a imagen de su creador. Ya no existe distinción entre judíos y no judíos, circuncidados y no circuncidados, más y menos civilizados, esclavos y libres, sino que Cristo es todo en to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12760" y="6400800"/>
            <a:ext cx="3749760" cy="368280"/>
          </a:xfrm>
          <a:prstGeom prst="rect">
            <a:avLst/>
          </a:prstGeom>
          <a:solidFill>
            <a:srgbClr val="fdd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ced morir el amor al di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_x0006_ww.jpg                                                         00000013_x000c_Macintosh HD                   B9BE4824: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544320" y="4083120"/>
            <a:ext cx="775188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cc3300"/>
                </a:solidFill>
                <a:latin typeface="Comic Sans MS"/>
              </a:rPr>
              <a:t>Aleluya</a:t>
            </a:r>
            <a:r>
              <a:rPr b="1" i="1" lang="ca-ES" sz="1800" spc="-1" strike="noStrike">
                <a:solidFill>
                  <a:srgbClr val="a10f08"/>
                </a:solidFill>
                <a:latin typeface="Comic Sans MS"/>
              </a:rPr>
              <a:t>   Mt 5: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0b07ff"/>
                </a:solidFill>
                <a:latin typeface="Comic Sans MS"/>
              </a:rPr>
              <a:t>Felices los pobres en el espíritu,</a:t>
            </a:r>
            <a:br>
              <a:rPr sz="3200"/>
            </a:br>
            <a:r>
              <a:rPr b="1" i="1" lang="ca-ES" sz="3200" spc="-1" strike="noStrike">
                <a:solidFill>
                  <a:srgbClr val="0b07ff"/>
                </a:solidFill>
                <a:latin typeface="Comic Sans MS"/>
              </a:rPr>
              <a:t>porque de ellos es el reino de los ciel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_x000f_Esdrelon-W-.jpg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304920" y="152280"/>
            <a:ext cx="8458200" cy="5551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94050a"/>
                </a:solidFill>
                <a:latin typeface="Comic Sans MS"/>
              </a:rPr>
              <a:t>Lucas 12, 13-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Uno de entre la gente le dijo: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–Maestro, di a mi hermano que reparta conmigo la herencia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Jesús le dijo: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–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migo, ¿quién me ha hecho juez o árbitro entre vosotro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?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Y añadió: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–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ened mucho cuidado con toda clase de avaricia; que aunque se nade en la abundancia, la vida no depende de las riquezas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es dijo una parábola: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–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Había un hombre rico, cuyos campos dieron una gran cosecha. Entonces empezó a pensar: “¿Qué puedo hacer? Porque no tengo donde almacenar mi cosecha”. Y se dijo: “Ya sé lo que voy a hacer; derribaré mis graneros, construiré otros más grandes, almacenaré en ellos todas mis cosechas y mis bienes, y me diré: Ahora ya tienes bienes almacenados para muchos años; descansa, come, bebe y pásalo bie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”. Pero Dios le dijo: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“¡Insensato! Esta misma noche vas a morir. ¿Para quién va a ser todo lo que has acaparado?”. Así le sucede a quien atesora para sí, en lugar de hacerse rico ante D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893920" y="6227640"/>
            <a:ext cx="289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mic Sans MS"/>
              </a:rPr>
              <a:t>El rico valle de Esdrel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05:58:46Z</dcterms:created>
  <dc:creator>JOAN RAMIREZ</dc:creator>
  <dc:description/>
  <dc:language>en-US</dc:language>
  <cp:lastModifiedBy>Usuario</cp:lastModifiedBy>
  <dcterms:modified xsi:type="dcterms:W3CDTF">2010-07-28T18:07:47Z</dcterms:modified>
  <cp:revision>16</cp:revision>
  <dc:subject/>
  <dc:title>Presentación de PowerPoint</dc:title>
</cp:coreProperties>
</file>