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La%20Marcha%20De%20San%20Lorenzo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F19-D50E-40A7-9EF5-CA2E273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05E-A522-4602-8159-2259BBD7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D7B-673D-4C10-9BA9-5C1E98C7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0ED-8857-4912-9B59-C701A85C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137-47EF-4723-907E-DAD2ACF7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66B-F32A-4DD7-A4B8-D4CE6709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DE9-B685-4A96-88E1-E62D9122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1C2-0E6C-4D3C-AB9B-A682C71E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59E-7E10-4C1D-AAA6-D52B7648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800-F98A-4892-8D01-67165BE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F5B-23A6-4E09-85B1-4627E9D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E14-F508-4F57-9504-14E33002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939A-CC7B-4F72-A945-51F6919F1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La%20Marcha%20De%20San%20Lorenz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3" name="La%20Marcha%20De%20San%20Lorenz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0101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5000"/>
            <a:ext cx="8785080" cy="381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, en fin, que me devuelvan                     mi infancia,                                                           mi inocencia,                                                              mi esperanza y                                                          mi país 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29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ser feliz</a:t>
            </a:r>
            <a:r>
              <a:rPr b="1" i="1" lang="es-ES_tradnl" sz="4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760" y="228600"/>
            <a:ext cx="180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27040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476280"/>
            <a:ext cx="71625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Berlin Sans FB Demi"/>
              </a:rPr>
              <a:t>Espero que lo hayan disfrutado como yo                                              y lo hagan circular                               entre las personas                               de nuestra gener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189000"/>
            <a:ext cx="889308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Por medio de la presente presento mi renuncia irrevocable a ser adul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700280"/>
            <a:ext cx="6481800" cy="18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He decidido aceptar la responsabilidad de tener 10 </a:t>
            </a:r>
            <a:r>
              <a:rPr b="1" i="1" lang="es-ES_tradnl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ó </a:t>
            </a:r>
            <a:r>
              <a:rPr b="1" i="1" lang="es-E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15 </a:t>
            </a:r>
            <a:r>
              <a:rPr b="1" i="1" lang="es-ES_tradnl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a</a:t>
            </a:r>
            <a:r>
              <a:rPr b="1" i="1" lang="es-E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ños nuevamente.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3645000"/>
            <a:ext cx="633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volver a la escuela con mi guardapolvo, almidonado, impecabl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589720"/>
            <a:ext cx="71294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que mi perro me espere a la salida.</a:t>
            </a:r>
            <a:r>
              <a:rPr b="1" lang="en-US" sz="28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2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4968720" cy="289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 emocionarme al saludar a la bandera y cantar el Himno Nacional. </a:t>
            </a:r>
            <a:br>
              <a:rPr sz="3000"/>
            </a:b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997360"/>
            <a:ext cx="7273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"tomar distancia" en la fi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5812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797360"/>
            <a:ext cx="8066160" cy="177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Quiero volver a mi casa a mediodía a almorzar y comer la</a:t>
            </a:r>
            <a:r>
              <a:rPr b="1" i="1" lang="es-ES_tradnl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s </a:t>
            </a:r>
            <a:r>
              <a:rPr b="1" i="1" lang="es-ES" sz="30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milanesas de mi vieja.</a:t>
            </a:r>
            <a:r>
              <a:rPr b="1" i="1" lang="es-ES" sz="3200" spc="-1" strike="noStrike">
                <a:solidFill>
                  <a:srgbClr val="ffffff"/>
                </a:solidFill>
                <a:latin typeface="Berlin Sans FB Dem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2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9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260280"/>
            <a:ext cx="806616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hacer los deberes en la mesa de la coci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95480"/>
            <a:ext cx="49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46483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628640"/>
            <a:ext cx="889308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ir a jugar al pasaje de mi casa, por donde nunca pasa ningún au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257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3500280"/>
            <a:ext cx="871380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que la puerta de calle nunca esté cerrada con lla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270400"/>
            <a:ext cx="864216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Quiero ir al Kiosco de la esquina a pedir golosinas y que luego mi papá las pague</a:t>
            </a:r>
            <a:r>
              <a:rPr b="0" i="1" lang="en-US" sz="2800" spc="-1" strike="noStrike">
                <a:solidFill>
                  <a:srgbClr val="ffff99"/>
                </a:solidFill>
                <a:latin typeface="Berlin Sans FB Dem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6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9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mirar dibujitos del pájaro loco en la t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25360"/>
            <a:ext cx="871380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esperar a mi viejo , llegar del trabajo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,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siempre con alguna 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sor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565360"/>
            <a:ext cx="8893080" cy="167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ir a hacer los mandados a la tienda de la esquina.</a:t>
            </a:r>
            <a:r>
              <a:rPr b="1" i="1" lang="en-US" sz="30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4864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005360"/>
            <a:ext cx="87854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ver a mi vieja limpiando lo limpio</a:t>
            </a:r>
            <a:r>
              <a:rPr b="1" i="1" lang="es-AR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, b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arrer la vereda y charlar con las vecinas.</a:t>
            </a:r>
            <a:r>
              <a:rPr b="0" i="1" lang="es-ES" sz="2800" spc="-1" strike="noStrike">
                <a:solidFill>
                  <a:srgbClr val="cccc00"/>
                </a:solidFill>
                <a:latin typeface="Berlin Sans FB Dem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4864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270400"/>
            <a:ext cx="889308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que mi abuela me cuente viejos cuentos aprendidos en su provi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8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20364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91192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280" y="-339840"/>
            <a:ext cx="710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189000"/>
            <a:ext cx="5328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espiar a mi abuelo muy serio, arreglando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zapa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197000"/>
            <a:ext cx="83516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pelear con mi hermana, porque la quie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60640"/>
            <a:ext cx="8569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las largas tardes en el cine con mi mamá,        mi hermana y mis primos;                                               y muchos sandwiches de</a:t>
            </a:r>
            <a:r>
              <a:rPr b="1" i="1" lang="es-ES_tradnl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 </a:t>
            </a: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mortadel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373720"/>
            <a:ext cx="849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comer anticuchos a la sal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950080"/>
            <a:ext cx="727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ff"/>
                </a:solidFill>
                <a:latin typeface="Berlin Sans FB Demi"/>
                <a:ea typeface="Times New Roman"/>
              </a:rPr>
              <a:t>Quiero volver a Chosica de vac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532720" y="6361200"/>
            <a:ext cx="611280" cy="496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6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2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2085840"/>
            <a:ext cx="183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7600" y="496584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49360"/>
            <a:ext cx="540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erlin Sans FB Demi"/>
                <a:ea typeface="Times New Roman"/>
              </a:rPr>
              <a:t>Quiero pasarme los veranos en la playa cubriéndome de arena y  quemarme como un camarón, andar a caballo y comer  pollo a la brasa y caer como plomo por la noche acunado por la brisa del mar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149720"/>
            <a:ext cx="597672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erlin Sans FB Demi"/>
                <a:ea typeface="Times New Roman"/>
              </a:rPr>
              <a:t>Quiero jugar al carnaval y una "salvaje" guerra de bombitas de agua, de vereda a vereda, y el Corso del barrio y mi disfraz de pirat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838080"/>
            <a:ext cx="65530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800600"/>
            <a:ext cx="56390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9000"/>
            <a:ext cx="8713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el circo en Julio y la Kermesse en el patio        de la </a:t>
            </a:r>
            <a:r>
              <a:rPr b="1" i="1" lang="es-ES_tradnl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Escuela o el club del bar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206064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escuchar hablar con respeto del Doctor,         de  la Maestra porque "saben" más que u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005360"/>
            <a:ext cx="8497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que el vigilante de la esquina me mire cuando cruzo la call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516640"/>
            <a:ext cx="8569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</a:t>
            </a:r>
            <a:r>
              <a:rPr b="1" i="1" lang="es-ES_tradnl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 andar en </a:t>
            </a:r>
            <a:r>
              <a:rPr b="1" i="1" lang="es-ES" sz="28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mi bici, mis patines, los autitos,     las bolitas, las cometa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6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95400" y="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2520" y="3000240"/>
            <a:ext cx="41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cc00"/>
                </a:solidFill>
                <a:latin typeface="Monotype Corsiva"/>
                <a:ea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76320" y="545472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60280"/>
            <a:ext cx="835164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sentarme en el parque y ver a la gente y       a mis amigos</a:t>
            </a:r>
            <a:r>
              <a:rPr b="0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.</a:t>
            </a:r>
            <a:r>
              <a:rPr b="0" i="1" lang="en-US" sz="3000" spc="-1" strike="noStrike">
                <a:solidFill>
                  <a:srgbClr val="ccccff"/>
                </a:solidFill>
                <a:latin typeface="Tabitha"/>
                <a:ea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773360"/>
            <a:ext cx="88200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reunir a toda mi familia para mi cumplea</a:t>
            </a:r>
            <a:r>
              <a:rPr b="1" i="1" lang="es-ES_tradnl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ñ</a:t>
            </a:r>
            <a:r>
              <a:rPr b="1" i="1" lang="es-E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500280"/>
            <a:ext cx="8893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la mesa grande de los domingos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581360"/>
            <a:ext cx="8893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las cosas  sencillas de todos los días</a:t>
            </a:r>
            <a:r>
              <a:rPr b="1" i="1" lang="en-US" sz="3000" spc="-1" strike="noStrike">
                <a:solidFill>
                  <a:srgbClr val="ccccff"/>
                </a:solidFill>
                <a:latin typeface="Sylfaen"/>
                <a:ea typeface="Times New Roman"/>
              </a:rPr>
              <a:t>.</a:t>
            </a:r>
            <a:r>
              <a:rPr b="0" i="1" lang="en-US" sz="3000" spc="-1" strike="noStrike">
                <a:solidFill>
                  <a:srgbClr val="ccccff"/>
                </a:solidFill>
                <a:latin typeface="Tabitha"/>
                <a:ea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805360"/>
            <a:ext cx="8893080" cy="14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ccff"/>
                </a:solidFill>
                <a:latin typeface="Berlin Sans FB Demi"/>
                <a:ea typeface="Times New Roman"/>
              </a:rPr>
              <a:t>Quiero irme a dormir sin pensar en mañana. </a:t>
            </a:r>
            <a:br>
              <a:rPr sz="3000"/>
            </a:b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8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4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1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1:33:55Z</dcterms:created>
  <dc:creator>q</dc:creator>
  <dc:description/>
  <dc:language>en-US</dc:language>
  <cp:lastModifiedBy>OFICINA</cp:lastModifiedBy>
  <dcterms:modified xsi:type="dcterms:W3CDTF">2009-07-17T16:43:59Z</dcterms:modified>
  <cp:revision>35</cp:revision>
  <dc:subject/>
  <dc:title>Presentación de PowerPoint</dc:title>
</cp:coreProperties>
</file>